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F30-CDFA-41B7-8767-D431DF3D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B4F-530D-449C-838C-2AF0CCA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51E-7D44-4856-9144-E89972FB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2A9-801B-468B-9074-9768DF19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58D-D7AF-4D6A-B593-26439699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DB2-1398-4AED-A7B7-EA62214D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85A-9CEF-4479-8EEB-DBB3EBBB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715-AFD2-4252-9484-B288E890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768-AAC7-40E0-9D0C-D4AB0DB7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180-2E89-47D0-94A6-240D454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AA9-7B81-4A35-A74A-C66B9AF2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EC9-B9D4-4978-90A0-D41E20F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EA9C-F338-4866-BB7B-EBA4E10796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8:00Z</dcterms:created>
  <dc:creator>USER13</dc:creator>
  <dc:description/>
  <dc:language>en-US</dc:language>
  <cp:lastModifiedBy>USER13</cp:lastModifiedBy>
  <dcterms:modified xsi:type="dcterms:W3CDTF">2002-05-04T03:28:08Z</dcterms:modified>
  <cp:revision>1</cp:revision>
  <dc:subject/>
  <dc:title>PowerPoint 演示文稿</dc:title>
</cp:coreProperties>
</file>