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type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F28B-4CB9-4A02-95AA-A97AFFE9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770-2385-4EDF-AF2E-AD889552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DF46-5DFF-4571-8900-4042EE8F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6927-B253-4D7A-9E71-DF84FF84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B936-D941-4456-B900-68E00B38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81D4-0664-4022-B442-DF16BF66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F470-9474-4D28-8AF1-59ED72DC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519A-4776-4EA0-B18D-EF143061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6BBE-8373-4B6A-A0FF-09DBE585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2E37-C6BA-4BB5-BB37-FB64832F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9324-62EC-47AF-9D74-F5BA2E13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9CA-3733-41CB-AAF3-8676151C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6C71-A06B-43C3-84AC-96401B58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9019-7C37-4050-8E7A-3A983A7D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8D34-B61A-4169-8AED-BE27B84C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67A6-AF73-4E11-B921-880B9D0D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39A1-4C58-404F-8506-17C6057F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390A-234F-4301-8BD3-70A49AF3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10D7-8C5A-4338-B5C9-754651AD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12B-055A-4FF0-A53E-6412E1B1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5BB-C3E1-44E5-959F-54420511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38DA-CEE6-4AAE-81ED-1B5E79E8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E80-C5B5-4E81-A619-D90FEB2A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C0C-0F8E-4547-97C4-55FBBA7E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E05C-E74B-4421-90B5-F90084432F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C9D9-0C9C-425C-B3BD-56A0C5652E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21304"/>
                </a:solidFill>
                <a:latin typeface="Times New Roman"/>
                <a:ea typeface="隶书"/>
              </a:rPr>
              <a:t>   </a:t>
            </a:r>
            <a:r>
              <a:rPr b="0" lang="zh-CN" sz="7200" spc="-1" strike="noStrike">
                <a:solidFill>
                  <a:srgbClr val="221304"/>
                </a:solidFill>
                <a:latin typeface="Times New Roman"/>
                <a:ea typeface="隶书"/>
              </a:rPr>
              <a:t>初中英语课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英语演示文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power poi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9903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sk and answer in pair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4419720" cy="51818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the two girls talking outside the school gat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are they talk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Is Wei Hua going to buy school thing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she going to bu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S00554_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13360" cy="4800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fefde3"/>
          </a:solidFill>
          <a:ln w="9360">
            <a:solidFill>
              <a:srgbClr val="cbbd8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sk and answer in pair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505320" cy="4572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Lucy want to buy some banan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Is Wei Hua going to buy bananas for Luc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Is Lucy going to the shop with Wei Hu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L00381_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105520" y="2209680"/>
            <a:ext cx="2895480" cy="457200"/>
          </a:xfrm>
          <a:prstGeom prst="rect">
            <a:avLst/>
          </a:pr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ing to the 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2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ll in the blank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4114800" cy="449604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n’t you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y)  a 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Why not___(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Could you___(g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Where are you___(go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___(go) to the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What___you_____(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____(play) footba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E01561_" descr=""/>
          <p:cNvPicPr/>
          <p:nvPr/>
        </p:nvPicPr>
        <p:blipFill>
          <a:blip r:embed="rId1"/>
          <a:stretch/>
        </p:blipFill>
        <p:spPr>
          <a:xfrm>
            <a:off x="4951440" y="1752480"/>
            <a:ext cx="3735360" cy="4419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ll in blank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419720" cy="41148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book is___(goo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book is___than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book is___of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These oranges are___(chea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oranges are___than                                                           thes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anges over ther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of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E07677_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20040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esson 1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go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on’t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n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ood     better    b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213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oodby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295280"/>
            <a:ext cx="784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联系方法：河北省保定市一中分校电子备课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邮编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07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电话：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031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50242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电子信箱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yjjj@163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9:34:48Z</dcterms:created>
  <dc:creator>lyj</dc:creator>
  <dc:description/>
  <dc:language>en-US</dc:language>
  <cp:lastModifiedBy>xwl</cp:lastModifiedBy>
  <dcterms:modified xsi:type="dcterms:W3CDTF">2000-11-25T01:59:27Z</dcterms:modified>
  <cp:revision>9</cp:revision>
  <dc:subject/>
  <dc:title>英语公开课</dc:title>
</cp:coreProperties>
</file>