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8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70C-701F-4652-B066-828C6CE3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8C8-0269-4E7C-B89F-CA3D662E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4DB-7B72-4C7B-840E-C0D04A1D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C7E-EA88-432F-BFD2-DD0DF592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5B8-16DF-4012-B00B-00BDC20A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495-4692-446A-8B70-0B1FCFBC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741-B18E-4603-99E0-8CC0C51B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7AB9-F916-491E-9904-DF7A3AAA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2CB7-C50D-42C7-8D05-5A78A2CE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847-4D23-441C-95D1-899E45FB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53B-EB97-4405-A2C2-57A81167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DFB-AF6E-4C0D-BED4-9F4EE6EF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538C-4D27-4BC8-B221-6407874E05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838080"/>
            <a:ext cx="72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ccff"/>
                </a:solidFill>
                <a:latin typeface="Times New Roman"/>
              </a:rPr>
              <a:t>Unit1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2767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ccff"/>
                </a:solidFill>
                <a:latin typeface="Times New Roman"/>
              </a:rPr>
              <a:t>Modern Agricultu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8600" y="41148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If three million pigs, sheep and cattle were raised during the years from 1986 to 1990, how many were raised from 1991 to 1995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867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.9 mill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522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Further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conclusion can you draw from the grap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4792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716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eat more meat because of _________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36232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eat more fish because eating fish does n’t  make them as ___ as eating m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49568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267080"/>
            <a:ext cx="358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have a better knowledge of healthy diet so they eat more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6172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1447920"/>
            <a:ext cx="761760" cy="4876560"/>
          </a:xfrm>
          <a:custGeom>
            <a:avLst/>
            <a:gdLst>
              <a:gd name="textAreaLeft" fmla="*/ 0 w 761760"/>
              <a:gd name="textAreaRight" fmla="*/ 275040 w 761760"/>
              <a:gd name="textAreaTop" fmla="*/ 127080 h 4876560"/>
              <a:gd name="textAreaBottom" fmla="*/ 4749480 h 487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3657600"/>
            <a:ext cx="1371600" cy="38088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71600" y="1752480"/>
            <a:ext cx="6069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anging eating hab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1828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eing r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65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17520" y="380880"/>
            <a:ext cx="6112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20" y="0"/>
            <a:ext cx="6069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anging eating hab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048120"/>
            <a:ext cx="1676520" cy="15228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438280"/>
            <a:ext cx="2209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eff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533520"/>
            <a:ext cx="304920" cy="5105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2840 h 5105160"/>
              <a:gd name="textAreaBottom" fmla="*/ 4972320 h 51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0520" y="1447920"/>
            <a:ext cx="611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1676520"/>
            <a:ext cx="83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8920" y="1447920"/>
            <a:ext cx="60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iculture and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3048120"/>
            <a:ext cx="1371600" cy="15228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266688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ch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533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ed to raise more 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2400" y="533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i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1600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ed to grow more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523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259092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ed more ________ in which to raise f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2590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shp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41911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row more fruit trees which will bear more fru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556272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ut down forests,burn grass, use chemicals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260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oadway BT"/>
                <a:ea typeface="华文彩云"/>
              </a:rPr>
              <a:t>Task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4    Pre-liste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8520" y="1066680"/>
            <a:ext cx="44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iculture depends on …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5105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f we changed the structure of agriculture, what do you think will happen to the na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1219320"/>
            <a:ext cx="8667720" cy="3741120"/>
            <a:chOff x="304920" y="1219320"/>
            <a:chExt cx="8667720" cy="374112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6570720" y="3234960"/>
              <a:ext cx="2352600" cy="16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6426360" y="1219320"/>
              <a:ext cx="2546280" cy="19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304920" y="2371680"/>
              <a:ext cx="2952720" cy="14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3402000" y="1795320"/>
              <a:ext cx="249732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73120" y="359532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8560" y="2462040"/>
              <a:ext cx="184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54720" y="4563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49640" y="43732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1960" y="380988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eather &amp; 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7320" y="46483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22160" y="47847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ther natural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4720" y="76212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7240" y="6095880"/>
            <a:ext cx="5042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loods or droughts, soil erosio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drought: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ng period without 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dike: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narrow piece of land built to                    stop water from coming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fishpond: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 area of water where fish are rais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14600" y="304920"/>
            <a:ext cx="3962520" cy="12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New word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33360" y="422280"/>
            <a:ext cx="393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华文彩云"/>
                <a:ea typeface="华文彩云"/>
              </a:rPr>
              <a:t>Task 2 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  <a:ea typeface="华文彩云"/>
              </a:rPr>
              <a:t>While liste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125360"/>
            <a:ext cx="91440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1 Listen to the tape. The passage you hear talks  abo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(  ) history of farming              (  ) farmers in America        (  ) fish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(  ) protection of nature           (  ) farmers in China             (  ) pig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(  ) environmental problems    (  ) trees                                 (  ) dik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7480" y="3335400"/>
            <a:ext cx="905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2 Which of the following sentences are true &amp; which are fals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3520" y="4221000"/>
            <a:ext cx="88750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1 In early times farmers in China moved around &amp; burnt forests.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2 All farmers in South America burn forests to create farmland.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3 Flood &amp; droughts are disasters that farmers cannot stop.         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4 Some of the land in China  is too wet to grow crops.                  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5 Fish farmers damage nature.                                                        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24000" y="2060640"/>
            <a:ext cx="7488000" cy="1009440"/>
            <a:chOff x="324000" y="2060640"/>
            <a:chExt cx="7488000" cy="1009440"/>
          </a:xfrm>
        </p:grpSpPr>
        <p:sp>
          <p:nvSpPr>
            <p:cNvPr id="161" name=""/>
            <p:cNvSpPr/>
            <p:nvPr/>
          </p:nvSpPr>
          <p:spPr>
            <a:xfrm>
              <a:off x="324000" y="206064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42100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" y="278136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67280" y="278136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67280" y="242100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24720" y="278136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853452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61440" y="530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34520" y="4627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34520" y="4941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61440" y="563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rcRect l="0" t="24415" r="0" b="7628"/>
          <a:stretch/>
        </p:blipFill>
        <p:spPr>
          <a:xfrm>
            <a:off x="0" y="719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9280" y="404640"/>
            <a:ext cx="896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3 Listen to the tape &amp; complete the sentences by using your own word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1335240"/>
            <a:ext cx="87328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Arial"/>
              </a:rPr>
              <a:t>When farming goes against nature, ______________________________ are the result. The earliest farmers ___________nature. Their way of agriculture led to ______________ &amp; _____________. It is an old truth that __________ should not ____________________. The land that Tan &amp; Xiao Zao bought was _________ &amp; could not be used for ____________. Instead they changed the fields into _______. On their farm they kept __________________ &amp; grew _________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9960" y="174312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l kinds of environment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68200" y="2154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str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57280" y="25351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l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10720" y="25351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r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70640" y="29210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1880" y="33274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o against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20920" y="375912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oo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9360" y="4119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4000" y="44798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ishp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36080" y="447984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ish/ducks/chic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6760" y="49150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-方正超大字符集"/>
              </a:rPr>
              <a:t>fruit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40880" y="365040"/>
            <a:ext cx="37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Listening 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2760" y="1260360"/>
            <a:ext cx="9617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Farming and nature are like two flowers on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tre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 When farming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goes against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nature,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all kinds of environmental problems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are the result. In ancient tim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hen people began using the land, farming was not as it is today. Early farmers moved around the country. Th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burnt a part of a forest and used this land for one or two years. When they could no longer grow crops on the l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they moved on and repeated this somewhere el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Agriculture in this way destroys nature and 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</a:rPr>
              <a:t>results in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floods and  droughts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 Some people in South America still practise this kind of far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00" y="457200"/>
            <a:ext cx="9276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Over the past twenty to twenty-five years, far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have recognised some old truths, already known to an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Chinese farmers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Farming should not go against nature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If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the soil is too poor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chemicals 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can help improve it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grow better crops, but this may damage or destroy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surrounding the farms. Instead, farmers should look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other methods.In the early 16th century, bothers Ta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Xiao Zao of Jiangsu Province cheaply bought fields a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lakes nobody wanted because they were too wet. They bui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dikes 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around the fields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turning the fields into fish ponds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they became fish farmers.They also planted </a:t>
            </a:r>
            <a:r>
              <a:rPr b="1" i="1" lang="zh-CN" sz="2800" spc="-1" strike="noStrike">
                <a:solidFill>
                  <a:srgbClr val="3333a5"/>
                </a:solidFill>
                <a:latin typeface="Times New Roman"/>
              </a:rPr>
              <a:t>fruit trees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the dikes and kept </a:t>
            </a:r>
            <a:r>
              <a:rPr b="1" i="1" lang="zh-CN" sz="2800" spc="-1" strike="noStrike">
                <a:solidFill>
                  <a:srgbClr val="3333a5"/>
                </a:solidFill>
                <a:latin typeface="Times New Roman"/>
              </a:rPr>
              <a:t>chickens and ducks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. They wer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successful far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2360" y="152280"/>
            <a:ext cx="37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book Page 1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838080"/>
            <a:ext cx="8855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1.What is Helen’s job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2.What do you think she is going to do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3.What would she be doing every day in her job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187280"/>
            <a:ext cx="763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She is (probably) a fishwom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160" y="1981080"/>
            <a:ext cx="8320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I think she is going to open the boxes and feed the fis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r: I think she is on her way to the market to sell the fis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6080" y="3352680"/>
            <a:ext cx="9338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he first thing to do is to go out in the boat and see if anything i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aught in the nets. Next, you have to bring in the fish and throw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ut the nets for the next catch. Then, the fish must be brought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and. The fish should  be kept in big boxes full of water, so the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don’t di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0" r="0" b="80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20520" y="1089000"/>
            <a:ext cx="468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华文彩云"/>
                <a:ea typeface="华文彩云"/>
              </a:rPr>
              <a:t>Task 1: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华文彩云"/>
              </a:rPr>
              <a:t>Brainstor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4720" y="1906560"/>
            <a:ext cx="71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ill you think of when you see the word “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gricul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733920"/>
            <a:ext cx="4248360" cy="165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幼圆"/>
              </a:rPr>
              <a:t>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95280" y="3429000"/>
            <a:ext cx="5834160" cy="2160720"/>
            <a:chOff x="1295280" y="3429000"/>
            <a:chExt cx="5834160" cy="2160720"/>
          </a:xfrm>
        </p:grpSpPr>
        <p:sp>
          <p:nvSpPr>
            <p:cNvPr id="49" name=""/>
            <p:cNvSpPr/>
            <p:nvPr/>
          </p:nvSpPr>
          <p:spPr>
            <a:xfrm>
              <a:off x="2087640" y="3645000"/>
              <a:ext cx="865080" cy="43164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472000" y="3429000"/>
              <a:ext cx="720720" cy="57636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2087280" y="5157720"/>
              <a:ext cx="649080" cy="28728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72000" y="5157720"/>
              <a:ext cx="865080" cy="4320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5280" y="4581720"/>
              <a:ext cx="129708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76720" y="4581720"/>
              <a:ext cx="115272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08800" y="495360"/>
            <a:ext cx="17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oadway BT"/>
              </a:rPr>
              <a:t>Step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3200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20040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84880" y="45720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46800" y="53341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43434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56307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380880"/>
            <a:ext cx="9388440" cy="57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1. We feed the ______________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2. We ___________________________________ the tanks(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水箱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3. We get __________ out of the best of the 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4. When the ________ are big enough, we put them in ______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in the se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5. When the ________ have grown to the right size, we ________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them, freeze them or_______ th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6. We take them by truck to the nearest 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44120" y="380880"/>
            <a:ext cx="281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fish twice a d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6680" y="1219320"/>
            <a:ext cx="591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produce our own fish from eggs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23800" y="2133720"/>
            <a:ext cx="167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the eg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3760" y="2025720"/>
            <a:ext cx="180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large f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87640" y="3048120"/>
            <a:ext cx="8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f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1640" y="3048120"/>
            <a:ext cx="120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c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63960" y="4267080"/>
            <a:ext cx="8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f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2000" y="4311720"/>
            <a:ext cx="152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harv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28200" y="4724280"/>
            <a:ext cx="136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smok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71160" y="5638680"/>
            <a:ext cx="148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mar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2760" y="380880"/>
            <a:ext cx="8474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y do they have to tie the cages to the rocks on the bottom of the s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y do they smoke or freeze all the f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.  Why do they burn their own wo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.  Why do they smoke their fish themselv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8160" y="1295280"/>
            <a:ext cx="788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The cages have to be tied to the bottom of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sea because it is wind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5400" y="2543040"/>
            <a:ext cx="760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Because the fish farm is a long way from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nearest marke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4400" y="3790800"/>
            <a:ext cx="860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Because in that way they get a good strong smok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2560" y="4800600"/>
            <a:ext cx="800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Because they get higher prices for smoked fis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79880" y="76320"/>
            <a:ext cx="384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Listening tex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609480"/>
            <a:ext cx="8839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a5"/>
                </a:solidFill>
                <a:latin typeface="Times New Roman"/>
              </a:rPr>
              <a:t>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Hello, my name’s Helen and I live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on the west coast of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Canada. I work on a fish fa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Right now I’m feeding the fish, which are kept in cages in  the sea. The cages are tied to the rocks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on the bottom of the sea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.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It can get very windy here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.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Twice a day I put the fish food in the  boat and go out to the cages. The fish are always hungry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When the fish have grown to the right size, we pull the cages out of the water. The fish are killed and  cleaned. Our fish farm is a long way from the nearest market. So we either freeze the fish or smoke them. We don’t salt any fish here. Some fish farms do, but we don’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228600"/>
            <a:ext cx="86104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Three of us work here and there’s always a lot to do. Inside that building over there we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have tanks for the young fish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.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We produce all our own fish from eggs. The fish start to grow in fresh water. Then, when they are bigger they go into the sea, which is salty, of course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There’s always a lot of work to do: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eeding the fish, cleaning the tanks, getting eggs out of the best of the large fish, harvesting the fish, cleaning them and smoking them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.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We burn our own wood and that way we get a very good strong smoke. It’s more work, but we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et higher prices for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our smoked fis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304920"/>
            <a:ext cx="86868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new words of this peri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duc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ffect  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ke    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ught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e   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garcane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bacco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cal   ad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9907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量，产物，农产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16765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果，影响，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2392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堤坝，排水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1543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39164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长的茎，藤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4678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甘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5410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烟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6019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方的，当地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260280"/>
          <a:ext cx="9144000" cy="59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0280"/>
                    <a:ext cx="914400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764720" y="5445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ngsuh"/>
              </a:rPr>
              <a:t>co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65440" y="54450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36360" y="5445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50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7080" y="40464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6019920"/>
            <a:ext cx="84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owth of major products 1991-95 compared with 1986-90 perce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80880" y="3962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hat is the graph abou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47242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 about the growth of the major farm products during the year 1991-95 compared with that of 1986-9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" y="41911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What is shown on the x-axis and y-ax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95288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 the x-axis: the major farm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 the y-axis: the percentages of growth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57200" y="41148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ich farm product grew most during the first five years of the 1990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5562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u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8600" y="4038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How much did it grow compared with          that during the last five years of the 1980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5867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 per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04920" y="4343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Which farm product grew lea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5486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4:29:22Z</dcterms:created>
  <dc:creator>雷安梅</dc:creator>
  <dc:description/>
  <dc:language>en-US</dc:language>
  <cp:lastModifiedBy>user</cp:lastModifiedBy>
  <dcterms:modified xsi:type="dcterms:W3CDTF">2004-06-11T23:39:43Z</dcterms:modified>
  <cp:revision>39</cp:revision>
  <dc:subject/>
  <dc:title>PowerPoint 演示文稿</dc:title>
</cp:coreProperties>
</file>