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9AFF-99B6-4FB9-9A81-578BA4BE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BBE-3598-4B6F-B45D-A475AED3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E00-AA7A-4603-8787-439CF239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28B-F866-4E87-A55E-A2D1CC4F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2DA-4F5C-4DFC-B783-AAF758ED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970-8BC3-423D-A04D-67117BE2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F290-705A-46EE-B5FB-5D6D29BD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409-7E70-4CA6-A725-DBA4D520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75F-C76B-4282-AEA0-42B1ECCD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2E4F-F9AB-4543-A4FB-0314E55F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F29-C20A-4BAC-8931-A828021B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E9B-952A-4B2C-A558-526D1946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2C28-5EB2-48E8-8BFC-4F0DC69046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5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6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5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5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5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5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5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09:18Z</dcterms:created>
  <dc:creator>USER13</dc:creator>
  <dc:description/>
  <dc:language>en-US</dc:language>
  <cp:lastModifiedBy>USER13</cp:lastModifiedBy>
  <dcterms:modified xsi:type="dcterms:W3CDTF">2002-05-04T03:09:31Z</dcterms:modified>
  <cp:revision>1</cp:revision>
  <dc:subject/>
  <dc:title>PowerPoint 演示文稿</dc:title>
</cp:coreProperties>
</file>