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852-F2FB-40C7-9218-2DCA0FC9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110-1B4B-4B65-BB63-2695C1CF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393-D5CE-47FD-95FA-C903F4D0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4BC-D015-484B-B2D8-8EA82433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6C9F-08E4-4DA7-9EAA-6718B8B8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9E3-E12F-49BB-989A-910B7F8E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D27-A504-4A83-9A0B-FFBED71E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CB14-6929-4A18-94C5-387C097A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FD1-6535-413A-9714-76D3121B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B9E-224E-4EA0-BED8-DD4A7DFD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24A8-F6CB-4762-92B0-452E45CB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0DC-5E56-43C4-AD0C-338C5129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C208-1760-4257-BC4D-A6CDE56F1E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5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5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5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09:18Z</dcterms:created>
  <dc:creator>USER13</dc:creator>
  <dc:description/>
  <dc:language>en-US</dc:language>
  <cp:lastModifiedBy>USER13</cp:lastModifiedBy>
  <dcterms:modified xsi:type="dcterms:W3CDTF">2002-05-04T03:09:31Z</dcterms:modified>
  <cp:revision>1</cp:revision>
  <dc:subject/>
  <dc:title>PowerPoint 演示文稿</dc:title>
</cp:coreProperties>
</file>