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9B7-F475-4189-A798-7A20C228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800-573E-46FE-B360-FCBE94EB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0EF-424E-4494-8F4C-96AF0DDF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3E2-BAB9-41EE-9568-126EA170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04C4-5729-42EF-8880-A0A86E71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DF5F-3FCB-4AD2-94B6-076597E9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633C-7310-47E7-BB15-DC57BC1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EB86-B3EB-420E-9200-34AC9250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522C-D4DD-435F-89E0-11D37699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45D4-911C-4067-B0FC-21646E3C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D628-C07E-4A77-834E-B4967EB8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4E6-41BE-45BD-A176-507A01F9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BE53-2367-4ACF-9DBB-04BC8366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9913-92FB-4E2A-84DC-053675B1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9AB5-C3A3-465A-9AC4-DA67F1F3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7965-8C46-4A5A-9CFC-516DB862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84DE-BA11-4D79-AF2D-C6AC8945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B8D-F580-4C45-B14A-0E1897B4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EF4-FF75-4004-8CEC-DEDF16C3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EFC-D1E7-49C9-B44A-6E109355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B3B-0487-46C2-B721-54BE77E1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228-3E8F-4164-A7BD-EB75F022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5F7-872F-492C-92C1-2B76581A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DD0-BEFE-4424-81C3-B3337B6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6332-BD78-4849-8658-E12B13E77C7C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AA46-B8EE-4C30-8454-92C09119321F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39640" y="476280"/>
            <a:ext cx="8064360" cy="6119280"/>
            <a:chOff x="539640" y="476280"/>
            <a:chExt cx="8064360" cy="61192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579640" y="2419200"/>
              <a:ext cx="3024360" cy="41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39640" y="3858840"/>
              <a:ext cx="2592360" cy="27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132000" y="476280"/>
              <a:ext cx="251928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3132000" y="2491920"/>
              <a:ext cx="24476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5"/>
            <a:stretch/>
          </p:blipFill>
          <p:spPr>
            <a:xfrm>
              <a:off x="3132000" y="3931920"/>
              <a:ext cx="244764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6"/>
            <a:stretch/>
          </p:blipFill>
          <p:spPr>
            <a:xfrm>
              <a:off x="5579640" y="476280"/>
              <a:ext cx="3022920" cy="19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7"/>
            <a:stretch/>
          </p:blipFill>
          <p:spPr>
            <a:xfrm>
              <a:off x="539640" y="476280"/>
              <a:ext cx="2592360" cy="33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>
            <a:hlinkClick r:id="" action="ppaction://hlinkshowjump?jump=endshow"/>
          </p:cNvPr>
          <p:cNvSpPr/>
          <p:nvPr/>
        </p:nvSpPr>
        <p:spPr>
          <a:xfrm>
            <a:off x="7667640" y="6093000"/>
            <a:ext cx="1042920" cy="35856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2785" h="21600">
                <a:moveTo>
                  <a:pt x="0" y="0"/>
                </a:moveTo>
                <a:lnTo>
                  <a:pt x="62785" y="0"/>
                </a:lnTo>
                <a:lnTo>
                  <a:pt x="62785" y="21600"/>
                </a:lnTo>
                <a:lnTo>
                  <a:pt x="0" y="21600"/>
                </a:lnTo>
                <a:close/>
              </a:path>
              <a:path fill="lightenLess" w="62785" h="21600">
                <a:moveTo>
                  <a:pt x="0" y="0"/>
                </a:moveTo>
                <a:lnTo>
                  <a:pt x="62785" y="0"/>
                </a:lnTo>
                <a:lnTo>
                  <a:pt x="61385" y="1400"/>
                </a:lnTo>
                <a:lnTo>
                  <a:pt x="1400" y="1400"/>
                </a:lnTo>
                <a:close/>
              </a:path>
              <a:path fill="darken" w="62785" h="21600">
                <a:moveTo>
                  <a:pt x="62785" y="0"/>
                </a:moveTo>
                <a:lnTo>
                  <a:pt x="62785" y="21600"/>
                </a:lnTo>
                <a:lnTo>
                  <a:pt x="61385" y="20200"/>
                </a:lnTo>
                <a:lnTo>
                  <a:pt x="61385" y="1400"/>
                </a:lnTo>
                <a:close/>
              </a:path>
              <a:path fill="darkenLess" w="62785" h="21600">
                <a:moveTo>
                  <a:pt x="62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385" y="20200"/>
                </a:lnTo>
                <a:close/>
              </a:path>
              <a:path fill="lighten" w="62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785" h="21600">
                <a:moveTo>
                  <a:pt x="24386" y="7493"/>
                </a:moveTo>
                <a:lnTo>
                  <a:pt x="27894" y="7493"/>
                </a:lnTo>
                <a:lnTo>
                  <a:pt x="27894" y="12828"/>
                </a:lnTo>
                <a:cubicBezTo>
                  <a:pt x="27894" y="13751"/>
                  <a:pt x="28694" y="14482"/>
                  <a:pt x="29730" y="14482"/>
                </a:cubicBezTo>
                <a:lnTo>
                  <a:pt x="31393" y="14482"/>
                </a:lnTo>
                <a:cubicBezTo>
                  <a:pt x="32428" y="14482"/>
                  <a:pt x="33229" y="13751"/>
                  <a:pt x="33229" y="12828"/>
                </a:cubicBezTo>
                <a:lnTo>
                  <a:pt x="33229" y="7493"/>
                </a:lnTo>
                <a:lnTo>
                  <a:pt x="31393" y="7493"/>
                </a:lnTo>
                <a:lnTo>
                  <a:pt x="34900" y="3985"/>
                </a:lnTo>
                <a:lnTo>
                  <a:pt x="38573" y="7493"/>
                </a:lnTo>
                <a:lnTo>
                  <a:pt x="36737" y="7493"/>
                </a:lnTo>
                <a:lnTo>
                  <a:pt x="36737" y="12828"/>
                </a:lnTo>
                <a:cubicBezTo>
                  <a:pt x="36737" y="15596"/>
                  <a:pt x="34160" y="18155"/>
                  <a:pt x="31393" y="18155"/>
                </a:cubicBezTo>
                <a:lnTo>
                  <a:pt x="29730" y="18155"/>
                </a:lnTo>
                <a:cubicBezTo>
                  <a:pt x="26962" y="18155"/>
                  <a:pt x="24386" y="15596"/>
                  <a:pt x="243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4:29Z</dcterms:created>
  <dc:creator>Legend User</dc:creator>
  <dc:description/>
  <dc:language>en-US</dc:language>
  <cp:lastModifiedBy>Legend User</cp:lastModifiedBy>
  <dcterms:modified xsi:type="dcterms:W3CDTF">2002-12-01T06:36:23Z</dcterms:modified>
  <cp:revision>2</cp:revision>
  <dc:subject/>
  <dc:title>幻灯片 1</dc:title>
</cp:coreProperties>
</file>