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2A1-F4C2-48CD-8F90-4FD2759F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C10-74C8-436A-B37A-9C95CF67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C3D-391D-4B9D-87C5-B088FA74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148-9682-46EB-B1ED-C1AAD7A2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82B55-A971-49CE-9C51-D9D7B00A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222B0-8903-493E-B64C-380F6CD4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18391-012E-4B3F-8BDD-CEBB734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5C6C9-F3AC-431F-807F-F619D502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D80B-D832-41CA-A7C7-BAD18186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9E529-651D-4EF8-AADF-A841D9A5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07D17-21D5-499F-A596-B054ACE7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A0B-847B-402F-A004-D1E4C98D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4F124-89D0-46BD-80AA-E932BAE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D1857-5B82-4D9C-B651-A6BBCE4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697DD-EB44-483D-85EA-3F985303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5C748-8ED2-4259-8E65-580ECEAC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0083F-CE18-4C34-BFF5-D8D45B90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A3E-3A95-436A-A3AB-781EC567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C90-AA86-4381-B615-26AF5B6A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3B7-75AD-4EA9-BC14-947E12A7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E50-93E5-41C2-9D9B-41BBFC9A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E12-1A27-4738-B72D-B83E1B69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CC4-90C0-45BC-A8FA-5331449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644-40BD-4D5C-B35C-1FCC4775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E9E9-A2DD-499E-819B-DF35FB02557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5C23-637D-492D-9E27-6E3C4DFF217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endshow"/>
          </p:cNvPr>
          <p:cNvSpPr/>
          <p:nvPr/>
        </p:nvSpPr>
        <p:spPr>
          <a:xfrm>
            <a:off x="7667640" y="5877000"/>
            <a:ext cx="1042920" cy="393480"/>
          </a:xfrm>
          <a:custGeom>
            <a:avLst/>
            <a:gdLst>
              <a:gd name="textAreaLeft" fmla="*/ 25200 w 1042920"/>
              <a:gd name="textAreaRight" fmla="*/ 1017720 w 104292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57218" h="21600">
                <a:moveTo>
                  <a:pt x="0" y="0"/>
                </a:moveTo>
                <a:lnTo>
                  <a:pt x="57218" y="0"/>
                </a:lnTo>
                <a:lnTo>
                  <a:pt x="57218" y="21600"/>
                </a:lnTo>
                <a:lnTo>
                  <a:pt x="0" y="21600"/>
                </a:lnTo>
                <a:close/>
              </a:path>
              <a:path fill="lightenLess" w="57218" h="21600">
                <a:moveTo>
                  <a:pt x="0" y="0"/>
                </a:moveTo>
                <a:lnTo>
                  <a:pt x="57218" y="0"/>
                </a:lnTo>
                <a:lnTo>
                  <a:pt x="55818" y="1400"/>
                </a:lnTo>
                <a:lnTo>
                  <a:pt x="1400" y="1400"/>
                </a:lnTo>
                <a:close/>
              </a:path>
              <a:path fill="darken" w="57218" h="21600">
                <a:moveTo>
                  <a:pt x="57218" y="0"/>
                </a:moveTo>
                <a:lnTo>
                  <a:pt x="57218" y="21600"/>
                </a:lnTo>
                <a:lnTo>
                  <a:pt x="55818" y="20200"/>
                </a:lnTo>
                <a:lnTo>
                  <a:pt x="55818" y="1400"/>
                </a:lnTo>
                <a:close/>
              </a:path>
              <a:path fill="darkenLess" w="57218" h="21600">
                <a:moveTo>
                  <a:pt x="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18" y="20200"/>
                </a:lnTo>
                <a:close/>
              </a:path>
              <a:path fill="lighten" w="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218" h="21600">
                <a:moveTo>
                  <a:pt x="21603" y="7493"/>
                </a:moveTo>
                <a:lnTo>
                  <a:pt x="25110" y="7493"/>
                </a:lnTo>
                <a:lnTo>
                  <a:pt x="25110" y="12828"/>
                </a:lnTo>
                <a:cubicBezTo>
                  <a:pt x="25110" y="13751"/>
                  <a:pt x="25911" y="14482"/>
                  <a:pt x="26947" y="14482"/>
                </a:cubicBezTo>
                <a:lnTo>
                  <a:pt x="28609" y="14482"/>
                </a:lnTo>
                <a:cubicBezTo>
                  <a:pt x="29645" y="14482"/>
                  <a:pt x="30446" y="13751"/>
                  <a:pt x="30446" y="12828"/>
                </a:cubicBezTo>
                <a:lnTo>
                  <a:pt x="30446" y="7493"/>
                </a:lnTo>
                <a:lnTo>
                  <a:pt x="28609" y="7493"/>
                </a:lnTo>
                <a:lnTo>
                  <a:pt x="32117" y="3985"/>
                </a:lnTo>
                <a:lnTo>
                  <a:pt x="35790" y="7493"/>
                </a:lnTo>
                <a:lnTo>
                  <a:pt x="33953" y="7493"/>
                </a:lnTo>
                <a:lnTo>
                  <a:pt x="33953" y="12828"/>
                </a:lnTo>
                <a:cubicBezTo>
                  <a:pt x="33953" y="15596"/>
                  <a:pt x="31377" y="18155"/>
                  <a:pt x="28609" y="18155"/>
                </a:cubicBezTo>
                <a:lnTo>
                  <a:pt x="26947" y="18155"/>
                </a:lnTo>
                <a:cubicBezTo>
                  <a:pt x="24179" y="18155"/>
                  <a:pt x="21603" y="15596"/>
                  <a:pt x="21603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2:51Z</dcterms:created>
  <dc:creator>Legend User</dc:creator>
  <dc:description/>
  <dc:language>en-US</dc:language>
  <cp:lastModifiedBy>Legend User</cp:lastModifiedBy>
  <dcterms:modified xsi:type="dcterms:W3CDTF">2002-12-03T13:01:07Z</dcterms:modified>
  <cp:revision>2</cp:revision>
  <dc:subject/>
  <dc:title>幻灯片 1</dc:title>
</cp:coreProperties>
</file>