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DD7-05C6-4ECE-BB01-BC73BA65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073-EBE4-44E3-A1B9-C09B83D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2FC-69F6-467C-944F-06EE716D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C7B-F307-4024-90AC-7285BF7F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2C4-144C-489C-B6B3-53C85B29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C3A-8145-4ED9-AC70-21CFBB4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4B50-EA46-4BFC-A0BE-8EE61632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FE2D-2D1A-487A-88A7-7AC08690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0A8E-0211-4EEC-BAF9-6584C475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9E68-8341-4124-BEA5-4093CF6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4251-3FA6-441B-829B-303E502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7C9-AF6C-4967-A9E9-65603DE9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F9DC-E5BF-4E6C-95CB-363FDED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7ED2-8671-47E9-AA7D-D14373C2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3360-2E5F-4D4B-84E1-6A64C74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DA5-915E-4516-AECD-F5D70A6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8099-7989-4FC4-B9B8-6D1B601E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E61D-60F2-4322-B64E-F830489E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A7AA-0D39-41FD-B7B8-69331776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EAFF-C380-44AD-BE92-26512BC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F30F-3F42-4B34-945D-E1029DA2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2EE5-724E-4174-A41E-F35B3BB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321-6183-46D1-B679-62E400C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2C8D-84A2-4960-9BD9-188E575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4D4C-1264-4DF0-B982-90BEB1D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C7C8-C8E4-4BA8-993C-4E9123EB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4D90-E7AD-46F7-87F6-06B1AAB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B826-BD20-4005-9B5C-09DCF1D2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A47-D762-4A59-AA28-3CEDC779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B685-3628-4626-AAD5-9329FD5E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4B61-F83D-458B-890A-7DB66BD8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B841-7D7B-4D8E-8B99-2242355A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2802-A7E1-4BDF-B997-10A9421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24D-F01B-4A03-BF08-DC0A1C9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226A-1B7A-4221-9CEC-F96D27C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7686-184D-4656-8030-12B37433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5623-A12A-4894-8816-87F18B51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89A8-FA14-4FE8-9951-A3EA289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EFE7-A94F-400F-891B-BFDD298E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FF24-1D9C-47D6-AF7D-E90C479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390B-FE64-49FC-8FFA-E4324F5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E9CA-2FC0-4FAD-BABC-A547DB8E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1848-9583-4349-B85F-21102467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FFB-AA00-4C41-A8B8-188E5C6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666-4657-4ACC-AEF4-25E337F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ADE-1F34-442E-BBC1-45D157D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B06-F95E-401B-BECD-401A8FB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021-0081-4B3D-88D5-63E735F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8E16-0CAD-4036-A27F-265A2E16B4B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4BB0-0BDB-4C48-BA90-1689BB2AA94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792-7A68-44B8-A42F-D8C09C6CA9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7437-F72B-4FCF-AC1A-9A8C82D176E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2060640"/>
            <a:ext cx="65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like to e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吃点什么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480" y="209088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dishes would you lik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6680" y="393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什么菜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66760" y="2019240"/>
            <a:ext cx="57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o you want any sou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0480" y="386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汤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84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kind do fish do you pre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要哪种鱼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206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Do you want it now or after supp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4076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现在要还是饭后要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090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27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2663640" cy="224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300720" y="1727280"/>
            <a:ext cx="2340000" cy="2781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6:30Z</dcterms:created>
  <dc:creator>Legend User</dc:creator>
  <dc:description/>
  <dc:language>en-US</dc:language>
  <cp:lastModifiedBy>Legend User</cp:lastModifiedBy>
  <dcterms:modified xsi:type="dcterms:W3CDTF">2002-12-03T13:05:41Z</dcterms:modified>
  <cp:revision>10</cp:revision>
  <dc:subject/>
  <dc:title>幻灯片 1</dc:title>
</cp:coreProperties>
</file>