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B05-496F-4BDC-B96D-9A89042A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4B3-AD6D-4DDB-B2E3-0B330D86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B4D-4F76-45B4-A486-79A77F87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C7F2-E12D-46BE-80A5-6DF201ED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20E51-F506-4B3A-89C3-6B53B885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7747F-1A03-483D-AF8E-82BF509B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842FD-3105-4323-971A-18F46A77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04A02-E2BF-4979-A34E-71FB1702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B77BE-F77B-4EDE-9238-0D354B46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97FCE-42F0-4BF4-BD3A-FD5974CC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F2981-008B-43F7-A964-1BA830EA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762F-CEE2-4AF1-A4B5-A1AF166B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0A103-21B6-4148-B6B0-A05806FA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D5FC3-C281-4FDF-A400-6E255865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6EA1C-EA57-42F9-92CA-B41165B6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B341D-5335-4B9D-811C-1C3DF38B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C25A2-0B83-475E-A59C-D4360DCC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B7AFD-ECF2-4A17-B436-344F683C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38153-C1B3-45C2-8266-75D7D4FD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EBCA8-5FF6-48B4-823E-156B3A95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D9E6C-4F84-451A-BAC7-6AB7AFBE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FE671-F993-4D84-8E82-14D6E567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F7F-3CDF-4906-9339-3808A390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675A3-6227-4A5B-92DB-2C32D39E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BC197-53C6-4233-90A8-8C89C765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79EFF-F515-4896-B40B-F3E99E23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9334A-F598-4678-AE45-CD77A24B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F8EDC-A4F3-44E3-B806-A8380E3C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B9CD1-AF32-4107-B6FA-A65F9072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43402-10DB-4546-B6FC-C4FB4F0A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8A916-6FFB-47EA-B2D9-BCCC8451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1888E-37A5-42F0-A7A2-9303613B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9CC16-D578-49CD-A220-B86974BA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63C9-B4DE-4919-A586-E6E6AA15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E41B2-0AA1-4249-B60D-B392E0F4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06028-8CE1-422A-8F5A-4EEB6EA5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802F5-3A75-4E78-A201-A6DA17FF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B4384-DC7C-4535-A22C-74437FF6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C57E7-EB6E-4CDA-856B-99C1C601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E7533-868D-465E-8539-6EAA2836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EF37A-5C86-422A-8A89-29E14178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C3F2C-1C8E-4862-B374-6385D821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1FBCF-B410-419B-A1F1-0F64A5DE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4594-3A3F-4385-9D98-2A84F0F2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5667-8ACA-4152-85F1-03CCB193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B8A-018F-4093-98E2-1A67AAA6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2FEB-3382-4EC4-8498-289A42FD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C608-97BD-4DF4-B8FF-82B3DDD7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D611-7E17-4E46-861E-4C7D1A7DF5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6179-65F8-47BA-9F57-10BC2044BB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8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10B0-5CC2-4F98-AA17-A2E120AF676C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5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6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7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8259-6842-440A-B553-E9C0E88AF109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11280" y="1197000"/>
            <a:ext cx="741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would you say when you want your friends to eat mor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55640" y="3933720"/>
            <a:ext cx="7920000" cy="1556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Would  you  like  another (some)…… 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755640" y="907920"/>
            <a:ext cx="671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would you say when you want your friends to eat other thing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18800" y="4292640"/>
            <a:ext cx="4091400" cy="8251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How about…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11280" y="1197000"/>
            <a:ext cx="758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would you say when you want to offer some foo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593720" y="4076640"/>
            <a:ext cx="5199120" cy="8251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Let me give you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4360" y="1989000"/>
            <a:ext cx="79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If    you  are   guest, what  would  you  say?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89080" y="223344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en  you  want  to eat 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you say_______________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916360" y="2852640"/>
            <a:ext cx="527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“</a:t>
            </a: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yes, please.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816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68360" y="2349360"/>
            <a:ext cx="838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en  you  just want to taste, you say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__________________________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42800" y="3716280"/>
            <a:ext cx="625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“</a:t>
            </a: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Just a little, please.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24000" y="105264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en  you  don’t  want  to  eat anything, you say (1)______________________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________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(2)_______________________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258920" y="3213000"/>
            <a:ext cx="78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No , thanks .I’ve had  enough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701000" y="4653000"/>
            <a:ext cx="607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I’ m  full, thank  you</a:t>
            </a: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2195640" y="2133720"/>
            <a:ext cx="42480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Thanks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4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6:18:30Z</dcterms:created>
  <dc:creator>Legend User</dc:creator>
  <dc:description/>
  <dc:language>en-US</dc:language>
  <cp:lastModifiedBy>Legend User</cp:lastModifiedBy>
  <dcterms:modified xsi:type="dcterms:W3CDTF">2002-12-01T06:37:35Z</dcterms:modified>
  <cp:revision>4</cp:revision>
  <dc:subject/>
  <dc:title>幻灯片 1</dc:title>
</cp:coreProperties>
</file>