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84B-57AD-4E0E-AAF8-598F54F5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CD8-3DEA-4E11-A708-B507880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5D3-E4C0-488B-B9F9-261E5C66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217-B9F2-4548-BD6A-4EC505E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1C7D-35B4-4857-9ECE-4E64F0ED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ECB-0246-4572-88CE-8E4ED037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9427-8348-46EF-AFB2-FF11EA6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46E8-23D5-4FA0-A335-E58FCEF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081-E4F1-44C5-A794-4F752C9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B42B-2174-4CA6-9A07-391DD7D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77FC-D804-4458-83A6-737B941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E75-13DA-434C-B72A-37DE48D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D77-F7C3-40A5-ADCB-6ACA4145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607-5B86-44FA-8418-1DF3201D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BAD-562B-46B8-95A2-AE75142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F754-35E8-4172-9C91-E8D04088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8BC1-822F-4137-B49D-85ADB2E3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A862-715A-4898-870A-A7C17FFE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6829-83BF-471E-B25C-2AB05992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08E6-B570-4505-959C-A2CACEE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769E-BAC3-4185-B2A4-BA978C0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6FE1-2302-4732-B169-9B3C655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2A1-07AC-49EA-9EED-411304E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777E-ABF0-4258-AF00-93E188A7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9F15-3AA1-43CD-A3C5-53D44D6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D06B-C652-4D41-BF7E-B17F650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FBC5-E245-4859-A336-8F198EB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53F7-9A5A-4347-8707-A7A63EE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F0B6-7E17-4B74-92DE-9C609288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4641-4D07-4C64-B970-D67F90E6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9EEA7-9964-4365-84D6-35570C69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D0D56-ABC8-461E-BBCD-BE23D0FC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0A60B-9F62-457B-A291-EC996A92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FD4-E56D-421C-8EAD-869C4DCA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4E628-0C49-4137-A45A-FB71E5D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A10E8-3051-49A7-B55B-7FD2532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26B6B-27F0-4079-88E1-45398D0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1A40B-7CCC-4903-99CD-54AD226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69061-3780-4364-BFBB-150C3A1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A4B5C-F19C-49A7-8700-CC23B17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30F01-6E53-48A7-96A7-028161E1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25511-0C33-4487-A3C8-43048A8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45BB9-4FA8-42D3-B7B0-3BADED18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47D-F318-498B-ACFE-CD0134F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CC2-6080-455E-8E1E-F593B7B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BAF-3D09-4F1D-A527-A95697B8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D3F-3095-4375-A712-4A1089F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CE9-4C0F-4FE4-BFF7-83080CD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7F5-5185-478C-A0AA-E6B9666D0E9C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018-63A9-499E-9376-EC0E09E999E2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F24-AD06-4C22-A53F-0C7BE271E9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B5B-08DA-4F94-984D-D6EFCAFCC1D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istening.ppt" TargetMode="External"/><Relationship Id="rId3" Type="http://schemas.openxmlformats.org/officeDocument/2006/relationships/hyperlink" Target="file:///listening.ppt" TargetMode="External"/><Relationship Id="rId4" Type="http://schemas.openxmlformats.org/officeDocument/2006/relationships/hyperlink" Target="file:///drills.ppt" TargetMode="External"/><Relationship Id="rId5" Type="http://schemas.openxmlformats.org/officeDocument/2006/relationships/hyperlink" Target="file:///practice.ppt" TargetMode="External"/><Relationship Id="rId6" Type="http://schemas.openxmlformats.org/officeDocument/2006/relationships/hyperlink" Target="file:///revision.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688000" cy="334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803600" y="4869000"/>
            <a:ext cx="510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</a:rPr>
              <a:t>Taking        Meal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7392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/>
          </p:cNvPr>
          <p:cNvSpPr/>
          <p:nvPr/>
        </p:nvSpPr>
        <p:spPr>
          <a:xfrm>
            <a:off x="5419800" y="569880"/>
            <a:ext cx="2552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1.Listen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>
            <a:hlinkClick r:id="rId3"/>
          </p:cNvPr>
          <p:cNvSpPr/>
          <p:nvPr/>
        </p:nvSpPr>
        <p:spPr>
          <a:xfrm>
            <a:off x="876600" y="2298600"/>
            <a:ext cx="244080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3.Reading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>
            <a:hlinkClick r:id="rId4"/>
          </p:cNvPr>
          <p:cNvSpPr/>
          <p:nvPr/>
        </p:nvSpPr>
        <p:spPr>
          <a:xfrm>
            <a:off x="3688200" y="1555920"/>
            <a:ext cx="1688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2.Drill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>
            <a:hlinkClick r:id="rId5"/>
          </p:cNvPr>
          <p:cNvSpPr/>
          <p:nvPr/>
        </p:nvSpPr>
        <p:spPr>
          <a:xfrm>
            <a:off x="968040" y="5084640"/>
            <a:ext cx="232488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4.Practic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>
            <a:hlinkClick r:id="rId6"/>
          </p:cNvPr>
          <p:cNvSpPr/>
          <p:nvPr/>
        </p:nvSpPr>
        <p:spPr>
          <a:xfrm>
            <a:off x="5354280" y="5587920"/>
            <a:ext cx="2363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5.Revis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5:50:04Z</dcterms:created>
  <dc:creator>Legend User</dc:creator>
  <dc:description/>
  <dc:language>en-US</dc:language>
  <cp:lastModifiedBy>Legend User</cp:lastModifiedBy>
  <dcterms:modified xsi:type="dcterms:W3CDTF">2002-12-03T13:07:24Z</dcterms:modified>
  <cp:revision>8</cp:revision>
  <dc:subject/>
  <dc:title>幻灯片 1</dc:title>
</cp:coreProperties>
</file>