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type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12C7-E23E-42BA-8648-AC78AC55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4A0F-040A-434C-8CB3-3D937803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631-CCFB-4B7C-9C8C-A8DE48E2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BD1-1347-4E11-890D-95752719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FD0B-0E15-45D4-85A1-B9033849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AF4F-0664-44AA-BB70-1D7A0522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13F8-30C0-494C-B7C4-685B02D5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0A07-B611-4AB5-AA62-88AD32A8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CDC2-8375-4BA5-BB97-480F644C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F3D3-E4A9-4DE9-AC88-2CA119B2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8901-AFE6-4CA1-B105-66A8B1B1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B33-EFC7-41CE-8B50-F5B99206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1D52-F90D-47C2-A5F8-E6DABAA8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157B-97B4-49F8-B8DC-DA7E14FA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6187-9E04-498C-9D2B-C95FC3BB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0EFC-D706-449A-A090-A13EE99A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F11A-3ADB-4797-BCF4-391E5B07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1A2-5963-4F85-BA37-5E7A7563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F55-280F-4190-B745-55A747BD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D88-8350-4A16-8668-F5E8523C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364-74BC-4F21-BA7C-D50FF8F2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AC7B-F931-4C2B-8B7A-8F085794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F79-F492-4BC5-A295-D47F5E70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2012-B68A-4A99-9361-2BB40D62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6930-321A-483D-AC4A-08273CEE7B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F906-00EA-470B-849C-DE9AD951A9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21304"/>
                </a:solidFill>
                <a:latin typeface="Times New Roman"/>
                <a:ea typeface="隶书"/>
              </a:rPr>
              <a:t>   </a:t>
            </a:r>
            <a:r>
              <a:rPr b="0" lang="zh-CN" sz="7200" spc="-1" strike="noStrike">
                <a:solidFill>
                  <a:srgbClr val="221304"/>
                </a:solidFill>
                <a:latin typeface="Times New Roman"/>
                <a:ea typeface="隶书"/>
              </a:rPr>
              <a:t>初中英语课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英语演示文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power poi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9903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sk and answer in pair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4419720" cy="51818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the two girls talking outside the school gat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are they talk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Is Wei Hua going to buy school thing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she going to bu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S00554_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13360" cy="4800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fefde3"/>
          </a:solidFill>
          <a:ln w="9360">
            <a:solidFill>
              <a:srgbClr val="cbbd8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sk and answer in pair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505320" cy="4572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Lucy want to buy some banan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Is Wei Hua going to buy bananas for Luc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Is Lucy going to the shop with Wei Hu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L00381_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105520" y="2209680"/>
            <a:ext cx="2895480" cy="457200"/>
          </a:xfrm>
          <a:prstGeom prst="rect">
            <a:avLst/>
          </a:pr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ing to the 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2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ll in the blank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4114800" cy="449604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n’t you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y)  a 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Why not___(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Could you___(g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Where are you___(go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___(go) to the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What___you_____(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____(play) footba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E01561_" descr=""/>
          <p:cNvPicPr/>
          <p:nvPr/>
        </p:nvPicPr>
        <p:blipFill>
          <a:blip r:embed="rId1"/>
          <a:stretch/>
        </p:blipFill>
        <p:spPr>
          <a:xfrm>
            <a:off x="4951440" y="1752480"/>
            <a:ext cx="3735360" cy="4419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ll in blank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419720" cy="41148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book is___(goo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book is___than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book is___of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These oranges are___(chea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oranges are___than                                                           thes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anges over ther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of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E07677_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20040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esson 1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go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on’t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n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ood     better    b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213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oodby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295280"/>
            <a:ext cx="784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联系方法：河北省保定市一中分校电子备课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邮编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07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电话：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031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50242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电子信箱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yjjj@163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9:34:48Z</dcterms:created>
  <dc:creator>lyj</dc:creator>
  <dc:description/>
  <dc:language>en-US</dc:language>
  <cp:lastModifiedBy>xwl</cp:lastModifiedBy>
  <dcterms:modified xsi:type="dcterms:W3CDTF">2000-11-25T01:59:27Z</dcterms:modified>
  <cp:revision>9</cp:revision>
  <dc:subject/>
  <dc:title>英语公开课</dc:title>
</cp:coreProperties>
</file>