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373-ACEA-40B4-82C3-323F243D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29F-6665-4242-BABE-13C9ACAC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1FC-5E87-4DF2-81B1-7E9A3542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858-5E45-4BE3-B923-D4568B04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2E0-3170-44CB-99C7-B89A5A54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B68-5190-425A-9302-D220E995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B6B-44CE-41B8-8234-7002B7A5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B29-7E19-4E94-94BB-30AFD455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9CC-3FC7-4519-9093-BA58E409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1B3-C0F3-4522-9B9A-30E8E82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74C-7AE4-4BA4-9905-E0CCDAB5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3FD-0328-47EB-957E-F90D00E6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9263-8203-4864-9A6B-0069BF4375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6:15Z</dcterms:created>
  <dc:creator>USER13</dc:creator>
  <dc:description/>
  <dc:language>en-US</dc:language>
  <cp:lastModifiedBy>USER13</cp:lastModifiedBy>
  <dcterms:modified xsi:type="dcterms:W3CDTF">2002-05-04T03:26:20Z</dcterms:modified>
  <cp:revision>1</cp:revision>
  <dc:subject/>
  <dc:title>PowerPoint 演示文稿</dc:title>
</cp:coreProperties>
</file>