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type.wav" ContentType="audio/x-wav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1646-924B-4689-A83B-08E555CB8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C3EA-F53B-4342-8AFF-96C68DAFD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C3B0-64FC-4309-B214-D4273D2DD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E18E-FD8A-4209-8452-0DB70BEFB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DA084-48CB-487F-9250-C56D38D17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1BCF0-5D48-4916-8DFC-B555846E6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2A81D-D929-48C5-B6AE-4FF063C94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B700E-25E5-42A1-9262-FB3C3FE81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A36B5-704C-4201-9989-D0C88D48C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7CA92-CA2A-42BF-B19A-80C297202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2A1FF-33D8-41E2-B83F-3921408E1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4637-56AB-4F08-A932-833A20111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D52C5-7D63-4F34-9EF1-F32316722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9FE7F-1F24-4C93-971B-6F6A77B1A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58BA9-492C-43DE-8762-46B1D6B2D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567D4-44A7-40AE-BD39-988D20884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0F5EE-207C-4FE8-B3BB-EA948756D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867B-C1C3-43DF-A63C-D1221D496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CB15-6A8E-491F-B6A8-AA6A9EFCC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D21F-38CC-46A8-AA21-6D57147D9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7AA2-3A68-4797-AA73-FD065A3E7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C552-FC66-443B-8B8D-D2A89F8FB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4156-41AB-4C79-BEED-A1B7FA75D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E027-B841-46BE-BF20-5A87AC7CB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474C5-958F-49A8-A343-DE905F737CD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6CEF3-9494-474C-9E6C-287A14A71B0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221304"/>
                </a:solidFill>
                <a:latin typeface="Times New Roman"/>
                <a:ea typeface="隶书"/>
              </a:rPr>
              <a:t>   </a:t>
            </a:r>
            <a:r>
              <a:rPr b="0" lang="zh-CN" sz="7200" spc="-1" strike="noStrike">
                <a:solidFill>
                  <a:srgbClr val="221304"/>
                </a:solidFill>
                <a:latin typeface="Times New Roman"/>
                <a:ea typeface="隶书"/>
              </a:rPr>
              <a:t>初中英语课</a:t>
            </a:r>
            <a:endParaRPr b="0" lang="en-US" sz="7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英语演示文稿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glish power poi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  <p:sndAc>
      <p:stSnd>
        <p:snd r:embed="rId1" name="typ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990360"/>
          </a:xfrm>
          <a:prstGeom prst="rect">
            <a:avLst/>
          </a:prstGeom>
          <a:solidFill>
            <a:srgbClr val="fefd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Ask and answer in pairs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42640" y="1295280"/>
            <a:ext cx="4419720" cy="51818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re the two girls talking outside the school gat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ere are they talking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Is Wei Hua going to buy school thing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she going to bu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BS00554_" descr=""/>
          <p:cNvPicPr/>
          <p:nvPr/>
        </p:nvPicPr>
        <p:blipFill>
          <a:blip r:embed="rId1"/>
          <a:stretch/>
        </p:blipFill>
        <p:spPr>
          <a:xfrm>
            <a:off x="5638680" y="1600200"/>
            <a:ext cx="3213360" cy="48006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  <p:sndAc>
      <p:stSnd>
        <p:snd r:embed="rId2" name="typ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solidFill>
            <a:srgbClr val="fefde3"/>
          </a:solidFill>
          <a:ln w="9360">
            <a:solidFill>
              <a:srgbClr val="cbbd8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Ask and answer in pairs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505320" cy="4572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Lucy want to buy some banana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Is Wei Hua going to buy bananas for Luc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Is Lucy going to the shop with Wei Hu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BL00381_" descr=""/>
          <p:cNvPicPr/>
          <p:nvPr/>
        </p:nvPicPr>
        <p:blipFill>
          <a:blip r:embed="rId1"/>
          <a:stretch/>
        </p:blipFill>
        <p:spPr>
          <a:xfrm>
            <a:off x="4800600" y="1752480"/>
            <a:ext cx="3809880" cy="4572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105520" y="2209680"/>
            <a:ext cx="2895480" cy="457200"/>
          </a:xfrm>
          <a:prstGeom prst="rect">
            <a:avLst/>
          </a:prstGeom>
          <a:solidFill>
            <a:srgbClr val="a1bd6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ing to the 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  <p:sndAc>
      <p:stSnd>
        <p:snd r:embed="rId2" name="typ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solidFill>
            <a:srgbClr val="cbbd8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Fill in the blanks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4114800" cy="449604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don’t you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uy)  a boo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Why not___(re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boo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Could you___(g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for 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Where are you___(go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’m___(go) to the sho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What___you_____(d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morr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’m____(play) footbal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E01561_" descr=""/>
          <p:cNvPicPr/>
          <p:nvPr/>
        </p:nvPicPr>
        <p:blipFill>
          <a:blip r:embed="rId1"/>
          <a:stretch/>
        </p:blipFill>
        <p:spPr>
          <a:xfrm>
            <a:off x="4951440" y="1752480"/>
            <a:ext cx="3735360" cy="44197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  <p:sndAc>
      <p:stSnd>
        <p:snd r:embed="rId2" name="typ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solidFill>
            <a:srgbClr val="cbbd8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Fill in blanks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4419720" cy="411480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book is___(good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 book is___than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book is___of a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These oranges are___(cheap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ose oranges are___than                                                           these 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ranges over there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_of a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E07677_" descr=""/>
          <p:cNvPicPr/>
          <p:nvPr/>
        </p:nvPicPr>
        <p:blipFill>
          <a:blip r:embed="rId1"/>
          <a:stretch/>
        </p:blipFill>
        <p:spPr>
          <a:xfrm>
            <a:off x="5486400" y="1752480"/>
            <a:ext cx="3200400" cy="41148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  <p:sndAc>
      <p:stSnd>
        <p:snd r:embed="rId2" name="typ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Lesson 14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e going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y don’t yo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y n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ood     better    be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  <p:sndAc>
      <p:stSnd>
        <p:snd r:embed="rId1" name="typ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22130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goodby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90720" y="1295280"/>
            <a:ext cx="7848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联系方法：河北省保定市一中分校电子备课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邮编：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071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电话：（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0312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502425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电子信箱：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lyjjj@163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  <p:sndAc>
      <p:stSnd>
        <p:snd r:embed="rId1" name="typ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0T19:34:48Z</dcterms:created>
  <dc:creator>lyj</dc:creator>
  <dc:description/>
  <dc:language>en-US</dc:language>
  <cp:lastModifiedBy>xwl</cp:lastModifiedBy>
  <dcterms:modified xsi:type="dcterms:W3CDTF">2000-11-25T01:59:27Z</dcterms:modified>
  <cp:revision>9</cp:revision>
  <dc:subject/>
  <dc:title>英语公开课</dc:title>
</cp:coreProperties>
</file>