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D2C-CAD1-42C1-B90D-D367F861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83B-3FEC-4F78-BCC3-6D4322B3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A6A-D65A-43E5-8020-5BB72575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256-4EBB-470E-836E-FEB7A96C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67E-460A-49CF-815C-60CBDE43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139-E6A8-4717-8CBF-57BA1180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564-BE56-4EF3-9C28-119616EA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275-4E4A-4BA6-AA09-B7B0B50A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59F-0A25-4643-9EE2-F5BB45AF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50A-0A97-4325-8815-25654F0C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284-FBC4-4985-A083-1C6AB594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776-361D-483E-BC8E-E374ECE1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824D-8FA4-4D9A-B366-2FE15458BA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8:00Z</dcterms:created>
  <dc:creator>USER13</dc:creator>
  <dc:description/>
  <dc:language>en-US</dc:language>
  <cp:lastModifiedBy>USER13</cp:lastModifiedBy>
  <dcterms:modified xsi:type="dcterms:W3CDTF">2002-05-04T03:28:08Z</dcterms:modified>
  <cp:revision>1</cp:revision>
  <dc:subject/>
  <dc:title>PowerPoint 演示文稿</dc:title>
</cp:coreProperties>
</file>