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01E-8AE1-4530-851B-70966099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1964-5F44-4B73-9D38-C985D3D4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149F-D634-417D-BD8B-32AD62E3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3D2-A2C4-4D22-A66E-1FEF6CC1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1DB6-A60E-40DB-8ADE-864AA441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558E-E15D-4D71-B98A-B6A76A63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A81F-A0BD-4DC2-B560-CB876E69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278B-FEFE-4723-B8E1-19EA1474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3AF4-1DD8-4E4F-8CE9-4358A5D3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97DB-10E1-4D7E-B2D7-EA346501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556F-EE47-4301-8311-F95ECE9D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EE9B-5028-4172-A2E0-2C2C5328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1963-E4AA-4788-8E10-481E0A88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A12A-7723-4693-80AD-FE741954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0D58-5AA0-4D67-AD78-FAB51E62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BCD6-95E1-4BA1-AE3D-199C4118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1A4E-6280-4479-A4F2-5DAD5D0B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0A0E-A216-4EC2-8C17-9DAB3E1A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98A-435C-4DFF-8EF5-328E9757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AE6F-3535-4A30-BBF2-B36FAEC4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D31-A794-4103-81D8-D0D8E484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528-DCB5-4CCB-ADC8-D727CB45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5F95-5B16-4374-A370-C4E7DFA8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4918-780A-444B-ADB8-60336B68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BC06-A5F6-499F-BEEC-FF67B6F7DAE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583B-87B0-4283-AC7B-292F4E76C15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高二英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会考复习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李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北京西城外国语学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828800"/>
            <a:ext cx="86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. A. The weather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 film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lady.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  <a:ea typeface="PMingLiU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会考听力模拟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828800"/>
            <a:ext cx="86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.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A. The weather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 film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lady.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  <a:ea typeface="PMingLiU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会考听力模拟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371600"/>
            <a:ext cx="868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2. A. To go to the museum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go to the cinema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go to a concert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371600"/>
            <a:ext cx="868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2. A. To go to the museum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To go to the cinema.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go to a concert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3. A. By bik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On foot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By tax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3. A. By bik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On foot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By tax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4. A. Listening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Writing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Speak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4.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A. Listening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Writing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Speak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5. A. Australi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meric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Canad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5. A. Australi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meric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Canad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目的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了解会考试卷的结构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会考听力模拟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及听力训练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14040" y="9140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PMingLiU"/>
              </a:rPr>
              <a:t>  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6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She is thirs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She is tired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She is i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914040" y="9140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PMingLiU"/>
              </a:rPr>
              <a:t>  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6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She is thirs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She is tired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She is i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A teacher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 conductor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work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A teacher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B. A conductor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work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meet Mrs. Smith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see his old frie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see Mrs. Smith off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8.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A. To meet Mrs. Smith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see his old frie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see Mrs. Smith off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9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Why will Miss Brown go to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ot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stay there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get a letter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have din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0.What’s Mr. Green’s room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1823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1832.    C. 132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914040" y="685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9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Why will Miss Brown go to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ot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stay there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To get a letter.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have din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0.What’s Mr. Green’s room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1823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1832.    C. 132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142640" y="533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9. Why will Miss Brown go to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ot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stay there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To get a letter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have din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0.What’s Mr. Green’s room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A. 1823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1832.    C. 132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1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What colour does the man li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hite.    B. Blue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Green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How much is the shir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20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8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.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0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试卷结构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高中英语会考试卷由两卷组成：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  <a:ea typeface="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卷为选择题，在答题纸上作答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I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卷为非选择题，在试卷上作答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1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What colour does the man li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hite.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Blue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Green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How much is the shir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20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8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.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0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1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What colour does the man li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hite.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Blue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Green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How much is the shir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20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8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.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C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120 </a:t>
            </a:r>
            <a:r>
              <a:rPr b="0" i="1" lang="zh-CN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yua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3. Why did the girl call herself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“class loser”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She felt being left out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e got into trou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She was badly si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040" y="3049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4. How did the girl deal with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ble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She did well in the first practi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 She brought in three runs in a softball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t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She joined in the team activities an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uck up for herself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3. Why did the girl call herself the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“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 loser”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4. How did the girl deal with th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oble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60948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3. Why did the girl call herself the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“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ass loser”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. She felt being left out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e got into trou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She was badly si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9040" y="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14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ow did the girl deal with th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proble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he did well in the first practi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She brought in three runs in 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oftball mat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She joined in the team activities an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stuck up for herself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听力训练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The train will leave at 4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The train will leave at 3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The train will leave at 4:0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A. The train will leave at 4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The train will leave at 3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The train will leave at 4:0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It’s 9:3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It’s 9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It’s 9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第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I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卷包括四道大题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理解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单项填空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4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4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完形填空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0-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5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4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阅读理解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6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It’s 9:3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B. It’s 9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It’s 9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Each bottle cost 4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Each bottle cost 1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Each bottle cost 20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Each bottle cost 4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B. Each bottle cost 1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Each bottle cost 20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How much is it for one ticke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24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1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4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How much is it for one ticke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24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B. 1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4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is the dialogue mainly abou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n exa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volleyball matc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pla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is the dialogue mainly abou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n exa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volleyball matc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pla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does the woman me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im has only one faul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Tim lost his job because of his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arelessn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im spent much money in find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job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does the woman me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im has only one faul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Tim lost his job because of his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arelessn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im spent much money in finding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job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ch rule is not included in renting the roo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friend visit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pictures on the wa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danc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第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II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卷包括两道大题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短文填空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书面表达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5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ch rule is not included in renting the roo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No friend visit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pictures on the wa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danc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probably is the wom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waitr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nur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guid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probably is the wom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waitr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nur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 guid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9144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ere does the conversation most probably take plac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a c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a busy stre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a roo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0666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ere does the conversation most probably take plac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.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n a c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a busy stre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a roo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What can we learn from the dialogu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he woman had a photo shop of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er ow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e woman developed her photos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ll by herself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e woman did part of her own film    develop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at can we learn from the dialogu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The woman had a photo shop of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ow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woman developed her photos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ll by herself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C.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The woman did part of her own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film develop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does the man feel about the new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is sa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is surpris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is happ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at does the man feel about the new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is sa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e is surpris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is happ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听力考试时应注意：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扫视选项，做好听前预猜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没听懂时的对策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注意听提出的问题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脑记与笔记相结合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试卷试题难易程度比例结构为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较易题：约占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6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中等题：约占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较难题：约占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Assignment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sten to English everyday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texts, English radio program, 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理解（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节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）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第一节：听对话及对话后的问题，从每题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B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三个选项中，选出能回答问题的最佳答案。每段对话读两遍。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此时你有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秒钟读题时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听第一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注意：问题在录音带上不在卷面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　　　停顿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２秒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重复听第一题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你有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秒钟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作答时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　　　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理解（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节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）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第二节：听下面四段对话独白，从每题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B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三个选项中，选出能回答问题的最佳答案。每段对话或独白读两遍。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此时每题你有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秒钟读题时间，每段对话共有三小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听第一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注意：问题在卷面上而不在录音带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　　　　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停顿２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重复听第一段你有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秒钟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作答时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　　　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听力与听力训练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１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听主要信息或重要细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２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听懂要点和中心意思，根据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题目做出合理判断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时间，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　　点，对话人的关系，身份等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３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听懂并理解其深层含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（谈话人的态度，意图等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jg</cp:lastModifiedBy>
  <dcterms:modified xsi:type="dcterms:W3CDTF">2003-06-24T23:34:20Z</dcterms:modified>
  <cp:revision>26</cp:revision>
  <dc:subject/>
  <dc:title>高二英语</dc:title>
</cp:coreProperties>
</file>