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614B-D208-4F3A-A44E-053CACCF1E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ECF-DD56-4010-BE58-2E77051C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94A-98D0-48E3-A0F8-D834D9E1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53F-AC8E-4795-BDB8-B15B8401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B17-813A-48E7-92FC-3C05328D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034E-2929-4432-978D-913293AC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5E80-CA09-4D9A-85B7-6EA0B8A9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9D7B-C0E6-423D-8721-570B850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38EF-0AB9-4899-BF09-11E63553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C126-D2FE-4CA4-B2DA-728D3F9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30C-0355-4F82-AEA8-73C4D282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7547-3918-4922-B0C1-C78DF025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DEA-7B54-4B60-9A96-69914819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1905-D468-40E1-96F0-445A9666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22CA-1CEC-4A9E-9733-FCD574C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07F7-F474-4E98-8A65-02F75F2B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A75D-696A-45AE-B06F-A9891C68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6454-13DD-4DCD-B505-13529AEA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9F5-F5C6-48AB-BA4B-C17E6B0E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6CD-62A5-4C45-827E-7EEDBA31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A9D-2CF6-42C3-92F1-4733954E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5D4-5A70-4E82-89C5-ED709530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C69-7FA4-46BF-A7C5-CFBF8067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314-EED8-4032-BC27-03ABA25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13A-182E-47C7-B4AA-EC1CD17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7CF5-6621-4350-A932-C98BEFDCF9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E0DE-10D4-4468-B996-CD5EF2E5746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--What is your answer to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will give you ____ honest answ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I’m fighting for ____ end to slav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; a                 B. an; a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a; an               D. an;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--What is your answer to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will give you ____ honest answ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I’m fighting for ____ end to slav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; a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n; 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a; an               D. an;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He was not happy at the new schoo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t first. He had ____ friends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few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an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D. 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He was not happy at the new schoo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t first. He had ____ friends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few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an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D. 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6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— You can speak Japanese, _____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—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at’s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r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B. hav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o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D. ca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6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— You can speak Japanese, _____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—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at’s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r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B. hav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o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ca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A new school _____ in this area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our city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B. bui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ill be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D. has been b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A new school _____ in this area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our city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B. bui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will be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D. has been b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8. “Help ____ to some meat an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vegetables, please. To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yself              B. himself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yourself            D. themsel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8. “Help ____ to some meat an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vegetables, please. To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yself              B. himself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yourself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D. themsel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单项填空测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难题解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9. All the people ____ work on a newspaper must be able to work f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wh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whos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9. All the people ____ work on a newspaper must be able to work f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wh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whos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. Last week I bought a story book ______ by Mark Tw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rit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writt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rit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to wr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. Last week I bought a story book ______ by Mark Tw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rit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writt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rit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to wr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1. We should keep on ______ English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ven after we leave scho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tud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tud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tudy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D.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1. We should keep on ______ English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ven after we leave scho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tud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tud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tudy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D.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2. --- Would you mind calling 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ck tomorrow ag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Not at all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You’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You’re ri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Nice to meet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2. --- Would you mind calling 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ck tomorrow ag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. Not at all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You’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You’re ri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Nice to meet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14479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r. Black _______ us English si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e came here in 1990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s teachi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each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has taugh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taught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66680" y="14479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r. Black _______ us English si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e came here in 1990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s teachi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each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has tau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taught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单项填空测试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单项填空主要测试考生对基础语法，常用词汇，短语，习语和日常交际用语等知识的识记，识别，理解能力，并测试考生对上述知识的运用能力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90720" y="9907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4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 we get to the theatre bef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7:0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No, you _______. The play beg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t 8: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ca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o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needn'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90720" y="9907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4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 we get to the theatre bef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7:0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No, you _______. The play beg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t 8: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ca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o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D. needn'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9072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The policeman warned the boys ____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play football on the str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d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not t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9072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The policeman warned the boys ____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play football on the str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d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D. not t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90720" y="1066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6. We _______up by an alarm c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every morning, so we are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late for cla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ak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e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D. w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90720" y="1066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6. We _______up by an alarm c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every morning, so we are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late for cla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ak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are wok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e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D. w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7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fter a careful examination, Docto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Johnson asked me what _______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 breakfast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had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have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 had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I have had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7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fter a careful examination, Docto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Johnson asked me what _______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 breakfast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had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have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I had h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I have had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. _______ the heavy rain, they had to 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stop the basketball match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In the hope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. Because of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C. In need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 Instead of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. _______ the heavy rain, they had to 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stop the basketball match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In the hope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. Because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C. In need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 Instead of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较易题和中等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---Is that Ja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Yes. Let’s go and say hello to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B. 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D.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9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I'm sorry I broke your coffee c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Oh, really? 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t doesn't matter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I don't kn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t’s OK with me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You’re wel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9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I'm sorry I broke your coffee c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Oh, really? 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It doesn't matte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I don't kn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t’s OK with me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You’re wel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. The _____ you practise spoke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nglish, the better you can spe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u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man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m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. The _____ you practise spoke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nglish, the better you can spe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u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man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m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1. Lily’s TV set is broken. She is going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o get it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repai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repair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repair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rep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1. Lily’s TV set is broken. She is going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o get it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repai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repair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repair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rep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236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2. Ben will remember the happy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ays in China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efore long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for ev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once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as a resul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7236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2. Ben will remember the happy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ays in China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efore long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for ev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once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as a resul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3. Would you like a cup of tea 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hall we get down to busin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ight aw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nd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ut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3. Would you like a cup of tea 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hall we get down to busin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ight aw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nd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o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ut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较易题和中等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---Is that Ja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Yes. Let’s go and say hello to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D.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4. Corn is a useful plant ____ can b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aten by both people and anima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ho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B. wha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4. Corn is a useful plant ____ can b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aten by both people and anima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ho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B. wha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. whi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5. I’m sorry I’m a bit late. However,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ot here ____ fast ____ I coul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ore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much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5. I’m sorry I’m a bit late. However,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ot here ____ fast ____ I coul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ore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much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as;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6. The IBM Pentium III is not 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xpensive ____ the IBM Pentium I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as; s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th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th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6. The IBM Pentium III is not 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xpensive ____ the IBM Pentium I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as; s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th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th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7. ---Don’t forget to post the lett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ill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ave already posted   B. would post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ad already posted     D. was po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7. ---Don’t forget to post the lett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ill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have already post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would post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ad already posted     D. was po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8. ____ I prefer  a color TV, I have decided to buy a black and white one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ince                 B. Although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ecause       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8. ____ I prefer  a color TV, I have decided to buy a black and white one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ince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lthoug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ecause       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The Browns are changing ____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furni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is                 B. him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m              D.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9. If people don’t stop ____ the seas an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vers, there will be no fish lef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o pollute         B. poll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polluted            D. poll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9. If people don’t stop ____ the seas an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vers, there will be no fish lef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o pollute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poll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polluted            D. poll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30. ---Can I have a look at your newspap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A.  Sure. Go ahe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. That’s very ki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o, thank you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ood! See you t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30. ---Can I have a look at your newspap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. Sure. Go ahe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. That’s very ki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o, thank you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ood! See you t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较难题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His daughter is always shy in ____ and she never dares to make a speech to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较难题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 His daughter is always shy in ____ and she never dares to make a speech to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he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the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Rose was wild with joy ____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esult of the examin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     B. at      C. by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Rose was wild with joy ____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esult of the examin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C. by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 A bullet hit the soldier and he wa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ounded in ____ le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      B. one     C. the     D. 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 A bullet hit the soldier and he wa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ounded in ____ le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      B. one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t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D. 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The Browns are changing ____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furni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is                 B. him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m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I really appreciate ____ to relax with you on this nice is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have ha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have tim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to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I really appreciate ____ to relax with you on this nice is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have ha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have tim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to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---I didn’t know this was a one-way street, offic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at’s all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I don’t believe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ow dare you say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rry, but that’s no exc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---I didn’t know this was a one-way street, offic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at’s all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I don’t believe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ow dare you say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Sorry, but that’s no exc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6. ---Why haven’t you bought any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u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to but I forgo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liked            B. wis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eant          D. expec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6. ---Why haven’t you bought any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u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to but I forgo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liked            B. wis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mean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D. expec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____ such heavy pollution already, it may now be too late to clean up the riv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aving suffere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uff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s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uff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____ such heavy pollution already, it may now be too late to clean up the riv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Having suffe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uff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s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uff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8. The house needn’t 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clean                B. clea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 be cleaned       D. clea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8.The house needn’t 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clean                B. clea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  be clean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D. clea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Every year, _____ smokers die from illness caused by smok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millions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million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million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. During the discussion, we talked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 with the foreign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friendly         B. liv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orderly          D. polite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. During the discussion, we talk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 with the foreign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friendly         B. liv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orderly   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. polite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---Can you come on Monday o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ues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’m afraid ____ day is possi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ither            B. neither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ome             D. 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---Can you come on Monday o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ues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’m afraid ____ day is possi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ither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 nei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ome             D. 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---I wonder if you will go to the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c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f you do, so ____ 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m                 B. 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ay                D.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---I wonder if you will go to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c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f you do, so ____ 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m                 B. 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ay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D.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2.---Didn’t you watch the football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tch yester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____. I would like to have see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es, I did         B. No, I didn’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Yes, I didn’t     D. No, I d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2.---Didn’t you watch the football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tch yester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____. I would like to have see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es, I did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 No, I didn’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Yes, I didn’t     D. No, I d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I usually spend as much time  as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____ my less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prepare         B. to prep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preparing      D. have prepa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I usually spend as much time as I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n ____ my less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prepare         B. to prep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 prepar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D. have prepa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Every year, _____ smokers die from illness caused by smok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. millions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million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million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4. ---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4. ---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o I hav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5. 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.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5. 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.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So have I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opy these exercises o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www. bjedu.gov.c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Do them again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5T02:17:42Z</dcterms:modified>
  <cp:revision>23</cp:revision>
  <dc:subject/>
  <dc:title>高二英语</dc:title>
</cp:coreProperties>
</file>