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D21-94A2-4E27-931D-91029BC2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622-871A-46F0-B3C3-6221691C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00E-D88C-4655-9301-2A45095F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944-8CD7-4B9B-B083-DF6571DF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B10-5726-49E8-9D04-606576E5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0DED-629E-441F-81F9-625B8CB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FB3D-99C7-436E-B498-272AE96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E010-F1EC-4BB5-9E70-D2C25594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B656-8D84-4BB9-91D5-79868C66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3DFB-4D06-451C-8ADE-3376AE72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052-A274-4EB2-9509-F8F5B59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D7E-2F80-4F70-8BA0-7210E16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FCAC-4C66-4B68-AC95-3BF3DD3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F07D-08E1-4DE6-90FE-65B97F6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211-26B6-4C86-AF70-8898108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9CD9-D4A6-489D-A760-F22815E7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9015-29FC-45BC-A00A-1D6F8865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F88-AE76-41BF-A6BC-236A38AA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F3E-257F-4BEF-B996-6AF75AB6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4D7-E36E-4B22-A641-3700AB82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E6B-1C76-4896-82B0-76BCF946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4E0-C28E-4F44-BA5B-19A321E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FEE-F759-4908-AA26-37274A0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20F-3F18-4D62-A684-C531EE4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F8A-0730-4459-9D88-2E72084F60B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105-6A1F-4935-A62B-418E8956635D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9640" y="476280"/>
            <a:ext cx="8064360" cy="6119280"/>
            <a:chOff x="539640" y="476280"/>
            <a:chExt cx="8064360" cy="6119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579640" y="2419200"/>
              <a:ext cx="3024360" cy="41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9640" y="3858840"/>
              <a:ext cx="259236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132000" y="476280"/>
              <a:ext cx="251928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3132000" y="2491920"/>
              <a:ext cx="24476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"/>
            <a:stretch/>
          </p:blipFill>
          <p:spPr>
            <a:xfrm>
              <a:off x="3132000" y="3931920"/>
              <a:ext cx="24476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>
              <a:off x="5579640" y="476280"/>
              <a:ext cx="302292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539640" y="476280"/>
              <a:ext cx="2592360" cy="33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667640" y="6093000"/>
            <a:ext cx="1042920" cy="35856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2785" h="21600">
                <a:moveTo>
                  <a:pt x="0" y="0"/>
                </a:moveTo>
                <a:lnTo>
                  <a:pt x="62785" y="0"/>
                </a:lnTo>
                <a:lnTo>
                  <a:pt x="62785" y="21600"/>
                </a:lnTo>
                <a:lnTo>
                  <a:pt x="0" y="21600"/>
                </a:lnTo>
                <a:close/>
              </a:path>
              <a:path fill="lightenLess" w="62785" h="21600">
                <a:moveTo>
                  <a:pt x="0" y="0"/>
                </a:moveTo>
                <a:lnTo>
                  <a:pt x="62785" y="0"/>
                </a:lnTo>
                <a:lnTo>
                  <a:pt x="61385" y="1400"/>
                </a:lnTo>
                <a:lnTo>
                  <a:pt x="1400" y="1400"/>
                </a:lnTo>
                <a:close/>
              </a:path>
              <a:path fill="darken" w="62785" h="21600">
                <a:moveTo>
                  <a:pt x="62785" y="0"/>
                </a:moveTo>
                <a:lnTo>
                  <a:pt x="62785" y="21600"/>
                </a:lnTo>
                <a:lnTo>
                  <a:pt x="61385" y="20200"/>
                </a:lnTo>
                <a:lnTo>
                  <a:pt x="61385" y="1400"/>
                </a:lnTo>
                <a:close/>
              </a:path>
              <a:path fill="darkenLess" w="62785" h="21600">
                <a:moveTo>
                  <a:pt x="62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385" y="20200"/>
                </a:lnTo>
                <a:close/>
              </a:path>
              <a:path fill="lighten" w="62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785" h="21600">
                <a:moveTo>
                  <a:pt x="24386" y="7493"/>
                </a:moveTo>
                <a:lnTo>
                  <a:pt x="27894" y="7493"/>
                </a:lnTo>
                <a:lnTo>
                  <a:pt x="27894" y="12828"/>
                </a:lnTo>
                <a:cubicBezTo>
                  <a:pt x="27894" y="13751"/>
                  <a:pt x="28694" y="14482"/>
                  <a:pt x="29730" y="14482"/>
                </a:cubicBezTo>
                <a:lnTo>
                  <a:pt x="31393" y="14482"/>
                </a:lnTo>
                <a:cubicBezTo>
                  <a:pt x="32428" y="14482"/>
                  <a:pt x="33229" y="13751"/>
                  <a:pt x="33229" y="12828"/>
                </a:cubicBezTo>
                <a:lnTo>
                  <a:pt x="33229" y="7493"/>
                </a:lnTo>
                <a:lnTo>
                  <a:pt x="31393" y="7493"/>
                </a:lnTo>
                <a:lnTo>
                  <a:pt x="34900" y="3985"/>
                </a:lnTo>
                <a:lnTo>
                  <a:pt x="38573" y="7493"/>
                </a:lnTo>
                <a:lnTo>
                  <a:pt x="36737" y="7493"/>
                </a:lnTo>
                <a:lnTo>
                  <a:pt x="36737" y="12828"/>
                </a:lnTo>
                <a:cubicBezTo>
                  <a:pt x="36737" y="15596"/>
                  <a:pt x="34160" y="18155"/>
                  <a:pt x="31393" y="18155"/>
                </a:cubicBezTo>
                <a:lnTo>
                  <a:pt x="29730" y="18155"/>
                </a:lnTo>
                <a:cubicBezTo>
                  <a:pt x="26962" y="18155"/>
                  <a:pt x="24386" y="15596"/>
                  <a:pt x="24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4:29Z</dcterms:created>
  <dc:creator>Legend User</dc:creator>
  <dc:description/>
  <dc:language>en-US</dc:language>
  <cp:lastModifiedBy>Legend User</cp:lastModifiedBy>
  <dcterms:modified xsi:type="dcterms:W3CDTF">2002-12-01T06:36:23Z</dcterms:modified>
  <cp:revision>2</cp:revision>
  <dc:subject/>
  <dc:title>幻灯片 1</dc:title>
</cp:coreProperties>
</file>