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E906-716F-4BFF-9D56-9BDF5492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466B-C19F-4390-8491-F7F9C26B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70A1-E9E4-42C2-A1DC-01B8D9EC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76C0-BFD5-4AAA-974C-51175C27A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CDDC3-9240-46C7-8CB4-40E38AE4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3C8A2-9585-416C-AB50-E6697A90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8ED49-3980-4135-A513-03F8FD98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42DA9-24B6-4A06-AC3C-0F3100E5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90D37-A5C0-4863-ADDA-86E47B61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2694B-4991-4806-922C-81621973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C5A07-6637-48D9-8C05-2FBFDAAD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2557-0B55-493F-BC26-D94FF153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9AAE8-5899-4700-B9B9-74784991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431E3-E312-4BA2-9E13-FF530880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8A092-9FA7-4F3C-9709-D502AA98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306AE-95C1-4962-8C4F-46C82BF2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1ED8B-96E2-4A20-B14E-8840557A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C7B7-FC97-40F7-995B-061C99CF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8867-861D-42A4-95AC-62F42CF0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4668-77DF-4E35-98B0-E8C109DA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EBB0-B8B1-4A0F-89E0-AB9B27C5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79BE-EFD0-4B2C-B7F2-35A9F254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1FE1-59CD-4172-988D-8C92C7FB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CBBD-D511-4247-A44E-F9502675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328D-6508-47CD-9A5F-B9583935587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D748-A30A-4629-94B0-DFCFB38D1F3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" action="ppaction://hlinkshowjump?jump=endshow"/>
          </p:cNvPr>
          <p:cNvSpPr/>
          <p:nvPr/>
        </p:nvSpPr>
        <p:spPr>
          <a:xfrm>
            <a:off x="7667640" y="5877000"/>
            <a:ext cx="1042920" cy="393480"/>
          </a:xfrm>
          <a:custGeom>
            <a:avLst/>
            <a:gdLst>
              <a:gd name="textAreaLeft" fmla="*/ 25200 w 1042920"/>
              <a:gd name="textAreaRight" fmla="*/ 1017720 w 1042920"/>
              <a:gd name="textAreaTop" fmla="*/ 25200 h 393480"/>
              <a:gd name="textAreaBottom" fmla="*/ 368280 h 393480"/>
            </a:gdLst>
            <a:ahLst/>
            <a:rect l="textAreaLeft" t="textAreaTop" r="textAreaRight" b="textAreaBottom"/>
            <a:pathLst>
              <a:path w="57218" h="21600">
                <a:moveTo>
                  <a:pt x="0" y="0"/>
                </a:moveTo>
                <a:lnTo>
                  <a:pt x="57218" y="0"/>
                </a:lnTo>
                <a:lnTo>
                  <a:pt x="57218" y="21600"/>
                </a:lnTo>
                <a:lnTo>
                  <a:pt x="0" y="21600"/>
                </a:lnTo>
                <a:close/>
              </a:path>
              <a:path fill="lightenLess" w="57218" h="21600">
                <a:moveTo>
                  <a:pt x="0" y="0"/>
                </a:moveTo>
                <a:lnTo>
                  <a:pt x="57218" y="0"/>
                </a:lnTo>
                <a:lnTo>
                  <a:pt x="55818" y="1400"/>
                </a:lnTo>
                <a:lnTo>
                  <a:pt x="1400" y="1400"/>
                </a:lnTo>
                <a:close/>
              </a:path>
              <a:path fill="darken" w="57218" h="21600">
                <a:moveTo>
                  <a:pt x="57218" y="0"/>
                </a:moveTo>
                <a:lnTo>
                  <a:pt x="57218" y="21600"/>
                </a:lnTo>
                <a:lnTo>
                  <a:pt x="55818" y="20200"/>
                </a:lnTo>
                <a:lnTo>
                  <a:pt x="55818" y="1400"/>
                </a:lnTo>
                <a:close/>
              </a:path>
              <a:path fill="darkenLess" w="57218" h="21600">
                <a:moveTo>
                  <a:pt x="57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818" y="20200"/>
                </a:lnTo>
                <a:close/>
              </a:path>
              <a:path fill="lighten" w="57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218" h="21600">
                <a:moveTo>
                  <a:pt x="21603" y="7493"/>
                </a:moveTo>
                <a:lnTo>
                  <a:pt x="25110" y="7493"/>
                </a:lnTo>
                <a:lnTo>
                  <a:pt x="25110" y="12828"/>
                </a:lnTo>
                <a:cubicBezTo>
                  <a:pt x="25110" y="13751"/>
                  <a:pt x="25911" y="14482"/>
                  <a:pt x="26947" y="14482"/>
                </a:cubicBezTo>
                <a:lnTo>
                  <a:pt x="28609" y="14482"/>
                </a:lnTo>
                <a:cubicBezTo>
                  <a:pt x="29645" y="14482"/>
                  <a:pt x="30446" y="13751"/>
                  <a:pt x="30446" y="12828"/>
                </a:cubicBezTo>
                <a:lnTo>
                  <a:pt x="30446" y="7493"/>
                </a:lnTo>
                <a:lnTo>
                  <a:pt x="28609" y="7493"/>
                </a:lnTo>
                <a:lnTo>
                  <a:pt x="32117" y="3985"/>
                </a:lnTo>
                <a:lnTo>
                  <a:pt x="35790" y="7493"/>
                </a:lnTo>
                <a:lnTo>
                  <a:pt x="33953" y="7493"/>
                </a:lnTo>
                <a:lnTo>
                  <a:pt x="33953" y="12828"/>
                </a:lnTo>
                <a:cubicBezTo>
                  <a:pt x="33953" y="15596"/>
                  <a:pt x="31377" y="18155"/>
                  <a:pt x="28609" y="18155"/>
                </a:cubicBezTo>
                <a:lnTo>
                  <a:pt x="26947" y="18155"/>
                </a:lnTo>
                <a:cubicBezTo>
                  <a:pt x="24179" y="18155"/>
                  <a:pt x="21603" y="15596"/>
                  <a:pt x="21603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06:12:51Z</dcterms:created>
  <dc:creator>Legend User</dc:creator>
  <dc:description/>
  <dc:language>en-US</dc:language>
  <cp:lastModifiedBy>Legend User</cp:lastModifiedBy>
  <dcterms:modified xsi:type="dcterms:W3CDTF">2002-12-03T13:01:07Z</dcterms:modified>
  <cp:revision>2</cp:revision>
  <dc:subject/>
  <dc:title>幻灯片 1</dc:title>
</cp:coreProperties>
</file>