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47EF-0EC9-49FE-AE44-9418925BD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7B59-4684-4697-A71A-22E5B895B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2AC8-2F24-4DC4-AAAF-03CD99090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5CEF-A742-415A-B340-866ECAA4B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6A4AD-F907-404C-AEA5-C0B5299EF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1FE16-AF1E-4563-BA5D-A651F7A2B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74E7D-0334-41E2-82CE-724EE6F66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D64A2-08C6-46A4-B059-166D9D4D2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5E421-7855-43F1-AFA9-AD43E8F97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B0B10-031C-4772-A734-FF50A48EA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EFE6C-2950-4900-8853-B4E26C3F0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E06A-4505-4E28-9D3B-0A0A38A9F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407D7-7E98-45AE-A8DF-A5084AEB0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2B3DA-9A54-4E4A-BC3C-2149C3C6D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C4D54-6676-4C6D-9D9E-7BDE0EF51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1F0A5-15D6-4400-94C4-000A19037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DA2A0-23F8-4EF2-9A2D-4DEE70F32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BC190F-E7FD-40DB-A6D9-C7115B44D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137A54-D555-41CE-B89D-920715CFE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CA5227-BDE8-4EE4-9219-80BF70658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E54A8E-9321-41DD-ADBC-C666D2B28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7C9976-B0E5-42EA-86D7-2C92EA8E3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D8CB-31E7-4F93-ACBD-0314877A1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7F88B8-934A-4560-9CDE-59077A8AD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F521E8-A0B0-4CE7-A546-4E56213EA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1DEC2E-B6B3-45F5-8D2E-CBA0EC8DB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6CC5D5-03DC-48AF-8D36-476F08D65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D00657-A207-42B5-BC49-0DE432F0A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049C6C-E990-4B0D-9737-072D56ECA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958723-5602-4612-9D58-DE24FAC0D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36719B-D2DA-4F48-9827-78AB1FCDD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EEAD05-3AD5-4896-B892-F2F96D398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37B7AE-80B6-499A-9C3F-2F3525AB6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7A74-2863-448B-ABC9-0A5AEF61A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AB6D68-E142-4A4C-9D98-87266CAB6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8522AB-FFB8-4AEE-98BD-607FEE89C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68AD24-52F6-4C0B-ACE4-0774848AD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6D96D1-E13F-4D59-AB4E-303EC6629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8F2365-2D64-496A-87B2-84FCCB85E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476F48-FFC5-4BAD-AF78-6ADC062B8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11CE8E-0981-4BC1-9761-C6F474A3C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5012C3-FBA2-4E21-9B10-680886322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3F647D-1EDD-4E8E-8291-7BC74A5E5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5129-16A8-4548-B2BF-13097CB54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94A9-887A-447E-8E52-362F51481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1A81-3367-4EE7-8709-F9AABB36E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C51D-7D0B-49BB-B044-EB042A605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9D3D-9F97-463C-908B-F58357D42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05280" y="4680"/>
            <a:ext cx="17538120" cy="27381240"/>
            <a:chOff x="-8405280" y="4680"/>
            <a:chExt cx="17538120" cy="273812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05280" y="4680"/>
              <a:ext cx="773094112920" cy="27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0"/>
                </a:path>
              </a:pathLst>
            </a:custGeom>
            <a:noFill/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EA5AA-5C19-482B-AA48-39F74FEC2F4F}" type="slidenum"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93752280" y="1463760"/>
            <a:ext cx="171988200" cy="21589560"/>
            <a:chOff x="-93752280" y="1463760"/>
            <a:chExt cx="171988200" cy="2158956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93752280" y="1463760"/>
              <a:ext cx="171988200" cy="215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"/>
                </a:path>
              </a:pathLst>
            </a:custGeom>
            <a:noFill/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DA55E-B292-47C6-8FD8-E2CC4ADF656A}" type="slidenum">
              <a: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CD292-6E0A-499D-9028-B2511724AAD9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dt" idx="10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ftr" idx="11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sldNum" idx="1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74591-1FFB-4C37-8EC7-F579A5990889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8000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258920" y="2060640"/>
            <a:ext cx="657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What would you like to eat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917080" y="4005360"/>
            <a:ext cx="2741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黑体"/>
              </a:rPr>
              <a:t>你想吃点什么？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879480" y="2090880"/>
            <a:ext cx="6716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What dishes would you like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866680" y="3933720"/>
            <a:ext cx="237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黑体"/>
              </a:rPr>
              <a:t>你要什么菜？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66760" y="2019240"/>
            <a:ext cx="5710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Do you want any soup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030480" y="3860640"/>
            <a:ext cx="200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黑体"/>
              </a:rPr>
              <a:t>你要汤吗？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395280" y="1844640"/>
            <a:ext cx="799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What kind do fish do you prefer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917080" y="4005360"/>
            <a:ext cx="2741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黑体"/>
              </a:rPr>
              <a:t>你想要哪种鱼？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900000" y="2060640"/>
            <a:ext cx="7632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Do you want it now or after supper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495520" y="4076640"/>
            <a:ext cx="383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黑体"/>
              </a:rPr>
              <a:t>你现在要还是饭后要？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2736720" cy="209088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3492360" y="836640"/>
            <a:ext cx="2737080" cy="20876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684360" y="3141720"/>
            <a:ext cx="2663640" cy="224136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4"/>
          <a:stretch/>
        </p:blipFill>
        <p:spPr>
          <a:xfrm>
            <a:off x="3419640" y="3068640"/>
            <a:ext cx="2736720" cy="230364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5"/>
          <a:stretch/>
        </p:blipFill>
        <p:spPr>
          <a:xfrm>
            <a:off x="6300720" y="1727280"/>
            <a:ext cx="2340000" cy="2781360"/>
          </a:xfrm>
          <a:prstGeom prst="rect">
            <a:avLst/>
          </a:prstGeom>
          <a:ln w="0">
            <a:noFill/>
          </a:ln>
        </p:spPr>
      </p:pic>
      <p:sp>
        <p:nvSpPr>
          <p:cNvPr id="187" name="">
            <a:hlinkClick r:id="" action="ppaction://hlinkshowjump?jump=endshow"/>
          </p:cNvPr>
          <p:cNvSpPr/>
          <p:nvPr/>
        </p:nvSpPr>
        <p:spPr>
          <a:xfrm>
            <a:off x="7667640" y="5877000"/>
            <a:ext cx="1042920" cy="393480"/>
          </a:xfrm>
          <a:custGeom>
            <a:avLst/>
            <a:gdLst>
              <a:gd name="textAreaLeft" fmla="*/ 25200 w 1042920"/>
              <a:gd name="textAreaRight" fmla="*/ 1017720 w 1042920"/>
              <a:gd name="textAreaTop" fmla="*/ 25200 h 393480"/>
              <a:gd name="textAreaBottom" fmla="*/ 368280 h 393480"/>
            </a:gdLst>
            <a:ahLst/>
            <a:rect l="textAreaLeft" t="textAreaTop" r="textAreaRight" b="textAreaBottom"/>
            <a:pathLst>
              <a:path w="57218" h="21600">
                <a:moveTo>
                  <a:pt x="0" y="0"/>
                </a:moveTo>
                <a:lnTo>
                  <a:pt x="57218" y="0"/>
                </a:lnTo>
                <a:lnTo>
                  <a:pt x="57218" y="21600"/>
                </a:lnTo>
                <a:lnTo>
                  <a:pt x="0" y="21600"/>
                </a:lnTo>
                <a:close/>
              </a:path>
              <a:path fill="lightenLess" w="57218" h="21600">
                <a:moveTo>
                  <a:pt x="0" y="0"/>
                </a:moveTo>
                <a:lnTo>
                  <a:pt x="57218" y="0"/>
                </a:lnTo>
                <a:lnTo>
                  <a:pt x="55818" y="1400"/>
                </a:lnTo>
                <a:lnTo>
                  <a:pt x="1400" y="1400"/>
                </a:lnTo>
                <a:close/>
              </a:path>
              <a:path fill="darken" w="57218" h="21600">
                <a:moveTo>
                  <a:pt x="57218" y="0"/>
                </a:moveTo>
                <a:lnTo>
                  <a:pt x="57218" y="21600"/>
                </a:lnTo>
                <a:lnTo>
                  <a:pt x="55818" y="20200"/>
                </a:lnTo>
                <a:lnTo>
                  <a:pt x="55818" y="1400"/>
                </a:lnTo>
                <a:close/>
              </a:path>
              <a:path fill="darkenLess" w="57218" h="21600">
                <a:moveTo>
                  <a:pt x="572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818" y="20200"/>
                </a:lnTo>
                <a:close/>
              </a:path>
              <a:path fill="lighten" w="572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218" h="21600">
                <a:moveTo>
                  <a:pt x="21603" y="7493"/>
                </a:moveTo>
                <a:lnTo>
                  <a:pt x="25110" y="7493"/>
                </a:lnTo>
                <a:lnTo>
                  <a:pt x="25110" y="12828"/>
                </a:lnTo>
                <a:cubicBezTo>
                  <a:pt x="25110" y="13751"/>
                  <a:pt x="25911" y="14482"/>
                  <a:pt x="26947" y="14482"/>
                </a:cubicBezTo>
                <a:lnTo>
                  <a:pt x="28609" y="14482"/>
                </a:lnTo>
                <a:cubicBezTo>
                  <a:pt x="29645" y="14482"/>
                  <a:pt x="30446" y="13751"/>
                  <a:pt x="30446" y="12828"/>
                </a:cubicBezTo>
                <a:lnTo>
                  <a:pt x="30446" y="7493"/>
                </a:lnTo>
                <a:lnTo>
                  <a:pt x="28609" y="7493"/>
                </a:lnTo>
                <a:lnTo>
                  <a:pt x="32117" y="3985"/>
                </a:lnTo>
                <a:lnTo>
                  <a:pt x="35790" y="7493"/>
                </a:lnTo>
                <a:lnTo>
                  <a:pt x="33953" y="7493"/>
                </a:lnTo>
                <a:lnTo>
                  <a:pt x="33953" y="12828"/>
                </a:lnTo>
                <a:cubicBezTo>
                  <a:pt x="33953" y="15596"/>
                  <a:pt x="31377" y="18155"/>
                  <a:pt x="28609" y="18155"/>
                </a:cubicBezTo>
                <a:lnTo>
                  <a:pt x="26947" y="18155"/>
                </a:lnTo>
                <a:cubicBezTo>
                  <a:pt x="24179" y="18155"/>
                  <a:pt x="21603" y="15596"/>
                  <a:pt x="21603" y="12828"/>
                </a:cubicBezTo>
                <a:close/>
              </a:path>
            </a:pathLst>
          </a:cu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1T06:16:30Z</dcterms:created>
  <dc:creator>Legend User</dc:creator>
  <dc:description/>
  <dc:language>en-US</dc:language>
  <cp:lastModifiedBy>Legend User</cp:lastModifiedBy>
  <dcterms:modified xsi:type="dcterms:W3CDTF">2002-12-03T13:05:41Z</dcterms:modified>
  <cp:revision>10</cp:revision>
  <dc:subject/>
  <dc:title>幻灯片 1</dc:title>
</cp:coreProperties>
</file>