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6F4-57B1-4D19-9EC4-B1EA1C81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EEE-EF97-438F-9557-C3127161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5DC-91A8-44D9-88F4-F43E4372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51B-5285-42C9-8D04-2E01AA47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3E0FE-D4A5-4196-877F-E0EE4C7B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94638-4A7D-45E8-8B42-55DF937B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555F2-EBD5-4E93-8B73-18547B17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11DF6-3AE7-4903-AA05-CB518755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43AC7-B550-454E-A871-37DAF068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AD726-FD4B-4697-8ACA-98C447B5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3B41D-3B26-40EC-86BA-DBA62218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0F5-68C6-46FE-A915-0C000385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45E82-9169-430D-8891-DD570BFF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8FF3B-B687-4941-A9F4-E8DBACE6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7DA75-F233-4193-85F4-9C70131C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FF7C4-91CB-4B9D-B6C4-EDA80577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F6FD7-01CD-40BE-B7C7-7725329E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DC3F7-9FA2-46C9-8383-859EDF22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9E2A5-3243-4581-8560-24382897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F38F6-F567-4CC5-A232-12B37EB0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131DC-74A6-42FB-8BC4-E77D0531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8673-4C37-4345-B05B-EB3CFA8C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BA4-826C-4ACC-ABA1-9E0B541F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889D-BD45-4BC6-A64B-45E393D5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04795-2340-4257-B660-1A6DD559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E8AA7-183A-4032-9D37-3BCF393F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4737A-37F4-4C01-9EAA-3526C9B9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2E7D-6155-44A0-8489-511AF3CF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F9CC4-2E38-432B-95EC-F4048179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708AE-7330-49A2-9C05-F2CDF09F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A0E3F-D5E6-459D-BA8F-1503C05D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621F4-C078-4928-A7F5-A548DB94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F718E-2E0C-4A8A-BBDE-4AAA725B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8D1-3B9E-4453-BF0B-6D6C8DF8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598B0-709E-4ED9-AD23-0BF112C0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CD8CE-2320-41DE-9DAD-B30056BA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3B576-5ABF-4D20-BA71-B5C4539B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A56E-966B-4AEF-86A4-BAB25B3B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C3E98-0CDF-428C-B296-AB2BA46B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9A9C4-A455-43E3-ABE8-8D806E24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52474-1C61-4667-8891-D0F5367F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4C1E5-1021-4F4A-AE97-3FF7A1E4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321BB-D62D-4D5F-9142-B8D47EBD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9B6-1749-4C29-8FBD-C867F96F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404-3AA0-4A6E-B70B-47E93153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615-718F-4939-8219-8894F8DB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8A2-7B64-42D2-8064-F12D7A8E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700-D964-421B-8EB4-2EB186C1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42C2-2E9E-4173-B1C0-3A0B23D670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6FAB-1396-4607-8FB0-E11E537CD3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8B06-7250-4209-89CB-5717F468BDE4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764E-246F-4851-BCEA-A68ABB4EA767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11280" y="1197000"/>
            <a:ext cx="741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would you say when you want your friends to eat mor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55640" y="3933720"/>
            <a:ext cx="7920000" cy="1556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Would  you  like  another (some)…… 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55640" y="907920"/>
            <a:ext cx="671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would you say when you want your friends to eat other thing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18800" y="4292640"/>
            <a:ext cx="4091400" cy="8251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How about…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11280" y="1197000"/>
            <a:ext cx="758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would you say when you want to offer some foo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593720" y="4076640"/>
            <a:ext cx="5199120" cy="8251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Let me give you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4360" y="1989000"/>
            <a:ext cx="79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If    you  are   guest, what  would  you  say?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89080" y="22334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en  you  want  to eat 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you say__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916360" y="2852640"/>
            <a:ext cx="52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“</a:t>
            </a: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yes, please.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816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8360" y="2349360"/>
            <a:ext cx="838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en  you  just want to taste, you say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__________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42800" y="3716280"/>
            <a:ext cx="625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“</a:t>
            </a: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Just a little, please.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24000" y="105264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en  you  don’t  want  to  eat anything, you say (1)_________________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(2)__________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258920" y="3213000"/>
            <a:ext cx="78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No , thanks .I’ve had  enough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01000" y="4653000"/>
            <a:ext cx="607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I’ m  full, thank  you</a:t>
            </a: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2195640" y="2133720"/>
            <a:ext cx="42480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Thanks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6:18:30Z</dcterms:created>
  <dc:creator>Legend User</dc:creator>
  <dc:description/>
  <dc:language>en-US</dc:language>
  <cp:lastModifiedBy>Legend User</cp:lastModifiedBy>
  <dcterms:modified xsi:type="dcterms:W3CDTF">2002-12-01T06:37:35Z</dcterms:modified>
  <cp:revision>4</cp:revision>
  <dc:subject/>
  <dc:title>幻灯片 1</dc:title>
</cp:coreProperties>
</file>