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A3C-0155-4863-9F44-4FA587BC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E0B-573C-48C9-9409-B8D7FBD4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85B-12E6-41DE-A4FA-83341EA5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771-CD3A-48B2-BCA0-A4FCD78E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5523-C86E-4C5E-A4E7-9C779B10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850A-EB4B-4C94-AA46-CC5E24E1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68E1-99FA-44EC-984F-69A91D1C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B253-F4CA-4F10-8DBD-498584AF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1864-0204-413A-A665-F22E00D0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582E-8D46-41F3-B189-6D7708EC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0D67-085F-4D15-91A3-2A781FC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A7B-0C3E-4EE8-A174-A104CAC2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7B15-5AEF-4828-935B-81EB876D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A456-54B7-4FDB-9866-9CB8867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62B9-24FB-4FA7-AF64-74B97634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7925-2F99-49AD-9412-3C45F6FF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1FE5-C2FC-41B0-94D6-1CF41F22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13FCD-FEE7-45BF-8A5D-1D91056C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89F8-13CC-4007-BB86-64306A11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9506-C1F8-4B2A-A680-61F0EB20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F8328-88B1-44F9-AAAD-9298212B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0911-6FF1-4282-B128-69CC71D0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998-B0B9-46AD-B132-CC201240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D5CA-B2E6-42CF-AC01-486CA07D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C1E0-C5A0-4174-A87B-A8791BB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2E5D-A240-4BAD-BE43-964F1F2B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3C6F-848F-4F95-A806-362C827E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563B-1DE1-41E9-87A0-BFFD7896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90FB-E424-48FD-81A1-900B8508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D3CC-EE10-4AC6-BE55-3DF68B81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68761-A6B1-491A-9767-24F6C1A5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FC539D-0901-4123-9FFC-B497EC22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3F8BD-6D01-430C-925F-E94626E4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3B7-9DC1-4080-A342-9E35CDEA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7743D-62C9-4C1A-BFC5-B17349F8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CB8DE-3F5A-4323-A7AC-9AF0CC5A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97D2AC-BB0E-4C99-824C-CB2B2CF7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C296B-1265-481A-A1C1-B70977F1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5141B-6DF2-4A1C-B93E-F9DD476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159D2-C7E6-4D3D-BA67-E79B7E40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2630E-E518-4EF4-95AC-C15EC341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FC432-2CD7-4843-8B99-88D504CC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E0B3F-A860-4414-869A-35C1271A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C8C-1101-4B0D-8F4D-A5F797D1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687-2D28-439B-A4A9-E534C03A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C73-3BB4-451E-B782-C49CDAA7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D17-AF8C-4719-8BC1-065AD24F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1EE-76EA-457A-AAC3-80B09BC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A677-4E13-47DC-AFF4-BD455D5B3550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455E-9FD0-48C4-80B3-4CECE9A47ECE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B66E-B671-48D8-8329-62B39C49204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CBAD-6513-424A-9E02-F95AB3DBD2F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listening.ppt" TargetMode="External"/><Relationship Id="rId3" Type="http://schemas.openxmlformats.org/officeDocument/2006/relationships/hyperlink" Target="file:///listening.ppt" TargetMode="External"/><Relationship Id="rId4" Type="http://schemas.openxmlformats.org/officeDocument/2006/relationships/hyperlink" Target="file:///drills.ppt" TargetMode="External"/><Relationship Id="rId5" Type="http://schemas.openxmlformats.org/officeDocument/2006/relationships/hyperlink" Target="file:///practice.ppt" TargetMode="External"/><Relationship Id="rId6" Type="http://schemas.openxmlformats.org/officeDocument/2006/relationships/hyperlink" Target="file:///revision.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5688000" cy="3346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803600" y="4869000"/>
            <a:ext cx="510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</a:rPr>
              <a:t>Taking        Meals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7392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/>
          </p:cNvPr>
          <p:cNvSpPr/>
          <p:nvPr/>
        </p:nvSpPr>
        <p:spPr>
          <a:xfrm>
            <a:off x="5419800" y="569880"/>
            <a:ext cx="2552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1.Listening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>
            <a:hlinkClick r:id="rId3"/>
          </p:cNvPr>
          <p:cNvSpPr/>
          <p:nvPr/>
        </p:nvSpPr>
        <p:spPr>
          <a:xfrm>
            <a:off x="876600" y="2298600"/>
            <a:ext cx="244080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3.Reading</a:t>
            </a:r>
            <a:r>
              <a:rPr b="1" i="1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>
            <a:hlinkClick r:id="rId4"/>
          </p:cNvPr>
          <p:cNvSpPr/>
          <p:nvPr/>
        </p:nvSpPr>
        <p:spPr>
          <a:xfrm>
            <a:off x="3688200" y="1555920"/>
            <a:ext cx="1688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2.Drill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>
            <a:hlinkClick r:id="rId5"/>
          </p:cNvPr>
          <p:cNvSpPr/>
          <p:nvPr/>
        </p:nvSpPr>
        <p:spPr>
          <a:xfrm>
            <a:off x="968040" y="5084640"/>
            <a:ext cx="232488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4.Practic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">
            <a:hlinkClick r:id="rId6"/>
          </p:cNvPr>
          <p:cNvSpPr/>
          <p:nvPr/>
        </p:nvSpPr>
        <p:spPr>
          <a:xfrm>
            <a:off x="5354280" y="5587920"/>
            <a:ext cx="2363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5.Revisio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5:50:04Z</dcterms:created>
  <dc:creator>Legend User</dc:creator>
  <dc:description/>
  <dc:language>en-US</dc:language>
  <cp:lastModifiedBy>Legend User</cp:lastModifiedBy>
  <dcterms:modified xsi:type="dcterms:W3CDTF">2002-12-03T13:07:24Z</dcterms:modified>
  <cp:revision>8</cp:revision>
  <dc:subject/>
  <dc:title>幻灯片 1</dc:title>
</cp:coreProperties>
</file>