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27C-8D13-44B1-AA27-6A126A2D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D40-79EE-4F8C-8646-7B2927AE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800-F87F-43D0-8ED5-A6D19D0C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3B6-39ED-4034-B6D1-D07B1DAE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5ED2-F040-4284-A194-CF5FF62E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6DA6-8BD3-4C58-AFCF-DA34D555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A13D-9AA4-4274-ADFA-77BBC328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5B90-ABCB-410A-AA0A-59490AF4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A4F3-5549-44A7-9246-A7163B23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80B6-2BA9-41A2-BC50-7E2D006D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B1B6-155D-4958-B674-1AAE41C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65B-6381-443D-A8BE-8EB43F29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6C88-0626-4ADA-A3EF-4267BA2F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C27D-5161-4FE4-97E7-BA5CCFB9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4C39-DFC5-46E7-86AC-A399A95B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A2AF-E4DD-4A8E-A44E-4218F68B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5F51-3A00-48A1-B7E1-C8FEF412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80D-D915-462C-B1FE-DA33502F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B36-62C0-42BC-8CEE-3DBE2FDB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66C-3BA8-4F5C-98EB-D844A7E7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DF2-E85D-4DAB-8A1A-4376BD73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A06-46A3-4CCE-88C8-D55A87EF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6FB-9B72-4767-BD4D-FB0553B5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435-6659-42CD-8882-28D5B57C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0F28-8B18-4CC5-B4B1-882DBEAB988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B859-B036-4B82-8D7A-C3EC5D9F86D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高二英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会考复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李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北京西城外国语学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A. The weather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The weath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A. List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Listening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目的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会考试卷的结构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会考听力模拟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及听力训练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conductor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B. A conductor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42640" y="533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 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B. Blue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试卷结构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高中英语会考试卷由两卷组成：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  <a:ea typeface="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选择题，在答题纸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非选择题，在试卷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“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he felt being left out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3049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4. How did the girl deal with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She brought in three runs in a softball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4. How did the girl deal with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60948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 She felt being left out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9040" y="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14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ow did the girl deal with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he brought in three runs in 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oftball 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四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单项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完形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-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阅读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6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im lost his job because of hi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im spent much money in fin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im lost his job because of his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spent much money in finding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两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短文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书面表达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0666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e woman had a photo shop of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eveloped her photos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id part of her own film    develop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The woman had a photo shop of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woman developed her photos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The woman did part of her own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ilm develop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听力考试时应注意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扫视选项，做好听前预猜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没听懂时的对策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注意听提出的问题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脑记与笔记相结合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试卷试题难易程度比例结构为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易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6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中等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难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Assign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sten to English everyday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texts, English radio program,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一节：听对话及对话后的问题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录音带上不在卷面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停顿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２秒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题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二节：听下面四段对话独白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或独白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每题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，每段对话共有三小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卷面上而不在录音带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停顿２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段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与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１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主要信息或重要细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２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要点和中心意思，根据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题目做出合理判断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间，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　点，对话人的关系，身份等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３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并理解其深层含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（谈话人的态度，意图等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jg</cp:lastModifiedBy>
  <dcterms:modified xsi:type="dcterms:W3CDTF">2003-06-24T23:34:20Z</dcterms:modified>
  <cp:revision>26</cp:revision>
  <dc:subject/>
  <dc:title>高二英语</dc:title>
</cp:coreProperties>
</file>