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media/chimes.wav" ContentType="audio/x-wav"/>
  <Override PartName="/ppt/media/image8.png" ContentType="image/png"/>
  <Override PartName="/ppt/media/image6.png" ContentType="image/png"/>
  <Override PartName="/ppt/media/image7.png" ContentType="image/png"/>
  <Override PartName="/ppt/media/hammer.wav" ContentType="audio/x-wav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66EE-A4CA-4AE7-A2B0-0C256488B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9F8B-73AB-4915-978E-7EAA41C75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133E-CDAA-458F-9957-AD9123290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20D1-D0B6-429F-9A2B-6CD68C2F5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8D34-8989-49D5-B33C-D8A8EAD3D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866D-3BC3-4B25-8D36-D2AFAA80F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393E-59A8-4375-823C-ABCD6FC2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B800-58E6-4AEB-8ABE-D8C9D96FD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95E7-5954-42C6-AA99-12ED65D92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A310-2EBF-4512-83E0-42BDB957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1A1A-41B8-4549-9EDC-1D4C5BA7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4924-0D08-4CC8-A051-E805A1D4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3EBAB-5B68-4C9F-B8EB-9F678A4D0C1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audio" Target="../media/hammer.wav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467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09480" y="838080"/>
            <a:ext cx="7239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cccff"/>
                </a:solidFill>
                <a:latin typeface="Times New Roman"/>
              </a:rPr>
              <a:t>Unit1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32767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ccccff"/>
                </a:solidFill>
                <a:latin typeface="Times New Roman"/>
              </a:rPr>
              <a:t>Modern Agricultur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609480" y="228600"/>
          <a:ext cx="7925040" cy="358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28600"/>
                    <a:ext cx="792504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228600" y="4114800"/>
            <a:ext cx="868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.If three million pigs, sheep and cattle were raised during the years from 1986 to 1990, how many were raised from 1991 to 1995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58672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4.9 mill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15228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Further discu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conclusion can you draw from the graph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47920"/>
            <a:ext cx="510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371600"/>
            <a:ext cx="449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ople eat more meat because of _________,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362320"/>
            <a:ext cx="3505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ople eat more fish because eating fish does n’t  make them as ___ as eating m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4495680"/>
            <a:ext cx="3429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267080"/>
            <a:ext cx="3581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ople have a better knowledge of healthy diet so they eat more 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61722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733920" y="1447920"/>
            <a:ext cx="761760" cy="4876560"/>
          </a:xfrm>
          <a:custGeom>
            <a:avLst/>
            <a:gdLst>
              <a:gd name="textAreaLeft" fmla="*/ 0 w 761760"/>
              <a:gd name="textAreaRight" fmla="*/ 275040 w 761760"/>
              <a:gd name="textAreaTop" fmla="*/ 127080 h 4876560"/>
              <a:gd name="textAreaBottom" fmla="*/ 4749480 h 487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43400" y="3657600"/>
            <a:ext cx="1371600" cy="380880"/>
          </a:xfrm>
          <a:custGeom>
            <a:avLst/>
            <a:gdLst>
              <a:gd name="textAreaLeft" fmla="*/ 171360 w 1371600"/>
              <a:gd name="textAreaRight" fmla="*/ 1200240 w 13716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32767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ad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871600" y="1752480"/>
            <a:ext cx="60696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hanging eating habi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52480" y="18288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eing r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36576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55627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ru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217520" y="380880"/>
            <a:ext cx="61128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20" y="0"/>
            <a:ext cx="6069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hanging eating habi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3048120"/>
            <a:ext cx="1676520" cy="152280"/>
          </a:xfrm>
          <a:custGeom>
            <a:avLst/>
            <a:gdLst>
              <a:gd name="textAreaLeft" fmla="*/ 209520 w 1676520"/>
              <a:gd name="textAreaRight" fmla="*/ 1467000 w 167652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2438280"/>
            <a:ext cx="2209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ve effec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95680" y="533520"/>
            <a:ext cx="304920" cy="510516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2840 h 5105160"/>
              <a:gd name="textAreaBottom" fmla="*/ 4972320 h 5105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60520" y="1447920"/>
            <a:ext cx="611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90920" y="1676520"/>
            <a:ext cx="838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18920" y="1447920"/>
            <a:ext cx="6069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griculture and n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3048120"/>
            <a:ext cx="1371600" cy="152280"/>
          </a:xfrm>
          <a:custGeom>
            <a:avLst/>
            <a:gdLst>
              <a:gd name="textAreaLeft" fmla="*/ 171360 w 1371600"/>
              <a:gd name="textAreaRight" fmla="*/ 1200240 w 13716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2666880"/>
            <a:ext cx="1143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ch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00600" y="5335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Need to raise more 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72400" y="5335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i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00600" y="16002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Need to grow more 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15238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r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52880" y="259092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Need more ________ in which to raise fis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29400" y="25909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ishp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29200" y="4191120"/>
            <a:ext cx="441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Grow more fruit trees which will bear more frui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5562720"/>
            <a:ext cx="411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ut down forests,burn grass, use chemicals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24000" y="260280"/>
            <a:ext cx="58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Broadway BT"/>
                <a:ea typeface="华文彩云"/>
              </a:rPr>
              <a:t>Task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4    Pre-listen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8520" y="1066680"/>
            <a:ext cx="44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griculture depends on …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51055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6600"/>
                </a:solidFill>
                <a:uFillTx/>
                <a:latin typeface="Times New Roman"/>
              </a:rPr>
              <a:t>Question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f we changed the structure of agriculture, what do you think will happen to the natu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04920" y="1219320"/>
            <a:ext cx="8667720" cy="3741120"/>
            <a:chOff x="304920" y="1219320"/>
            <a:chExt cx="8667720" cy="3741120"/>
          </a:xfrm>
        </p:grpSpPr>
        <p:pic>
          <p:nvPicPr>
            <p:cNvPr id="140" name="" descr=""/>
            <p:cNvPicPr/>
            <p:nvPr/>
          </p:nvPicPr>
          <p:blipFill>
            <a:blip r:embed="rId2"/>
            <a:stretch/>
          </p:blipFill>
          <p:spPr>
            <a:xfrm>
              <a:off x="6570720" y="3234960"/>
              <a:ext cx="2352600" cy="167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3"/>
            <a:stretch/>
          </p:blipFill>
          <p:spPr>
            <a:xfrm>
              <a:off x="6426360" y="1219320"/>
              <a:ext cx="2546280" cy="195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4"/>
            <a:stretch/>
          </p:blipFill>
          <p:spPr>
            <a:xfrm>
              <a:off x="304920" y="2371680"/>
              <a:ext cx="2952720" cy="143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5"/>
            <a:stretch/>
          </p:blipFill>
          <p:spPr>
            <a:xfrm>
              <a:off x="3402000" y="1795320"/>
              <a:ext cx="2497320" cy="28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573120" y="3595320"/>
              <a:ext cx="1843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78560" y="2462040"/>
              <a:ext cx="1843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54720" y="456372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049640" y="437328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381960" y="3809880"/>
            <a:ext cx="277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eather &amp; cli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17320" y="464832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l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22160" y="478476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other natural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164720" y="762120"/>
            <a:ext cx="11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7240" y="6095880"/>
            <a:ext cx="504252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loods or droughts, soil erosio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" dur="indefinite" restart="never" nodeType="tmRoot">
          <p:childTnLst>
            <p:seq>
              <p:cTn id="7" dur="indefinite" nodeType="mainSeq">
                <p:childTnLst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drought:</a:t>
            </a: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long period without r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dike:</a:t>
            </a: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 narrow piece of land built to                    stop water from coming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fishpond:</a:t>
            </a: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 area of water where fish are raise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514600" y="304920"/>
            <a:ext cx="3962520" cy="122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New word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33360" y="422280"/>
            <a:ext cx="3931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华文彩云"/>
                <a:ea typeface="华文彩云"/>
              </a:rPr>
              <a:t>Task 2 </a:t>
            </a:r>
            <a:r>
              <a:rPr b="0" lang="en-US" sz="3000" spc="-1" strike="noStrike">
                <a:solidFill>
                  <a:srgbClr val="cc0000"/>
                </a:solidFill>
                <a:latin typeface="Arial"/>
                <a:ea typeface="华文彩云"/>
              </a:rPr>
              <a:t>While listen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1125360"/>
            <a:ext cx="9144000" cy="19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Arial"/>
              </a:rPr>
              <a:t>1 Listen to the tape. The passage you hear talks  abou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300" spc="-1" strike="noStrike">
                <a:solidFill>
                  <a:srgbClr val="0000ff"/>
                </a:solidFill>
                <a:latin typeface="Times New Roman"/>
              </a:rPr>
              <a:t>(  ) history of farming              (  ) farmers in America        (  ) fishing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300" spc="-1" strike="noStrike">
                <a:solidFill>
                  <a:srgbClr val="0000ff"/>
                </a:solidFill>
                <a:latin typeface="Times New Roman"/>
              </a:rPr>
              <a:t>(  ) protection of nature           (  ) farmers in China             (  ) pig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300" spc="-1" strike="noStrike">
                <a:solidFill>
                  <a:srgbClr val="0000ff"/>
                </a:solidFill>
                <a:latin typeface="Times New Roman"/>
              </a:rPr>
              <a:t>(  ) environmental problems    (  ) trees                                 (  ) dik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7480" y="3335400"/>
            <a:ext cx="9056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Arial"/>
              </a:rPr>
              <a:t>2 Which of the following sentences are true &amp; which are false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73520" y="4221000"/>
            <a:ext cx="8875080" cy="18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Times New Roman"/>
              </a:rPr>
              <a:t>1 In early times farmers in China moved around &amp; burnt forests.  (   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Times New Roman"/>
              </a:rPr>
              <a:t>2 All farmers in South America burn forests to create farmland.    (   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Times New Roman"/>
              </a:rPr>
              <a:t>3 Flood &amp; droughts are disasters that farmers cannot stop.             (   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Times New Roman"/>
              </a:rPr>
              <a:t>4 Some of the land in China  is too wet to grow crops.                      (   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Times New Roman"/>
              </a:rPr>
              <a:t>5 Fish farmers damage nature.                                                            (   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24000" y="2060640"/>
            <a:ext cx="7488000" cy="1009440"/>
            <a:chOff x="324000" y="2060640"/>
            <a:chExt cx="7488000" cy="1009440"/>
          </a:xfrm>
        </p:grpSpPr>
        <p:sp>
          <p:nvSpPr>
            <p:cNvPr id="161" name=""/>
            <p:cNvSpPr/>
            <p:nvPr/>
          </p:nvSpPr>
          <p:spPr>
            <a:xfrm>
              <a:off x="324000" y="2060640"/>
              <a:ext cx="287280" cy="28872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4000" y="2421000"/>
              <a:ext cx="287280" cy="28872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4000" y="2781360"/>
              <a:ext cx="287280" cy="28872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67280" y="2781360"/>
              <a:ext cx="287280" cy="28872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67280" y="2421000"/>
              <a:ext cx="287280" cy="28872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524720" y="2781360"/>
              <a:ext cx="287280" cy="28872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853452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461440" y="5300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534520" y="46274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534520" y="4941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461440" y="56358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2"/>
          <a:srcRect l="0" t="24415" r="0" b="7628"/>
          <a:stretch/>
        </p:blipFill>
        <p:spPr>
          <a:xfrm>
            <a:off x="0" y="719280"/>
            <a:ext cx="9144000" cy="61657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79280" y="404640"/>
            <a:ext cx="8964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Arial"/>
              </a:rPr>
              <a:t>3 Listen to the tape &amp; complete the sentences by using your own word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9280" y="1335240"/>
            <a:ext cx="873288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Arial"/>
              </a:rPr>
              <a:t>When farming goes against nature, ______________________________ are the result. The earliest farmers ___________nature. Their way of agriculture led to ______________ &amp; _____________. It is an old truth that __________ should not ____________________. The land that Tan &amp; Xiao Zao bought was _________ &amp; could not be used for ____________. Instead they changed the fields into _______. On their farm they kept __________________ &amp; grew _________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9960" y="1743120"/>
            <a:ext cx="489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ll kinds of environmental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68200" y="215424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estroy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257280" y="253512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flo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210720" y="253512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rou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70640" y="292104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fa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1880" y="3327480"/>
            <a:ext cx="24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go against n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320920" y="375912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oo w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9360" y="411948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fa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4000" y="447984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fishp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536080" y="4479840"/>
            <a:ext cx="27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fish/ducks/chic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26760" y="4915080"/>
            <a:ext cx="147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-方正超大字符集"/>
              </a:rPr>
              <a:t>fruit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540880" y="365040"/>
            <a:ext cx="37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Listening tex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2760" y="1260360"/>
            <a:ext cx="96170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Farming and nature are like two flowers on the s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tree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. When farming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goes against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nature,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all kinds of environmental problems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are the result. In ancient time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when people began using the land, farming was not as it is today. Early farmers moved around the country. The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burnt a part of a forest and used this land for one or two years. When they could no longer grow crops on the l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they moved on and repeated this somewhere els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Agriculture in this way destroys nature and </a:t>
            </a:r>
            <a:r>
              <a:rPr b="1" i="1" lang="zh-CN" sz="2800" spc="-1" strike="noStrike">
                <a:solidFill>
                  <a:srgbClr val="ff0066"/>
                </a:solidFill>
                <a:latin typeface="Times New Roman"/>
              </a:rPr>
              <a:t>results in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floods and  droughts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. Some people in South America still practise this kind of farm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800" y="457200"/>
            <a:ext cx="92764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a5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3333a5"/>
                </a:solidFill>
                <a:latin typeface="Times New Roman"/>
              </a:rPr>
              <a:t>Over the past twenty to twenty-five years, far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a5"/>
                </a:solidFill>
                <a:latin typeface="Times New Roman"/>
              </a:rPr>
              <a:t>have recognised some old truths, already known to an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a5"/>
                </a:solidFill>
                <a:latin typeface="Times New Roman"/>
              </a:rPr>
              <a:t>Chinese farmers.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Farming should not go against nature</a:t>
            </a:r>
            <a:r>
              <a:rPr b="1" lang="zh-CN" sz="2800" spc="-1" strike="noStrike">
                <a:solidFill>
                  <a:srgbClr val="3333a5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a5"/>
                </a:solidFill>
                <a:latin typeface="Times New Roman"/>
              </a:rPr>
              <a:t>If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the soil is too poor</a:t>
            </a:r>
            <a:r>
              <a:rPr b="1" lang="zh-CN" sz="2800" spc="-1" strike="noStrike">
                <a:solidFill>
                  <a:srgbClr val="3333a5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chemicals </a:t>
            </a:r>
            <a:r>
              <a:rPr b="1" lang="zh-CN" sz="2800" spc="-1" strike="noStrike">
                <a:solidFill>
                  <a:srgbClr val="3333a5"/>
                </a:solidFill>
                <a:latin typeface="Times New Roman"/>
              </a:rPr>
              <a:t>can help improve it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a5"/>
                </a:solidFill>
                <a:latin typeface="Times New Roman"/>
              </a:rPr>
              <a:t>grow better crops, but this may damage or destroy 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a5"/>
                </a:solidFill>
                <a:latin typeface="Times New Roman"/>
              </a:rPr>
              <a:t>surrounding the farms. Instead, farmers should look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a5"/>
                </a:solidFill>
                <a:latin typeface="Times New Roman"/>
              </a:rPr>
              <a:t>other methods.In the early 16th century, bothers Tan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a5"/>
                </a:solidFill>
                <a:latin typeface="Times New Roman"/>
              </a:rPr>
              <a:t>Xiao Zao of Jiangsu Province cheaply bought fields alo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a5"/>
                </a:solidFill>
                <a:latin typeface="Times New Roman"/>
              </a:rPr>
              <a:t>lakes nobody wanted because they were too wet. They bui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dikes </a:t>
            </a:r>
            <a:r>
              <a:rPr b="1" lang="zh-CN" sz="2800" spc="-1" strike="noStrike">
                <a:solidFill>
                  <a:srgbClr val="3333a5"/>
                </a:solidFill>
                <a:latin typeface="Times New Roman"/>
              </a:rPr>
              <a:t>around the fields 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turning the fields into fish ponds</a:t>
            </a:r>
            <a:r>
              <a:rPr b="1" lang="zh-CN" sz="2800" spc="-1" strike="noStrike">
                <a:solidFill>
                  <a:srgbClr val="3333a5"/>
                </a:solidFill>
                <a:latin typeface="Times New Roman"/>
              </a:rPr>
              <a:t>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a5"/>
                </a:solidFill>
                <a:latin typeface="Times New Roman"/>
              </a:rPr>
              <a:t>they became fish farmers.They also planted </a:t>
            </a:r>
            <a:r>
              <a:rPr b="1" i="1" lang="zh-CN" sz="2800" spc="-1" strike="noStrike">
                <a:solidFill>
                  <a:srgbClr val="3333a5"/>
                </a:solidFill>
                <a:latin typeface="Times New Roman"/>
              </a:rPr>
              <a:t>fruit trees</a:t>
            </a:r>
            <a:r>
              <a:rPr b="1" lang="zh-CN" sz="2800" spc="-1" strike="noStrike">
                <a:solidFill>
                  <a:srgbClr val="3333a5"/>
                </a:solidFill>
                <a:latin typeface="Times New Roman"/>
              </a:rPr>
              <a:t> 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a5"/>
                </a:solidFill>
                <a:latin typeface="Times New Roman"/>
              </a:rPr>
              <a:t>the dikes and kept </a:t>
            </a:r>
            <a:r>
              <a:rPr b="1" i="1" lang="zh-CN" sz="2800" spc="-1" strike="noStrike">
                <a:solidFill>
                  <a:srgbClr val="3333a5"/>
                </a:solidFill>
                <a:latin typeface="Times New Roman"/>
              </a:rPr>
              <a:t>chickens and ducks</a:t>
            </a:r>
            <a:r>
              <a:rPr b="1" lang="zh-CN" sz="2800" spc="-1" strike="noStrike">
                <a:solidFill>
                  <a:srgbClr val="3333a5"/>
                </a:solidFill>
                <a:latin typeface="Times New Roman"/>
              </a:rPr>
              <a:t>. They were ve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a5"/>
                </a:solidFill>
                <a:latin typeface="Times New Roman"/>
              </a:rPr>
              <a:t>successful farm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72360" y="152280"/>
            <a:ext cx="371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kbook Page 1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2280" y="838080"/>
            <a:ext cx="8855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cc"/>
                </a:solidFill>
                <a:latin typeface="Times New Roman"/>
              </a:rPr>
              <a:t>1.What is Helen’s job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cc"/>
                </a:solidFill>
                <a:latin typeface="Times New Roman"/>
              </a:rPr>
              <a:t>2.What do you think she is going to do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cc"/>
                </a:solidFill>
                <a:latin typeface="Times New Roman"/>
              </a:rPr>
              <a:t>3.What would she be doing every day in her job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1187280"/>
            <a:ext cx="7635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She is (probably) a fishwoma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160" y="1981080"/>
            <a:ext cx="8320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I think she is going to open the boxes and feed the fish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r: I think she is on her way to the market to sell the fish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6080" y="3352680"/>
            <a:ext cx="93384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The first thing to do is to go out in the boat and see if anything i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caught in the nets. Next, you have to bring in the fish and throw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ut the nets for the next catch. Then, the fish must be brought 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land. The fish should  be kept in big boxes full of water, so they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don’t di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rcRect l="0" t="0" r="0" b="800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20520" y="1089000"/>
            <a:ext cx="468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华文彩云"/>
                <a:ea typeface="华文彩云"/>
              </a:rPr>
              <a:t>Task 1: 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  <a:ea typeface="华文彩云"/>
              </a:rPr>
              <a:t>Brainstorm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44720" y="1906560"/>
            <a:ext cx="712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will you think of when you see the word “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agricultur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”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733920"/>
            <a:ext cx="4248360" cy="165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 Antiqua"/>
                <a:ea typeface="幼圆"/>
              </a:rPr>
              <a:t>agricul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95280" y="3429000"/>
            <a:ext cx="5834160" cy="2160720"/>
            <a:chOff x="1295280" y="3429000"/>
            <a:chExt cx="5834160" cy="2160720"/>
          </a:xfrm>
        </p:grpSpPr>
        <p:sp>
          <p:nvSpPr>
            <p:cNvPr id="49" name=""/>
            <p:cNvSpPr/>
            <p:nvPr/>
          </p:nvSpPr>
          <p:spPr>
            <a:xfrm>
              <a:off x="2087640" y="3645000"/>
              <a:ext cx="865080" cy="431640"/>
            </a:xfrm>
            <a:prstGeom prst="line">
              <a:avLst/>
            </a:prstGeom>
            <a:ln w="284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5472000" y="3429000"/>
              <a:ext cx="720720" cy="576360"/>
            </a:xfrm>
            <a:prstGeom prst="line">
              <a:avLst/>
            </a:prstGeom>
            <a:ln w="284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2087280" y="5157720"/>
              <a:ext cx="649080" cy="287280"/>
            </a:xfrm>
            <a:prstGeom prst="line">
              <a:avLst/>
            </a:prstGeom>
            <a:ln w="284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472000" y="5157720"/>
              <a:ext cx="865080" cy="432000"/>
            </a:xfrm>
            <a:prstGeom prst="line">
              <a:avLst/>
            </a:prstGeom>
            <a:ln w="284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295280" y="4581720"/>
              <a:ext cx="1297080" cy="0"/>
            </a:xfrm>
            <a:prstGeom prst="line">
              <a:avLst/>
            </a:prstGeom>
            <a:ln w="284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976720" y="4581720"/>
              <a:ext cx="1152720" cy="0"/>
            </a:xfrm>
            <a:prstGeom prst="line">
              <a:avLst/>
            </a:prstGeom>
            <a:ln w="284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1108800" y="495360"/>
            <a:ext cx="172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Broadway BT"/>
              </a:rPr>
              <a:t>Step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48520" y="32004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0720" y="3200400"/>
            <a:ext cx="11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ar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184880" y="457200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46800" y="533412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434340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4419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00200" y="563076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380880"/>
            <a:ext cx="9388440" cy="57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1. We feed the _____________________________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2. We ___________________________________ the tanks(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水箱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3. We get __________ out of the best of the ______________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4. When the ________ are big enough, we put them in ______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in the se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5. When the ________ have grown to the right size, we ________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them, freeze them or_______ the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6. We take them by truck to the nearest _________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544120" y="380880"/>
            <a:ext cx="2812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fish twice a da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6680" y="1219320"/>
            <a:ext cx="5918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produce our own fish from eggs 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423800" y="2133720"/>
            <a:ext cx="1675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the egg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323760" y="2025720"/>
            <a:ext cx="1808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large fis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87640" y="3048120"/>
            <a:ext cx="877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fis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41640" y="3048120"/>
            <a:ext cx="1204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c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163960" y="4267080"/>
            <a:ext cx="877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fis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542000" y="4311720"/>
            <a:ext cx="1524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harve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328200" y="4724280"/>
            <a:ext cx="1360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smok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71160" y="5638680"/>
            <a:ext cx="1485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marke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12760" y="380880"/>
            <a:ext cx="8474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Why do they have to tie the cages to the rocks on the bottom of the se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Why do they smoke or freeze all the fish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3.  Why do they burn their own woo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4.  Why do they smoke their fish themselve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58160" y="1295280"/>
            <a:ext cx="788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The cages have to be tied to the bottom of th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sea because it is wind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25400" y="2543040"/>
            <a:ext cx="7601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Because the fish farm is a long way from th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nearest marke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54400" y="3790800"/>
            <a:ext cx="8602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Because in that way they get a good strong smok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2560" y="4800600"/>
            <a:ext cx="8007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Because they get higher prices for smoked fish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279880" y="76320"/>
            <a:ext cx="384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Listening tex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320" y="609480"/>
            <a:ext cx="8839080" cy="64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33a5"/>
                </a:solidFill>
                <a:latin typeface="Times New Roman"/>
              </a:rPr>
              <a:t>      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Hello, my name’s Helen and I live</a:t>
            </a:r>
            <a:r>
              <a:rPr b="1" lang="zh-CN" sz="3000" spc="-1" strike="noStrike">
                <a:solidFill>
                  <a:srgbClr val="3333a5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on the west coast of</a:t>
            </a:r>
            <a:r>
              <a:rPr b="1" lang="zh-CN" sz="3000" spc="-1" strike="noStrike">
                <a:solidFill>
                  <a:srgbClr val="3333a5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Canada. I work on a fish far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Right now I’m feeding the fish, which are kept in cages in  the sea. The cages are tied to the rocks</a:t>
            </a:r>
            <a:r>
              <a:rPr b="1" lang="zh-CN" sz="3000" spc="-1" strike="noStrike">
                <a:solidFill>
                  <a:srgbClr val="3333a5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on the bottom of the sea</a:t>
            </a:r>
            <a:r>
              <a:rPr b="1" lang="zh-CN" sz="3000" spc="-1" strike="noStrike">
                <a:solidFill>
                  <a:srgbClr val="3333a5"/>
                </a:solidFill>
                <a:latin typeface="Times New Roman"/>
              </a:rPr>
              <a:t>. 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It can get very windy here</a:t>
            </a:r>
            <a:r>
              <a:rPr b="1" lang="zh-CN" sz="3000" spc="-1" strike="noStrike">
                <a:solidFill>
                  <a:srgbClr val="3333a5"/>
                </a:solidFill>
                <a:latin typeface="Times New Roman"/>
              </a:rPr>
              <a:t>.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Twice a day I put the fish food in the  boat and go out to the cages. The fish are always hungry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When the fish have grown to the right size, we pull the cages out of the water. The fish are killed and  cleaned. Our fish farm is a long way from the nearest market. So we either freeze the fish or smoke them. We don’t salt any fish here. Some fish farms do, but we don’t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a5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04920" y="228600"/>
            <a:ext cx="8610480" cy="62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Three of us work here and there’s always a lot to do. Inside that building over there we</a:t>
            </a:r>
            <a:r>
              <a:rPr b="1" lang="en-US" sz="3000" spc="-1" strike="noStrike">
                <a:solidFill>
                  <a:srgbClr val="3333a4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have tanks for the young fish</a:t>
            </a:r>
            <a:r>
              <a:rPr b="1" lang="en-US" sz="3000" spc="-1" strike="noStrike">
                <a:solidFill>
                  <a:srgbClr val="3333a4"/>
                </a:solidFill>
                <a:latin typeface="Times New Roman"/>
              </a:rPr>
              <a:t>.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We produce all our own fish from eggs. The fish start to grow in fresh water. Then, when they are bigger they go into the sea, which is salty, of course</a:t>
            </a:r>
            <a:r>
              <a:rPr b="1" lang="en-US" sz="3000" spc="-1" strike="noStrike">
                <a:solidFill>
                  <a:srgbClr val="3333a4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There’s always a lot of work to do:</a:t>
            </a:r>
            <a:r>
              <a:rPr b="1" lang="en-US" sz="3000" spc="-1" strike="noStrike">
                <a:solidFill>
                  <a:srgbClr val="3333a4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feeding the fish, cleaning the tanks, getting eggs out of the best of the large fish, harvesting the fish, cleaning them and smoking them</a:t>
            </a:r>
            <a:r>
              <a:rPr b="1" lang="en-US" sz="3000" spc="-1" strike="noStrike">
                <a:solidFill>
                  <a:srgbClr val="3333a4"/>
                </a:solidFill>
                <a:latin typeface="Times New Roman"/>
              </a:rPr>
              <a:t>.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We burn our own wood and that way we get a very good strong smoke. It’s more work, but we</a:t>
            </a:r>
            <a:r>
              <a:rPr b="1" lang="en-US" sz="3000" spc="-1" strike="noStrike">
                <a:solidFill>
                  <a:srgbClr val="3333a4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et higher prices for</a:t>
            </a:r>
            <a:r>
              <a:rPr b="1" lang="en-US" sz="3000" spc="-1" strike="noStrike">
                <a:solidFill>
                  <a:srgbClr val="3333a4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our smoked fish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8600" y="304920"/>
            <a:ext cx="868680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e new words of this perio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roduce  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ffect     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ike       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rought  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ane      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ugarcane  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obacco   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ocal   adj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38280" y="99072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产量，产物，农产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438280" y="1676520"/>
            <a:ext cx="54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果，影响，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90920" y="23922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堤坝，排水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43200" y="31543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干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3200" y="391644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细长的茎，藤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95480" y="46782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甘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95480" y="54100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烟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43200" y="60199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地方的，当地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0" y="260280"/>
          <a:ext cx="9144000" cy="597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60280"/>
                    <a:ext cx="9144000" cy="59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764720" y="54450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Gungsuh"/>
              </a:rPr>
              <a:t>co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65440" y="54450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36360" y="54450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55640" y="508464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 Narrow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7080" y="404640"/>
            <a:ext cx="51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 Narrow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6019920"/>
            <a:ext cx="84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rowth of major products 1991-95 compared with 1986-90 percen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609480" y="228600"/>
          <a:ext cx="7925040" cy="358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28600"/>
                    <a:ext cx="792504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380880" y="39625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What is the graph abou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4724280"/>
            <a:ext cx="883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t is about the growth of the major farm products during the year 1991-95 compared with that of 1986-90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609480" y="228600"/>
          <a:ext cx="7925040" cy="358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28600"/>
                    <a:ext cx="792504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" y="41911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What is shown on the x-axis and y-axi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4952880"/>
            <a:ext cx="8077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n the x-axis: the major farm produ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n the y-axis: the percentages of growth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609480" y="228600"/>
          <a:ext cx="7925040" cy="358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28600"/>
                    <a:ext cx="792504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457200" y="41148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Which farm product grew most during the first five years of the 1990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43200" y="55627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ru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609480" y="228600"/>
          <a:ext cx="7925040" cy="358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28600"/>
                    <a:ext cx="792504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228600" y="403848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How much did it grow compared with          that during the last five years of the 1980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00200" y="58672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90 perc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609480" y="228600"/>
          <a:ext cx="7925040" cy="358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28600"/>
                    <a:ext cx="792504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304920" y="43434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Which farm product grew leas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54864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r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4:29:22Z</dcterms:created>
  <dc:creator>雷安梅</dc:creator>
  <dc:description/>
  <dc:language>en-US</dc:language>
  <cp:lastModifiedBy>user</cp:lastModifiedBy>
  <dcterms:modified xsi:type="dcterms:W3CDTF">2004-06-11T23:39:43Z</dcterms:modified>
  <cp:revision>39</cp:revision>
  <dc:subject/>
  <dc:title>PowerPoint 演示文稿</dc:title>
</cp:coreProperties>
</file>