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347-098A-4108-A639-608E8189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88D-4E10-4A77-B2B8-3DCC3981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E32-B7BB-4FD7-B083-996CBD04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F51-1A1B-4BAB-93F7-70EF4AE8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AAF3-55CD-42ED-85EE-D1090D87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9F88-21B8-4280-9781-95110A0E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CCF6-FF22-4783-AEC3-8EAFE41B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6404-FF8F-4B32-837E-CCA6015D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3CDA-6099-496D-8B9C-D789AC08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605C-5009-4EC3-860C-C0FDC25C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623-C8CD-42E1-89EA-B0F13694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6B1-313C-433B-AED6-1EADE4B6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4738-5DD0-445D-A10A-FDE9F44A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EF1C-15BD-4B48-8905-9C0570B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8BC4-CCCA-4047-AB4B-F0F4D2A3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584-FE6F-4132-A8E2-31A2CAD9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0651-7323-4C42-877D-38D84F81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60E-C951-486C-8B97-9433CA64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2E8-911C-4875-B9AB-C9E74468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570-9705-4578-97A1-F0CA6972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ECD-A2A0-453C-B9B3-CEB1904D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A73-88B4-468E-99F8-FBB8664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033-CED9-4B7A-A04E-7B579B4B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B37-C35F-4D51-8E63-60B09993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424C-392B-4A9B-B01C-6379C3FB187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7756-455D-4EB7-9381-04DA601120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高二英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会考复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李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北京西城外国语学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A. The weather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82880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.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The weath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film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lady.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  <a:ea typeface="PMingLiU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会考听力模拟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2. A. To go to the museum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o to the cinema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go to a concert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3. A. By bik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On foot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By tax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A. List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4.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Listening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Writing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peak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5. A. Australi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merica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Cana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目的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了解会考试卷的结构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会考听力模拟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及听力训练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She is thirs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She is tired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C. She is 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A conducto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A teacher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B. A conductor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A work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8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PMingLiU"/>
              </a:rPr>
              <a:t>A. To meet Mrs. Smith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see his old fri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see Mrs. Smith of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142640" y="533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9. Why will Miss Brown go to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hot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To stay there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To get a letter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To have din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10.What’s Mr. Green’s room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PMingLiU"/>
              </a:rPr>
              <a:t>A. 1823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1832.    C. 132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03480" y="3444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B. Blue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试卷结构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高中英语会考试卷由两卷组成：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  <a:ea typeface="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选择题，在答题纸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I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卷为非选择题，在试卷上作答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1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What colour does the man lik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White.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B. Blue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C. Green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1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How much is the shir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A. 20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B. 80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yua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.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PMingLiU"/>
              </a:rPr>
              <a:t>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120 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yua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“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he felt being left out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4. How did the girl deal with th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She brought in three runs in a softball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4. How did the girl deal with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609480"/>
            <a:ext cx="8724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3. Why did the girl call herself the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ass loser”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 She felt being left out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got into troub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She was badly si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8006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9040" y="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4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ow did the girl deal with th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proble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She did well in the first pract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 She brought in three runs in 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oftball mat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C. She joined in the team activities an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stuck up for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A. The train will leave at 4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The train will leave at 3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The train will leave at 4:0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四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单项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完形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-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阅读理解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6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It’s 9: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It’s 9:2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It’s 9:4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Each bottle cost 4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Each bottle cost 15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Each bottle cost 20 c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How much is it for one ticke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A. 24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. 1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C. 42 doll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is the dialogue mainly ab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n ex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volleyball matc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pl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im lost his job because of hi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im spent much money in fin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woman me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has only one faul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im lost his job because of his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arelessn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im spent much money in finding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job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II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卷包括两道大题</a:t>
            </a: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短文填空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书面表达：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ch rule is not included in renting the ro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No friend visit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pictures on the w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 danc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probably is the wo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waitre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 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A gui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9144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0666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ere does the conversation most probably take pla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 a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busy str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 a roo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. The woman had a photo shop of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eveloped her photos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 woman did part of her own film    develop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can we learn from the dialogu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The woman had a photo shop of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ow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woman developed her photos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l by herself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The woman did part of her own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ilm develop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does the man feel about the new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sa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e is surpris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is ha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听力考试时应注意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扫视选项，做好听前预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没听懂时的对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注意听提出的问题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脑记与笔记相结合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试卷试题难易程度比例结构为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易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6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中等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较难题：约占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Assign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sten to English everyda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texts, English radio program,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一节：听对话及对话后的问题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录音带上不在卷面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停顿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２秒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题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听力理解（共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节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题，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）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第二节：听下面四段对话独白，从每题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三个选项中，选出能回答问题的最佳答案。每段对话或独白读两遍。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此时每题你有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秒钟读题时间，每段对话共有三小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听第一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：问题在卷面上而不在录音带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　　　　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停顿２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重复听第一段你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秒钟</a:t>
            </a:r>
            <a:r>
              <a:rPr b="0" lang="zh-CN" sz="3200" spc="-1" strike="noStrike">
                <a:solidFill>
                  <a:srgbClr val="ecf53d"/>
                </a:solidFill>
                <a:latin typeface="黑体"/>
                <a:ea typeface="黑体"/>
              </a:rPr>
              <a:t>作答时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听力与听力训练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１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主要信息或重要细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２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要点和中心意思，根据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题目做出合理判断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时间，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点，对话人的关系，身份等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３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听懂并理解其深层含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谈话人的态度，意图等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jg</cp:lastModifiedBy>
  <dcterms:modified xsi:type="dcterms:W3CDTF">2003-06-24T23:34:20Z</dcterms:modified>
  <cp:revision>26</cp:revision>
  <dc:subject/>
  <dc:title>高二英语</dc:title>
</cp:coreProperties>
</file>