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9A92-6BA7-4082-A0FB-97D14DF255E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288-8D91-43C3-AAE9-D062B181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8CB-6374-4BE1-8429-72084435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9E4-55A2-4103-ADF5-2A35140F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DB6-57AF-4BF0-A0BD-64488A56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06C8-B891-4969-AC1B-A2287EE4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8CA2-08C0-4D7F-8511-2F2880FF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E694-ABF0-40C5-B284-B3E187C3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1DE3-CEA1-492F-913B-C0E2BE2F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5AF2-6B95-46D6-A8A9-71173485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4EC7-61E9-47BE-A238-66463784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E58E-041E-4A23-A070-20688E2E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A14-7479-4B39-90F2-813E4DC6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1FAB-476E-4382-94B5-20C98D80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AC5A-E3C5-44F5-A394-A98F621D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BF6C-EFA9-4778-9BC6-BAC625D5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6C40-10CB-4BEA-A4DD-94B6C5AD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1B66-BBD0-4CDC-BC89-9D0716A9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87F-5F94-4267-8E83-34805CB8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466-7806-41FF-87C4-6D8503D0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0F35-74B9-4D93-8B44-85D09CF0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8D6-F495-41F8-BA53-C38BEEF4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9A5-91BD-47CC-8616-FBDCAEF0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A0B-78FD-4697-B65A-D35E78AB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40D-A1FA-419C-9B4C-ABB6A586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7D9E-9994-4D22-BBED-001889CDB10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B243-0DED-45DF-82ED-DEDE5B4A369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高二英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会考复习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李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北京西城外国语学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---What is your answer to t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will give you ____ honest answer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I’m fighting for ____ end to slav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; a                 B. an; an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a; an               D. an;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---What is your answer to t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will give you ____ honest answer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I’m fighting for ____ end to slav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; a 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an; an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a; an               D. an;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5. He was not happy at the new schoo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t first. He had ____ friends 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few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B. an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mor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 D. 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5. He was not happy at the new schoo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t first. He had ____ friends 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few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B. an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mor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 D. 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6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— You can speak Japanese, _____ you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—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at’s tru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re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B. have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o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D. ca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6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— You can speak Japanese, _____ you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—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at’s tru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re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B. have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o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D. ca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7. A new school _____ in this area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our city next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buil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B. bui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ill be buil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D. has been buil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7. A new school _____ in this area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our city next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buil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B. bui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will be buil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D. has been buil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4678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8. “Help ____ to some meat and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vegetables, please. Tom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yself              B. himself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yourself            D. themsel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4678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8. “Help ____ to some meat and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vegetables, please. Tom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yself              B. himself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yourself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D. themsel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ffff"/>
                </a:solidFill>
                <a:latin typeface="Times New Roman"/>
                <a:ea typeface="黑体"/>
              </a:rPr>
              <a:t>目的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了解单项填空测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会考说明中的样题解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难题解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9. All the people ____ work on a newspaper must be able to work fa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wh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whos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hic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9. All the people ____ work on a newspaper must be able to work fa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wh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whos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whic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. Last week I bought a story book ______ by Mark Tw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writ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writte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writing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to wri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. Last week I bought a story book ______ by Mark Tw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writ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. writte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writing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to wri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1. We should keep on ______ English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ven after we leave schoo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tud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tudi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tudy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D. stud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1. We should keep on ______ English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ven after we leave schoo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tud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tudi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study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D. stud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43000" y="189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2. --- Would you mind calling 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ack tomorrow ag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---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Not at all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You’re welco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You’re righ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Nice to meet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2. --- Would you mind calling 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ack tomorrow ag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---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. Not at all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You’re welco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You’re righ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Nice to meet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66680" y="1447920"/>
            <a:ext cx="8686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r. Black _______ us English sin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e came here in 1990.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is teaching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eaches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has taugh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taught</a:t>
            </a:r>
            <a:br>
              <a:rPr sz="44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066680" y="1447920"/>
            <a:ext cx="8686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r. Black _______ us English sin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e came here in 1990.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is teaching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eaches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has taugh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taught</a:t>
            </a:r>
            <a:br>
              <a:rPr sz="44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黑体"/>
                <a:ea typeface="黑体"/>
              </a:rPr>
              <a:t>单项填空测试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单项填空主要测试考生对基础语法，常用词汇，短语，习语和日常交际用语等知识的识记，识别，理解能力，并测试考生对上述知识的运用能力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90720" y="990720"/>
            <a:ext cx="8686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4. -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ust we get to the theatre befo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7:00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--- No, you _______. The play begi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t 8:0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ust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ca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wo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needn'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90720" y="990720"/>
            <a:ext cx="8686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4. -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ust we get to the theatre befo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7:00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--- No, you _______. The play begi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t 8:0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must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ca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won'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D. needn'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90720" y="137160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5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The policeman warned the boys ____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play football on the stre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do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not t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90720" y="137160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5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The policeman warned the boys ____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play football on the stre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do 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D. not t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90720" y="1066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6. We _______up by an alarm cloc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every morning, so we are nev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late for cla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ak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re woke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were woke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D. wo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90720" y="1066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6. We _______up by an alarm cloc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every morning, so we are nev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late for cla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ak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are woke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were woke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D. wo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7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fter a careful examination, Doctor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Johnson asked me what _______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for breakfast.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had I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have I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I had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I have had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7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fter a careful examination, Doctor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Johnson asked me what _______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for breakfast.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had I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have I ha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I had ha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I have had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. _______ the heavy rain, they had to 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stop the basketball match.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. In the hope of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. Because of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C. In need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. Instead of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. _______ the heavy rain, they had to 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stop the basketball match.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. In the hope of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. Because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C. In need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. Instead of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会考说明中的样题解析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较易题和中等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 ---Is that Ja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Yes. Let’s go and say hello to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h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B. he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D.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9. -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I'm sorry I broke your coffee cu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--- Oh, really? 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It doesn't matter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I don't kn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It’s OK with me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You’re welc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9. -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I'm sorry I broke your coffee cu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--- Oh, really? 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It doesn't matter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I don't kn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It’s OK with me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D. You’re welc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0. The _____ you practise spoken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nglish, the better you can spea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uc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man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mor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mo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0. The _____ you practise spoken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nglish, the better you can spea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uc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man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mor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mo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1. Lily’s TV set is broken. She is going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o get it 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repaire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repair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repair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repa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1. Lily’s TV set is broken. She is going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o get it 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repaire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repair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repair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repa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72360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2. Ben will remember the happy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ays in China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before long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for ev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once ag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as a resul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7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72360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2. Ben will remember the happy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ays in China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before long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for eve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once ag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as a resul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3. Would you like a cup of tea 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hall we get down to busines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right aw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nd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or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but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3. Would you like a cup of tea 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hall we get down to busines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right aw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nd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o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but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会考说明中的样题解析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较易题和中等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 ---Is that Ja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Yes. Let’s go and say hello to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h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he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D.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4. Corn is a useful plant ____ can b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aten by both people and animal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whom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    B. wha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whic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4. Corn is a useful plant ____ can b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aten by both people and animal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whom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    B. wha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. whic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5. I’m sorry I’m a bit late. However,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got here ____ fast ____ I could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ore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much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D. as;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5. I’m sorry I’m a bit late. However,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got here ____ fast ____ I could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more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much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D. as;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99072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6. The IBM Pentium III is not 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xpensive ____ the IBM Pentium I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o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as; s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; than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D. as; th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99072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6. The IBM Pentium III is not 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expensive ____ the IBM Pentium I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so; as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as; so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; than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D. as; th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7. ---Don’t forget to post the letter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ill you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____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have already posted   B. would post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ad already posted     D. was pos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7. ---Don’t forget to post the letter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ill you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____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have already poste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B. would post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ad already posted     D. was pos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99072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8. ____ I prefer  a color TV, I have decided to buy a black and white one this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ince                 B. Although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Because             D.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99072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8. ____ I prefer  a color TV, I have decided to buy a black and white one this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ince 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Although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Because             D.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The Browns are changing ____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furnitu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his                 B. him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hem              D. the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9. If people don’t stop ____ the seas and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ivers, there will be no fish lef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to pollute         B. pollu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polluted            D. pollu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9. If people don’t stop ____ the seas and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ivers, there will be no fish lef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to pollute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. pollu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polluted            D. pollu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30. ---Can I have a look at your newspap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A.  Sure. Go ahea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B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Thanks. That’s very ki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C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No, thank you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Good! See you t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30. ---Can I have a look at your newspap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A. Sure. Go ahea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B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Thanks. That’s very ki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C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No, thank you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Good! See you t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较难题</a:t>
            </a: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 His daughter is always shy in ____ and she never dares to make a speech to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he public; the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public; the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he public;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public;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较难题</a:t>
            </a: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. His daughter is always shy in ____ and she never dares to make a speech to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the public; the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. public; the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the public;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public;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Rose was wild with joy ____ th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result of the examin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o      B. at      C. by      D.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Rose was wild with joy ____ th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result of the examin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o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a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C. by      D.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 A bullet hit the soldier and he wa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ounded in ____ le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      B. one     C. the     D. h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 A bullet hit the soldier and he wa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ounded in ____ le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a      B. one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th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D. h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The Browns are changing ____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furnitu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his                 B. him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hem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D. the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I really appreciate ____ to relax with you on this nice isla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o have had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having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o have tim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to having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I really appreciate ____ to relax with you on this nice isla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o have had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. having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o have tim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to having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5. ---I didn’t know this was a one-way street, offic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hat’s all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I don’t believe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ow dare you say t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orry, but that’s no excu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5. ---I didn’t know this was a one-way street, offic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hat’s all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I don’t believe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How dare you say th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D. Sorry, but that’s no excu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6. ---Why haven’t you bought any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ut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____ to but I forgot abou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liked            B. wish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meant          D. expect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6. ---Why haven’t you bought any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ut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I ____ to but I forgot abou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liked            B. wish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mean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D. expect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7. ____ such heavy pollution already, it may now be too late to clean up the riv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Having suffered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uff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o suff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uffe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7. ____ such heavy pollution already, it may now be too late to clean up the riv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Having suffere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uff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To suff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. Suffe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8. The house needn’t ____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clean                B. clea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 be cleaned       D. clean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8.The house needn’t ____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clean                B. clea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.  be clean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D. clean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3. Every year, _____ smokers die from illness caused by smok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millions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million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million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mill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9. During the discussion, we talked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____ with the foreigner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friendly         B. live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orderly          D. polite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9. During the discussion, we talked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____ with the foreigner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friendly         B. live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orderly      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. polite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0.---Can you come on Monday or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uesd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I’m afraid ____ day is possi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either            B. neither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some             D. a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0.---Can you come on Monday or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uesd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I’m afraid ____ day is possi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either    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B. nei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some             D. a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1.---I wonder if you will go to the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ctu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If you do, so ____ 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m                 B. 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may                D. wi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1.---I wonder if you will go to the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ctu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If you do, so ____ 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m                 B. 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may        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D. wi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2.---Didn’t you watch the football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tch yesterd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____. I would like to have seen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Yes, I did         B. No, I didn’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Yes, I didn’t     D. No, I d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2.---Didn’t you watch the football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tch yesterd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____. I would like to have see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Yes, I did 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B. No, I didn’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Yes, I didn’t     D. No, I d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3. I usually spend as much time  as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can ____ my less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prepare         B. to prep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preparing      D. have prepar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3. I usually spend as much time as I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n ____ my less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prepare         B. to prep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C. prepar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D. have prepar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3. Every year, _____ smokers die from illness caused by smok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. millions of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million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million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mill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4. ---You’ve bought a new Englis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ictiona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o have I         B. So did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 I have         D. do I 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4. ---You’ve bought a new Englis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ictiona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--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o have I         B. So did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So I have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D. do I 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5. You’ve bought a new Englis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ictionary.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o have I         B. So did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 I have         D. do I 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5. You’ve bought a new Englis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dictionary.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A. So have I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B. So did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 So I have         D. do I 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ssignment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opy these exercises o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www. bjedu.gov.c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Do them again, pl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jg</cp:lastModifiedBy>
  <dcterms:modified xsi:type="dcterms:W3CDTF">2003-06-25T02:17:42Z</dcterms:modified>
  <cp:revision>23</cp:revision>
  <dc:subject/>
  <dc:title>高二英语</dc:title>
</cp:coreProperties>
</file>