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9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5.gif" ContentType="image/gif"/>
  <Override PartName="/ppt/media/image11.jpeg" ContentType="image/jpeg"/>
  <Override PartName="/ppt/media/image8.png" ContentType="image/png"/>
  <Override PartName="/ppt/media/image28.gif" ContentType="image/gif"/>
  <Override PartName="/ppt/media/image27.png" ContentType="image/png"/>
  <Override PartName="/ppt/media/image24.gif" ContentType="image/gif"/>
  <Override PartName="/ppt/media/image16.jpeg" ContentType="image/jpeg"/>
  <Override PartName="/ppt/media/image17.gif" ContentType="image/gif"/>
  <Override PartName="/ppt/media/image15.gif" ContentType="image/gif"/>
  <Override PartName="/ppt/media/image14.png" ContentType="image/png"/>
  <Override PartName="/ppt/media/image23.gif" ContentType="image/gif"/>
  <Override PartName="/ppt/media/image3.png" ContentType="image/png"/>
  <Override PartName="/ppt/media/image26.png" ContentType="image/png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73B-AD6C-4611-B0B0-A3DB7C35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F53-37CF-48D7-9B6A-B4E2F7E1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C60-1F79-4A34-B3FA-22CD8EBC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02D-E859-4C2B-8BEE-25424117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225A-4525-4A6D-9BA7-C0C0A28E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CF91-43E0-4FF2-A6FB-2FF6E6DE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046A-6828-4D06-9788-53FE22D3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069C-E43A-42D8-85D5-133DFE81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748A-3302-498B-B03D-F1ECD960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726C-17FB-48DE-9F15-61ECB53F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E130-B46B-4AB1-88C7-44A9ADA5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1EE-739A-4B2D-9801-4246A0A4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1240-3E75-4658-A50D-BBE87170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4371-8C9D-4AB8-B7CD-A645F1E4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F453-3F7B-4018-B6D1-45603124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6F82-797F-47B2-850D-CBED93C7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9C38-8D13-41CA-B018-1BCA31D5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CC28A-1143-42AD-9A91-7C7A7D88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7AC1D-A8AE-4739-BBA2-3E4F4554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6019-0F67-46C2-A4DB-0BD9B337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1FB5E-B852-4EAC-909C-AB13DD9E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B9D08-5C85-4B6D-A902-14BCED0E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170-A87D-4EFA-B19F-82D76A5D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7BEE-6F9C-40D2-99F7-BB8AC5BA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D6A95-DA41-4349-B171-19D2BC25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F2B7F-73DA-4989-9B35-ABF26807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E3E9D-2545-4C4C-ABAA-73DB092B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BDFBF-60E9-4706-86F4-813AAC8F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DB6D4-0AD7-4A5F-AF3F-1F23EAFF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6D076-DA2E-4D67-9921-64B2E45B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71B2-9FA0-4FC3-86E4-94B047DF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05C-A766-4AF4-87DF-E4EB1D2E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804-E8E2-4A5E-BA24-8579E5A3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61D-1352-4462-96F6-789030C3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F85-73FB-4D2F-BDD9-3B84E317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5A5-D46C-454D-866A-DA7B8BD6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5DF9-1249-4F44-9529-D654F0E3B5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48DC-D45B-45B7-AB4C-30053F907AD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47F3-7A4A-4DF5-B694-0080A1CF036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19.gi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" Target="slide5.xml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000160" y="5572080"/>
            <a:ext cx="7143840" cy="128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97360" cy="1285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792000" y="2979720"/>
            <a:ext cx="4295880" cy="1527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dvertising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141640" y="3564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2944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611280" y="189000"/>
            <a:ext cx="3600360" cy="111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Homework: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71640" y="1700280"/>
            <a:ext cx="626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ranslate the following phrases and sentences into Engl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们手拉着手进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控告他用假广告骗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班由张老师负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上张贴的广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留心隐藏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gif0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gif011.gif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1120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835280" y="1844640"/>
            <a:ext cx="7078680" cy="1123920"/>
          </a:xfrm>
          <a:prstGeom prst="cloudCallout">
            <a:avLst>
              <a:gd name="adj1" fmla="val -87541"/>
              <a:gd name="adj2" fmla="val 168643"/>
            </a:avLst>
          </a:prstGeom>
          <a:noFill/>
          <a:ln w="349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Monotype Corsiva"/>
                <a:ea typeface="方正舒体"/>
              </a:rPr>
              <a:t>Thank you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Monotype Corsiva"/>
                <a:ea typeface="方正舒体"/>
              </a:rPr>
              <a:t>Goodbye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gif008.gif"/>
          <p:cNvPicPr/>
          <p:nvPr/>
        </p:nvPicPr>
        <p:blipFill>
          <a:blip r:embed="rId4"/>
          <a:stretch/>
        </p:blipFill>
        <p:spPr>
          <a:xfrm>
            <a:off x="7093080" y="42210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gif003.gif"/>
          <p:cNvPicPr/>
          <p:nvPr/>
        </p:nvPicPr>
        <p:blipFill>
          <a:blip r:embed="rId5"/>
          <a:stretch/>
        </p:blipFill>
        <p:spPr>
          <a:xfrm>
            <a:off x="684360" y="692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gif008.gif"/>
          <p:cNvPicPr/>
          <p:nvPr/>
        </p:nvPicPr>
        <p:blipFill>
          <a:blip r:embed="rId6"/>
          <a:stretch/>
        </p:blipFill>
        <p:spPr>
          <a:xfrm>
            <a:off x="5219640" y="50846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2340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223806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324000" y="492120"/>
          <a:ext cx="8569080" cy="5791320"/>
        </p:xfrm>
        <a:graphic>
          <a:graphicData uri="http://schemas.openxmlformats.org/drawingml/2006/table">
            <a:tbl>
              <a:tblPr/>
              <a:tblGrid>
                <a:gridCol w="1979640"/>
                <a:gridCol w="3074760"/>
                <a:gridCol w="351468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words or 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2340000" y="501336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ustomers should learn to protect themselves from false ads and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smart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40000" y="407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ustomers should be careful of illegal  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37080" y="234936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aware,social,,probl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overnmen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68360" y="242100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Governments and other organizations use ads to make people aware of government policies and soc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40000" y="98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ost important function of advertising is to introduce new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36360" y="342900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3.spread knowledge,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attitudes,improve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35640" y="285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name  their spokesman or spokesw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435640" y="162864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compare,features,functions an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5661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distinguish between fiction and  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1052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truthful,information,help,de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64000" y="50846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goodads  ,introduce products,  increase  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36720" y="465300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"bait-and-switch"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36720" y="407664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keep an eye out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"hidden informatio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9640" y="1700280"/>
            <a:ext cx="7991640" cy="3529080"/>
          </a:xfrm>
          <a:custGeom>
            <a:avLst/>
            <a:gdLst>
              <a:gd name="textAreaLeft" fmla="*/ 0 w 7991640"/>
              <a:gd name="textAreaRight" fmla="*/ 7991640 w 7991640"/>
              <a:gd name="textAreaTop" fmla="*/ 457200 h 3529080"/>
              <a:gd name="textAreaBottom" fmla="*/ 30718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1.Where can ads be found?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2.How do people react to a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333360"/>
            <a:ext cx="3600360" cy="111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Questi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50920" y="5661000"/>
            <a:ext cx="1295640" cy="6793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4211640" y="5734080"/>
            <a:ext cx="1295280" cy="6793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6588000" y="5661000"/>
            <a:ext cx="1295640" cy="679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-541440" y="-963720"/>
            <a:ext cx="10009440" cy="8398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68360" y="126828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.What is the basic principle of advertis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.How do companies get their message acros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.How do you make a good ad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3960" y="47628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Answer the following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732720" y="3789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2195640" y="537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3132000" y="5661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1476360" y="4221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050920" y="4149720"/>
            <a:ext cx="952560" cy="6192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8"/>
          <a:stretch/>
        </p:blipFill>
        <p:spPr>
          <a:xfrm>
            <a:off x="3851280" y="5805360"/>
            <a:ext cx="952560" cy="619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95280" y="69228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.How important are ads in today’s society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7.How do ads help companies and customers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8.What are good ads? What are bad ads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9.Why should we keep an eye out for “hidden information” in ads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0.What are “bait-and –switch”a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780000" y="6021360"/>
            <a:ext cx="3809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763640" y="2565360"/>
            <a:ext cx="69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11.How can we develop a critical attitude towards 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gif046.gif"/>
          <p:cNvPicPr/>
          <p:nvPr/>
        </p:nvPicPr>
        <p:blipFill>
          <a:blip r:embed="rId2"/>
          <a:stretch/>
        </p:blipFill>
        <p:spPr>
          <a:xfrm>
            <a:off x="3348000" y="907920"/>
            <a:ext cx="1800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50920" y="260280"/>
            <a:ext cx="8116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Language poi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77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The girls left the classroom hand in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imilar phrases: face to face/shoulder by shou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780000" y="6165720"/>
            <a:ext cx="3809880" cy="3812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95280" y="3213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accuse…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2560" y="134136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hand 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378936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The neighbours may accuse you of playing your radio too lou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479736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get…a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35280" y="530064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This is the message that we want to get across to the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9280" y="476280"/>
            <a:ext cx="8116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Language poi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5480" y="170028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appeal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4000" y="2492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How did the course appeal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1840" y="3429000"/>
            <a:ext cx="56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keep an eye out for sb/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4149720"/>
            <a:ext cx="78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Will you keep an eye out  for my suitcase while I go to get the ti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36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539640" y="476280"/>
          <a:ext cx="8353440" cy="5495760"/>
        </p:xfrm>
        <a:graphic>
          <a:graphicData uri="http://schemas.openxmlformats.org/drawingml/2006/table">
            <a:tbl>
              <a:tblPr/>
              <a:tblGrid>
                <a:gridCol w="4202280"/>
                <a:gridCol w="415116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611280" y="1268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.Provide information about  latest products./Help customers find good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8000" y="1268280"/>
            <a:ext cx="43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.Lead people to buy the wrong products./Cheat customers of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242100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Increase sales by repeated advertising./Help companies make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335772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Cut costs of newspapers and make them che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11120" y="6818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7964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59280" y="2421000"/>
            <a:ext cx="37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2.Give false or incorrec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32360" y="3357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Take too much time or space on TV or newspap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429264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Make the public aware of social problems./Inform people about important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60360" y="436572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Raise the price of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611280" y="549360"/>
          <a:ext cx="8010000" cy="5590800"/>
        </p:xfrm>
        <a:graphic>
          <a:graphicData uri="http://schemas.openxmlformats.org/drawingml/2006/table">
            <a:tbl>
              <a:tblPr/>
              <a:tblGrid>
                <a:gridCol w="2670120"/>
                <a:gridCol w="2669760"/>
                <a:gridCol w="267012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s 1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evelopment of advertising &amp; peoples' attitud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Tw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asic principle of adverti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Th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s 4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dvantages &amp;disadvantages of a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F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 a critical attitude towards a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468360" y="620640"/>
          <a:ext cx="8343720" cy="5396040"/>
        </p:xfrm>
        <a:graphic>
          <a:graphicData uri="http://schemas.openxmlformats.org/drawingml/2006/table">
            <a:tbl>
              <a:tblPr/>
              <a:tblGrid>
                <a:gridCol w="1227240"/>
                <a:gridCol w="3044520"/>
                <a:gridCol w="40719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    ide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s or 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860720" y="2924280"/>
            <a:ext cx="31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critics,accuse,......mis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88000" y="1557360"/>
            <a:ext cx="40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hand in hand with the development of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2349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defenders,useful, make informed  cho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51577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2.choose among the available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2360" y="595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3640" y="1268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Ads can be found almost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227664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ople react to advertisements in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90520" y="4653000"/>
            <a:ext cx="34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frequent ads increase s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educe the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63640" y="4653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ds help companies and customers in a variety of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9080" y="4221000"/>
            <a:ext cx="37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appeal to customers' emo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3357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1.introduce brand,assoc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products with ou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88720" y="112536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1.TV,radio,Internet,newsp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3284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he basic principle of advertisements is to influence customers'  cho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7964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1128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95640" y="6453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62880" y="393372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2.get message a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60000" y="573408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3.deal with,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3564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324000" y="492120"/>
          <a:ext cx="8569080" cy="5791320"/>
        </p:xfrm>
        <a:graphic>
          <a:graphicData uri="http://schemas.openxmlformats.org/drawingml/2006/table">
            <a:tbl>
              <a:tblPr/>
              <a:tblGrid>
                <a:gridCol w="1979640"/>
                <a:gridCol w="3074760"/>
                <a:gridCol w="351468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words or 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2340000" y="501336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ustomers should learn to protect themselves from false ads and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mart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40000" y="407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ustomers should be careful of illegal  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7080" y="234936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aware,social,,probl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overnmen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8360" y="242100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Governments and other organizations use ads to make people aware of government policies and soc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98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ost important function of advertising is to introduce new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36360" y="342900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3.spread knowledge,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attitudes,improve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35640" y="285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name  their spokesman or spokesw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35640" y="162864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compare,features,functions an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35640" y="5661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distinguish between fiction and  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1052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truthful,information,help,de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64000" y="50846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goodads  ,introduce products,  increase  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36720" y="465300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"bait-and-switch"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36720" y="407664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keep an eye out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"hidden informatio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97000" y="401760"/>
            <a:ext cx="86454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Advertising is a highly developed industry. It has gone _____________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with radio, television and other me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However, people react to ads in different ways. ____________think ads are useful and helpful and help customers make ______________. But critics _________ companies ______ using ads to _______us. Advertising influences customers’ choices by introducing _____________ and associating products with __________needs. There are so many ads for customers, so advertisers try to_______ their message ________by _____________their emo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Ads help companies and customers in a variety of ways. They can help companies________ sales and _________the prices. Meanwhile, they help customers choose among all the_________ products. In fact, ___________ provide good information, and help customers compare features, functions and costs. Some governments name their spokesman or spokeswoman to make people ___________their Social  problems and polic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Customers should protect themselves by _______________________bad ads,____________ between fiction and facts and making good cho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8484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46640" y="135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77080" y="333360"/>
            <a:ext cx="162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Arial"/>
              </a:rPr>
              <a:t>hand in h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58080" y="863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0268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81960" y="114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33080" y="954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Def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40200" y="13590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informed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95560" y="16938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cc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6280" y="1693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20560" y="17193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mis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27360" y="19890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 brand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94720" y="23036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ustomer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33080" y="2664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98440" y="26193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0200" y="297972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ppealing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1280" y="36990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97720" y="3699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95920" y="40147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27000" y="401472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ruthful 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07360" y="500364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wa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62200" y="53737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eeping an  eye ou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5200" y="56786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distingu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96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13:17:38Z</dcterms:created>
  <dc:creator>Jerry</dc:creator>
  <dc:description/>
  <dc:language>en-US</dc:language>
  <cp:lastModifiedBy>Jerry</cp:lastModifiedBy>
  <dcterms:modified xsi:type="dcterms:W3CDTF">2005-09-26T09:36:15Z</dcterms:modified>
  <cp:revision>44</cp:revision>
  <dc:subject/>
  <dc:title>幻灯片 1</dc:title>
</cp:coreProperties>
</file>