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7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B626-67E2-4061-A773-83055E056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9F59-878E-4139-887C-B95B63855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183A-DD5C-4CF4-A95C-A08CA72EF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0572-0DA9-4B5E-B530-0DAA89AED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0A048-8373-40C0-86DF-1BC2D3AA8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660F6-0CE9-4F4F-BC5A-97B9831F5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4A67F-BCFE-4C9C-B5E3-8BC1850E8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E081E-0245-467A-82E8-77C2ADEB7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9EC42-0866-4AA4-AE3E-FD96A837B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1E992-DE24-4868-922E-4EE8BB94C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00006-DBC4-46ED-82CE-6D09B7220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99C4-F01F-4FD6-8380-1356542A2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0B77E-8177-449A-8589-BF716533D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3AFB2-8ECB-4F5A-B4D7-45B777F28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F38C2-404C-4B51-A035-B744092F4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F8C85-9458-427F-82DE-8B4B32B44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F9F32-80AE-4D05-8A51-67304323E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C750-7E6A-4B1E-A27F-FCA9FA62E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58D1-7123-440F-91F4-F3D6A4E45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5FF7-F75D-4CB8-899A-F60B766B4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9A83-134F-4746-9F30-E8C578B29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BD02-6C52-46CA-BB97-59C1353C1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C290-F704-46C4-B537-5778A64BB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0FFA-EE52-484A-99CE-D7AB78F1F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94016-38E7-4222-860F-F5379D26F6CA}" type="slidenum">
              <a:rPr b="0" lang="zh-CN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B4D18-89CD-4204-98E0-0BA640C19415}" type="slidenum"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533520" y="1752480"/>
            <a:ext cx="8219880" cy="285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latin typeface="AucoinLight"/>
              </a:rPr>
              <a:t>Period 1 </a:t>
            </a:r>
            <a:endParaRPr b="1" lang="en-US" sz="60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latin typeface="AucoinLight"/>
              <a:ea typeface="Aucoin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latin typeface="AucoinLight"/>
              <a:ea typeface="Aucoin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latin typeface="AucoinLight"/>
              </a:rPr>
              <a:t>Warming up &amp; Listening</a:t>
            </a:r>
            <a:endParaRPr b="1" lang="en-US" sz="60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latin typeface="AucoinLight"/>
              <a:ea typeface="AucoinLight"/>
            </a:endParaRPr>
          </a:p>
        </p:txBody>
      </p:sp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57200" y="838080"/>
            <a:ext cx="3200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Times New Roman"/>
              </a:rPr>
              <a:t>Make him /her spit by patting him/her on the back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76720" y="5638680"/>
            <a:ext cx="5790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5b5249"/>
                </a:solidFill>
                <a:latin typeface="Times New Roman"/>
              </a:rPr>
              <a:t>To avoid this, we shouldn’t talk or laugh when eating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4" name="10" descr=""/>
          <p:cNvPicPr/>
          <p:nvPr/>
        </p:nvPicPr>
        <p:blipFill>
          <a:blip r:embed="rId1"/>
          <a:stretch/>
        </p:blipFill>
        <p:spPr>
          <a:xfrm>
            <a:off x="685800" y="2819520"/>
            <a:ext cx="2743200" cy="3189240"/>
          </a:xfrm>
          <a:prstGeom prst="rect">
            <a:avLst/>
          </a:prstGeom>
          <a:ln w="0">
            <a:noFill/>
          </a:ln>
        </p:spPr>
      </p:pic>
      <p:pic>
        <p:nvPicPr>
          <p:cNvPr id="145" name="11" descr=""/>
          <p:cNvPicPr/>
          <p:nvPr/>
        </p:nvPicPr>
        <p:blipFill>
          <a:blip r:embed="rId2"/>
          <a:stretch/>
        </p:blipFill>
        <p:spPr>
          <a:xfrm>
            <a:off x="7010280" y="609480"/>
            <a:ext cx="1844640" cy="4267440"/>
          </a:xfrm>
          <a:prstGeom prst="rect">
            <a:avLst/>
          </a:prstGeom>
          <a:ln w="0">
            <a:noFill/>
          </a:ln>
        </p:spPr>
      </p:pic>
      <p:pic>
        <p:nvPicPr>
          <p:cNvPr id="146" name="12" descr=""/>
          <p:cNvPicPr/>
          <p:nvPr/>
        </p:nvPicPr>
        <p:blipFill>
          <a:blip r:embed="rId3"/>
          <a:stretch/>
        </p:blipFill>
        <p:spPr>
          <a:xfrm>
            <a:off x="3429000" y="1924200"/>
            <a:ext cx="3809880" cy="31017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79280" y="685800"/>
            <a:ext cx="8964720" cy="59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Impact"/>
              </a:rPr>
              <a:t>Step 2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Listening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pre-listening: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Look at the pictures on P.58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cc"/>
                </a:solidFill>
                <a:latin typeface="Arial"/>
              </a:rPr>
              <a:t>Where are they?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cc"/>
                </a:solidFill>
                <a:latin typeface="Arial"/>
              </a:rPr>
              <a:t>What do you guess has happened to the   boy and the girl?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Now read the requirements quickly and find out what to do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While-Listening:  listen to the tape and finish the exercises on p.58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219320"/>
            <a:ext cx="9144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5b5249"/>
                </a:solidFill>
                <a:latin typeface="Times New Roman"/>
              </a:rPr>
              <a:t>1.Listen to the tape. What happened to each child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5b5249"/>
                </a:solidFill>
                <a:latin typeface="Times New Roman"/>
              </a:rPr>
              <a:t>Child 1:________________________________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5b5249"/>
                </a:solidFill>
                <a:latin typeface="Times New Roman"/>
              </a:rPr>
              <a:t>Child 2:________________________________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80880" y="4114800"/>
          <a:ext cx="8457840" cy="2435400"/>
        </p:xfrm>
        <a:graphic>
          <a:graphicData uri="http://schemas.openxmlformats.org/drawingml/2006/table">
            <a:tbl>
              <a:tblPr/>
              <a:tblGrid>
                <a:gridCol w="4069440"/>
                <a:gridCol w="2314080"/>
                <a:gridCol w="2074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Child 1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Child 2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When did it happen?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Was any first aid given?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If so what was given?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-8640" y="3352680"/>
            <a:ext cx="900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Times New Roman"/>
              </a:rPr>
              <a:t>2. Listen to the tape again and answer the questions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80880" y="1219320"/>
            <a:ext cx="845820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a50021"/>
                </a:solidFill>
                <a:latin typeface="Times New Roman"/>
              </a:rPr>
              <a:t>3. Listen to the nurse’s questions in the first dialogue and write them down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a50021"/>
                </a:solidFill>
                <a:latin typeface="Times New Roman"/>
              </a:rPr>
              <a:t>1.Can__________________________________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a50021"/>
                </a:solidFill>
                <a:latin typeface="Times New Roman"/>
              </a:rPr>
              <a:t>2.What’s_______________________________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a50021"/>
                </a:solidFill>
                <a:latin typeface="Times New Roman"/>
              </a:rPr>
              <a:t>3.What did you do________________________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a50021"/>
                </a:solidFill>
                <a:latin typeface="Times New Roman"/>
              </a:rPr>
              <a:t>4.Does__________________________________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304920"/>
            <a:ext cx="9144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Post-Listening: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1752480"/>
            <a:ext cx="449568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Look at the pictures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1. What would you do in these situations?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2.What could we do to prevent these accidents?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55" name="9" descr=""/>
          <p:cNvPicPr/>
          <p:nvPr/>
        </p:nvPicPr>
        <p:blipFill>
          <a:blip r:embed="rId1"/>
          <a:stretch/>
        </p:blipFill>
        <p:spPr>
          <a:xfrm>
            <a:off x="4876920" y="380880"/>
            <a:ext cx="3276360" cy="2895840"/>
          </a:xfrm>
          <a:prstGeom prst="rect">
            <a:avLst/>
          </a:prstGeom>
          <a:ln w="0">
            <a:noFill/>
          </a:ln>
        </p:spPr>
      </p:pic>
      <p:pic>
        <p:nvPicPr>
          <p:cNvPr id="156" name="8" descr=""/>
          <p:cNvPicPr/>
          <p:nvPr/>
        </p:nvPicPr>
        <p:blipFill>
          <a:blip r:embed="rId2"/>
          <a:stretch/>
        </p:blipFill>
        <p:spPr>
          <a:xfrm>
            <a:off x="4648320" y="3352680"/>
            <a:ext cx="4038480" cy="32180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1066680"/>
            <a:ext cx="4724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Times New Roman"/>
              </a:rPr>
              <a:t>What happened to the girl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1905120"/>
            <a:ext cx="4495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Times New Roman"/>
              </a:rPr>
              <a:t>What can we do to help her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3276720"/>
            <a:ext cx="4495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Times New Roman"/>
              </a:rPr>
              <a:t>What can we do to help her before the doctor comes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5105520"/>
            <a:ext cx="464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Times New Roman"/>
              </a:rPr>
              <a:t>What do you already know about first aid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5" name="018-1-1" descr=""/>
          <p:cNvPicPr/>
          <p:nvPr/>
        </p:nvPicPr>
        <p:blipFill>
          <a:blip r:embed="rId1"/>
          <a:stretch/>
        </p:blipFill>
        <p:spPr>
          <a:xfrm>
            <a:off x="5105520" y="1295280"/>
            <a:ext cx="3987720" cy="52736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685800"/>
            <a:ext cx="896472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Impact"/>
              </a:rPr>
              <a:t>Step 1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w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rming-up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160020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rainstorming: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hat words can you think of when you talk about accidents and first aid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00400" y="3962520"/>
            <a:ext cx="3048120" cy="990360"/>
          </a:xfrm>
          <a:prstGeom prst="ellipse">
            <a:avLst/>
          </a:prstGeom>
          <a:solidFill>
            <a:srgbClr val="cc66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ff33"/>
                </a:solidFill>
                <a:latin typeface="Times New Roman"/>
              </a:rPr>
              <a:t>Acciden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ff33"/>
                </a:solidFill>
                <a:latin typeface="Times New Roman"/>
              </a:rPr>
              <a:t>First ai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3048120" y="3428640"/>
            <a:ext cx="457200" cy="68580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57400" y="28195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drow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343400" y="3200040"/>
            <a:ext cx="0" cy="76212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86200" y="27432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blee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257800" y="3352320"/>
            <a:ext cx="457200" cy="68580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28195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6600"/>
                </a:solidFill>
                <a:latin typeface="Times New Roman"/>
              </a:rPr>
              <a:t>chok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943600" y="3733560"/>
            <a:ext cx="762120" cy="53316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781680" y="3352680"/>
            <a:ext cx="236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Burn/catch fir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943600" y="4724280"/>
            <a:ext cx="685800" cy="53352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629400" y="49528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cc"/>
                </a:solidFill>
                <a:latin typeface="Times New Roman"/>
              </a:rPr>
              <a:t>cu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05520" y="4952880"/>
            <a:ext cx="152280" cy="91440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57150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a50021"/>
                </a:solidFill>
                <a:latin typeface="Times New Roman"/>
              </a:rPr>
              <a:t>electrica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3733920" y="4952880"/>
            <a:ext cx="304560" cy="76212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95480" y="563868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99"/>
                </a:solidFill>
                <a:latin typeface="Times New Roman"/>
              </a:rPr>
              <a:t>woun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2286000" y="4266720"/>
            <a:ext cx="990720" cy="22860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380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cc"/>
                </a:solidFill>
                <a:latin typeface="Times New Roman"/>
              </a:rPr>
              <a:t>ambulanc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590920" y="4724280"/>
            <a:ext cx="761760" cy="53352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510552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un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onsciou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38080" y="579132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5b5249"/>
                </a:solidFill>
                <a:latin typeface="Times New Roman"/>
              </a:rPr>
              <a:t>… …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533520" y="1219320"/>
            <a:ext cx="8316720" cy="34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349"/>
              </a:spcBef>
              <a:buClr>
                <a:srgbClr val="ff33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Pair Work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Look at the pictures on P.57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buClr>
                <a:srgbClr val="cc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Times New Roman"/>
              </a:rPr>
              <a:t>What would you do in these situations?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buClr>
                <a:srgbClr val="cc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Times New Roman"/>
              </a:rPr>
              <a:t>What could we do to prevent these accidents?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57200" y="1447920"/>
            <a:ext cx="320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Check to see if he /she is breathing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3352680"/>
            <a:ext cx="3047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Try to start his /her breathing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43000" y="541008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Times New Roman"/>
              </a:rPr>
              <a:t>Never swim in deep water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2" name="2" descr=""/>
          <p:cNvPicPr/>
          <p:nvPr/>
        </p:nvPicPr>
        <p:blipFill>
          <a:blip r:embed="rId1"/>
          <a:stretch/>
        </p:blipFill>
        <p:spPr>
          <a:xfrm>
            <a:off x="4267080" y="1066680"/>
            <a:ext cx="4419720" cy="44197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09480" y="990720"/>
            <a:ext cx="335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99"/>
                </a:solidFill>
                <a:latin typeface="Times New Roman"/>
              </a:rPr>
              <a:t>Call for a doctor or an ambulanc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2362320"/>
            <a:ext cx="3429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99"/>
                </a:solidFill>
                <a:latin typeface="Times New Roman"/>
              </a:rPr>
              <a:t>Never pull her out of the ca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3733920"/>
            <a:ext cx="5181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99"/>
                </a:solidFill>
                <a:latin typeface="Times New Roman"/>
              </a:rPr>
              <a:t>Find enough people to lift  the car safely and take her to hospital at onc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38080" y="571500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Times New Roman"/>
              </a:rPr>
              <a:t>Look at both sides when crossing the street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7" name="3" descr=""/>
          <p:cNvPicPr/>
          <p:nvPr/>
        </p:nvPicPr>
        <p:blipFill>
          <a:blip r:embed="rId1"/>
          <a:stretch/>
        </p:blipFill>
        <p:spPr>
          <a:xfrm>
            <a:off x="5410080" y="914400"/>
            <a:ext cx="3733920" cy="44244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04920" y="914400"/>
            <a:ext cx="3809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Times New Roman"/>
              </a:rPr>
              <a:t>Call 119 first and tell them the exact address on the phon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2819520"/>
            <a:ext cx="4419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Times New Roman"/>
              </a:rPr>
              <a:t>If someone is badly burnt,we should call 120 to ask for an ambulanc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4586400"/>
            <a:ext cx="86104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Never play with fir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Be careful with ga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Make sure that all the electric wires are saf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1" name="4" descr=""/>
          <p:cNvPicPr/>
          <p:nvPr/>
        </p:nvPicPr>
        <p:blipFill>
          <a:blip r:embed="rId1"/>
          <a:stretch/>
        </p:blipFill>
        <p:spPr>
          <a:xfrm>
            <a:off x="4876920" y="838080"/>
            <a:ext cx="3809880" cy="41576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762120"/>
            <a:ext cx="42670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a0a9a"/>
                </a:solidFill>
                <a:latin typeface="Times New Roman"/>
              </a:rPr>
              <a:t>Try to stop the bleeding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1981080"/>
            <a:ext cx="41148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a0a9a"/>
                </a:solidFill>
                <a:latin typeface="Times New Roman"/>
              </a:rPr>
              <a:t>Press a handkerchief onto the bleeding point and hold it ther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4267080"/>
            <a:ext cx="419112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a0a9a"/>
                </a:solidFill>
                <a:latin typeface="Times New Roman"/>
              </a:rPr>
              <a:t>Hold up the part of body which is bleeding if possibl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5" name="5" descr=""/>
          <p:cNvPicPr/>
          <p:nvPr/>
        </p:nvPicPr>
        <p:blipFill>
          <a:blip r:embed="rId1"/>
          <a:stretch/>
        </p:blipFill>
        <p:spPr>
          <a:xfrm>
            <a:off x="4191120" y="380880"/>
            <a:ext cx="4647960" cy="3886200"/>
          </a:xfrm>
          <a:prstGeom prst="rect">
            <a:avLst/>
          </a:prstGeom>
          <a:ln w="0">
            <a:noFill/>
          </a:ln>
        </p:spPr>
      </p:pic>
      <p:pic>
        <p:nvPicPr>
          <p:cNvPr id="136" name="6" descr=""/>
          <p:cNvPicPr/>
          <p:nvPr/>
        </p:nvPicPr>
        <p:blipFill>
          <a:blip r:embed="rId2"/>
          <a:stretch/>
        </p:blipFill>
        <p:spPr>
          <a:xfrm>
            <a:off x="4191120" y="2590920"/>
            <a:ext cx="4647960" cy="35812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80880" y="228600"/>
            <a:ext cx="381024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Go to the hospital at onc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1295280"/>
            <a:ext cx="381024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Never pull it out of the cut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9" name="019-1-3" descr=""/>
          <p:cNvPicPr/>
          <p:nvPr/>
        </p:nvPicPr>
        <p:blipFill>
          <a:blip r:embed="rId1"/>
          <a:stretch/>
        </p:blipFill>
        <p:spPr>
          <a:xfrm>
            <a:off x="457200" y="2438280"/>
            <a:ext cx="3381480" cy="44197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733920" y="4495680"/>
            <a:ext cx="5181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If the cut is not serious, we can wash the area of cut,dry it and cover it with a piece of dry and clean cloth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1" name="15" descr=""/>
          <p:cNvPicPr/>
          <p:nvPr/>
        </p:nvPicPr>
        <p:blipFill>
          <a:blip r:embed="rId2"/>
          <a:stretch/>
        </p:blipFill>
        <p:spPr>
          <a:xfrm>
            <a:off x="4191120" y="685800"/>
            <a:ext cx="4495680" cy="32227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5T01:45:31Z</dcterms:created>
  <dc:creator>0</dc:creator>
  <dc:description/>
  <dc:language>en-US</dc:language>
  <cp:lastModifiedBy>jackal</cp:lastModifiedBy>
  <dcterms:modified xsi:type="dcterms:W3CDTF">2001-05-30T17:20:42Z</dcterms:modified>
  <cp:revision>23</cp:revision>
  <dc:subject/>
  <dc:title>PowerPoint 演示文稿</dc:title>
</cp:coreProperties>
</file>