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20.jpeg" ContentType="image/jpeg"/>
  <Override PartName="/ppt/media/image25.jpeg" ContentType="image/jpeg"/>
  <Override PartName="/ppt/media/image4.jpeg" ContentType="image/jpeg"/>
  <Override PartName="/ppt/media/image8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7.jpeg" ContentType="image/jpeg"/>
  <Override PartName="/ppt/media/image28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31.jpeg" ContentType="image/jpeg"/>
  <Override PartName="/ppt/media/image14.gif" ContentType="image/gif"/>
  <Override PartName="/ppt/media/image17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2.gif" ContentType="image/gif"/>
  <Override PartName="/ppt/media/image32.gif" ContentType="image/gif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7CF-2A70-46D6-92B1-B9DFEF9D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D4F9-A468-45BE-92C8-37870823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57B3-EDF7-4B1F-8CAC-CF661718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0764-2F79-436E-ACCF-4A9D58FE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5E39-F7AB-476A-922E-0EFB1E41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5B9F-25E3-41FA-946C-40656867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8734-0CEF-4DA6-AA7D-8250A8AA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615-3376-40FC-AF5D-9C362240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3978-1260-47D4-9B3B-DD427761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0B08-D677-48B3-B40F-04744842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45B-7749-40AD-AC70-AF478F09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C0AD-FCA3-48A7-A8F0-81481EBF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A126-22ED-424F-B1DC-320D303E2D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51share.net/upfiles/2004217032227186.swf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3888000" y="31240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11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65240" y="803160"/>
            <a:ext cx="458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Unit  14  Festiv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2152800"/>
            <a:ext cx="7962840" cy="21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Unit 14  Festiva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hank06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6324840" cy="4711680"/>
          </a:xfrm>
          <a:prstGeom prst="rect">
            <a:avLst/>
          </a:prstGeom>
          <a:ln w="0">
            <a:noFill/>
          </a:ln>
        </p:spPr>
      </p:pic>
      <p:pic>
        <p:nvPicPr>
          <p:cNvPr id="69" name="thank09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5029200" cy="3805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6520" y="1219320"/>
            <a:ext cx="41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anks Giving Da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火鸡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480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50280" y="5410080"/>
            <a:ext cx="16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tur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uple1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91520" cy="4938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02360" y="5791320"/>
            <a:ext cx="34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St Valentine’s D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ddabw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248000" cy="5791320"/>
          </a:xfrm>
          <a:prstGeom prst="rect">
            <a:avLst/>
          </a:prstGeom>
          <a:ln w="0">
            <a:noFill/>
          </a:ln>
        </p:spPr>
      </p:pic>
      <p:pic>
        <p:nvPicPr>
          <p:cNvPr id="76" name="日本盆节6" descr=""/>
          <p:cNvPicPr/>
          <p:nvPr/>
        </p:nvPicPr>
        <p:blipFill>
          <a:blip r:embed="rId2"/>
          <a:stretch/>
        </p:blipFill>
        <p:spPr>
          <a:xfrm>
            <a:off x="0" y="0"/>
            <a:ext cx="2554200" cy="3809880"/>
          </a:xfrm>
          <a:prstGeom prst="rect">
            <a:avLst/>
          </a:prstGeom>
          <a:ln w="0">
            <a:noFill/>
          </a:ln>
        </p:spPr>
      </p:pic>
      <p:pic>
        <p:nvPicPr>
          <p:cNvPr id="77" name="日本盆节4" descr=""/>
          <p:cNvPicPr/>
          <p:nvPr/>
        </p:nvPicPr>
        <p:blipFill>
          <a:blip r:embed="rId3"/>
          <a:stretch/>
        </p:blipFill>
        <p:spPr>
          <a:xfrm>
            <a:off x="6759720" y="2743200"/>
            <a:ext cx="238428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27160" y="527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9520" y="487692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Ob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万圣节" descr=""/>
          <p:cNvPicPr/>
          <p:nvPr/>
        </p:nvPicPr>
        <p:blipFill>
          <a:blip r:embed="rId1"/>
          <a:stretch/>
        </p:blipFill>
        <p:spPr>
          <a:xfrm>
            <a:off x="380880" y="0"/>
            <a:ext cx="4114800" cy="3670200"/>
          </a:xfrm>
          <a:prstGeom prst="rect">
            <a:avLst/>
          </a:prstGeom>
          <a:ln w="0">
            <a:noFill/>
          </a:ln>
        </p:spPr>
      </p:pic>
      <p:pic>
        <p:nvPicPr>
          <p:cNvPr id="81" name="万圣节2" descr=""/>
          <p:cNvPicPr/>
          <p:nvPr/>
        </p:nvPicPr>
        <p:blipFill>
          <a:blip r:embed="rId2"/>
          <a:stretch/>
        </p:blipFill>
        <p:spPr>
          <a:xfrm>
            <a:off x="4648320" y="457200"/>
            <a:ext cx="3733560" cy="2814480"/>
          </a:xfrm>
          <a:prstGeom prst="rect">
            <a:avLst/>
          </a:prstGeom>
          <a:ln w="50760">
            <a:solidFill>
              <a:srgbClr val="808000"/>
            </a:solidFill>
            <a:miter/>
          </a:ln>
        </p:spPr>
      </p:pic>
      <p:pic>
        <p:nvPicPr>
          <p:cNvPr id="82" name="17_05_934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3352680" cy="287316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pic>
        <p:nvPicPr>
          <p:cNvPr id="83" name="17_05_949" descr=""/>
          <p:cNvPicPr/>
          <p:nvPr/>
        </p:nvPicPr>
        <p:blipFill>
          <a:blip r:embed="rId4"/>
          <a:stretch/>
        </p:blipFill>
        <p:spPr>
          <a:xfrm>
            <a:off x="4724280" y="3657600"/>
            <a:ext cx="3429000" cy="2940120"/>
          </a:xfrm>
          <a:prstGeom prst="rect">
            <a:avLst/>
          </a:prstGeom>
          <a:ln w="54000">
            <a:solidFill>
              <a:srgbClr val="808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1371600" y="2819520"/>
            <a:ext cx="25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Hallowe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墨西哥鬼节" descr=""/>
          <p:cNvPicPr/>
          <p:nvPr/>
        </p:nvPicPr>
        <p:blipFill>
          <a:blip r:embed="rId1"/>
          <a:stretch/>
        </p:blipFill>
        <p:spPr>
          <a:xfrm>
            <a:off x="685800" y="0"/>
            <a:ext cx="7696080" cy="6761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898720" y="5514840"/>
            <a:ext cx="253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The Dea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1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600200" y="609480"/>
            <a:ext cx="6172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Let's re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11280" y="2924280"/>
            <a:ext cx="73911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732720" y="5237280"/>
            <a:ext cx="2047680" cy="1620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4360" y="5097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Read the text fast and find out the answ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6560" y="217800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at is the festival abou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3429000"/>
            <a:ext cx="65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t is a seven-day festival celebrating the culture and history of African Americ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824960" y="4724280"/>
            <a:ext cx="1319040" cy="2133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8077320" cy="66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  1.  Kwanzaa  is  a  very  old   festi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  2.  The word Kwanzaa means first fruit in Swahi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  3.  Kwanzaa is based on old African festiv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  4.  People created Kwanzaa to celebrate American cul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 Kwanzaa is celebrate on Christmas  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  6.  People who celebrate Kwanzaa light a candle for each of the seven princip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4572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56386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519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762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24526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13716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60948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yo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00ff"/>
                </a:solidFill>
                <a:uFillTx/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3900600"/>
            <a:ext cx="30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merican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71440" y="700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35960" y="4572000"/>
            <a:ext cx="24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n Christ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7440" y="496728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7720" y="3886200"/>
            <a:ext cx="60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African-American culture and cul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15480" y="5019840"/>
            <a:ext cx="35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from Dec 26 to Jan 1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春节" descr=""/>
          <p:cNvPicPr/>
          <p:nvPr/>
        </p:nvPicPr>
        <p:blipFill>
          <a:blip r:embed="rId1"/>
          <a:stretch/>
        </p:blipFill>
        <p:spPr>
          <a:xfrm>
            <a:off x="0" y="457200"/>
            <a:ext cx="9067680" cy="535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6800" y="3048120"/>
            <a:ext cx="5892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ff"/>
                </a:solidFill>
                <a:latin typeface="方正姚体"/>
                <a:ea typeface="方正姚体"/>
              </a:rPr>
              <a:t>Spring festiv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248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1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7794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2800" spc="-1" strike="noStrike">
                <a:solidFill>
                  <a:srgbClr val="119c02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at’s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0114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en do people celebrate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45124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It is a seven-day festival celebrating the culture and history of African Americ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4821120"/>
            <a:ext cx="453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he week following Christmas Day.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55640" y="58248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2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8730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2800" spc="-1" strike="noStrike">
                <a:solidFill>
                  <a:srgbClr val="119c02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en was Kwanzaa bor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8638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y did people create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914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at did the African first-frui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festivals have in comm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55640" y="58248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2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7794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2800" spc="-1" strike="noStrike">
                <a:solidFill>
                  <a:srgbClr val="119c02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en was Kwanzaa bor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68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y did people create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24512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In 19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3860640"/>
            <a:ext cx="705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eople created the festival so that African Americans would be able to celebrate their history and cul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55640" y="3333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2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4842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at did the African first-frui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festivals have in comm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2637000"/>
            <a:ext cx="792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1.People would get together t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celebrate their harves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2.They used to give thanks for the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harvests and for lif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3.They used to honour their ancestors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celebrate their past, an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group or society they live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55640" y="3333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3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484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at are the principles of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2230560"/>
            <a:ext cx="47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1.Unity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2.Self-d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3.Living togethe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4.Working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5.Purpos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6.Crea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7.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55640" y="3333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4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6444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en</a:t>
            </a: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oes Kwanzaa begin and e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7115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id people choose that dat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778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How</a:t>
            </a: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o people celebrate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55640" y="3333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4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484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en</a:t>
            </a: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oes Kwanzaa begin and e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213372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It begins the day after Christmas Day and ends on New Year’s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1417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id people choose that dat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3789360"/>
            <a:ext cx="75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Because people who celebrate Kwanzaa can enjoy the spirit of the holidays without all the commercial activities of Christ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55640" y="5097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4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7794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How</a:t>
            </a: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o people celebrate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2522520"/>
            <a:ext cx="756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eople celebrate it by lighting a candle each day and discussing one of the seven principles of Kwanza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4035600"/>
            <a:ext cx="756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On the last day of Kwanzaa, family and friends gather to enjoy a large meal and to celebrate the new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85800" y="99072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he main idea of Para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he general introduction to a new festival ---- Kwaanzaa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350532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he main idea of Para 2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43434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How was Kwanzaa born?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85800" y="68580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he main idea of Para 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447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he seven principles of kwanza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243828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he main idea of Para 4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352680"/>
            <a:ext cx="922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When and how Kwanzaa is celebrated?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415908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he main idea of Para 5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4876920"/>
            <a:ext cx="922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Why are we all creating new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estival every year ?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lianhuadeng" descr=""/>
          <p:cNvPicPr/>
          <p:nvPr/>
        </p:nvPicPr>
        <p:blipFill>
          <a:blip r:embed="rId1"/>
          <a:stretch/>
        </p:blipFill>
        <p:spPr>
          <a:xfrm>
            <a:off x="1447920" y="1123920"/>
            <a:ext cx="6019560" cy="5734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97640" y="457200"/>
            <a:ext cx="32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Lantern festi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400800" y="990720"/>
            <a:ext cx="2286000" cy="1752480"/>
          </a:xfrm>
          <a:prstGeom prst="cloudCallout">
            <a:avLst>
              <a:gd name="adj1" fmla="val -83888"/>
              <a:gd name="adj2" fmla="val 1446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533520"/>
            <a:ext cx="2514600" cy="1752480"/>
          </a:xfrm>
          <a:prstGeom prst="cloudCallout">
            <a:avLst>
              <a:gd name="adj1" fmla="val -16981"/>
              <a:gd name="adj2" fmla="val 1628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62920" y="2895480"/>
            <a:ext cx="1981080" cy="1752840"/>
          </a:xfrm>
          <a:prstGeom prst="cloudCallout">
            <a:avLst>
              <a:gd name="adj1" fmla="val -97916"/>
              <a:gd name="adj2" fmla="val 684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914400"/>
            <a:ext cx="2286000" cy="1752480"/>
          </a:xfrm>
          <a:prstGeom prst="cloudCallout">
            <a:avLst>
              <a:gd name="adj1" fmla="val 55069"/>
              <a:gd name="adj2" fmla="val 1370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514600"/>
            <a:ext cx="1981080" cy="1752480"/>
          </a:xfrm>
          <a:prstGeom prst="cloudCallout">
            <a:avLst>
              <a:gd name="adj1" fmla="val 113782"/>
              <a:gd name="adj2" fmla="val 569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10666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1447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3200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29400" y="1523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36576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40960" y="5181480"/>
            <a:ext cx="77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an you  create a festival for yourself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2590920"/>
            <a:ext cx="2438280" cy="17524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8000" y="102564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wanzaa is a ______-day festival celebrating the _______ and ________ of African Americans. It is between _____________ and ____________, the week ___________ Christmas Day. There are seven _________for this festival: unity, _______________  , living together,_______________, purpose, creativity and ______. People celebrate the festival by _______ a candle each day and __________ one of the seven principles. They enjoy a ____________ on the last day of Kwanzaa. Kwanzaa, like other important holidays and ________in the world, helps us understand_____________, remember __________________ , and share __________for a happy fu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66920" y="981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61160" y="993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137484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1901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ecember 26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48000" y="18446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January 1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05680" y="18302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oll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19560" y="22622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rin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16000" y="2708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lf-de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19880" y="2708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orking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51200" y="3141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63640" y="35575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gh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35575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iscu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7280" y="39895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arge m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95640" y="48546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estiv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87640" y="528624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o we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9280" y="571824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ere we come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38720" y="571824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ur h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600" y="-25560"/>
            <a:ext cx="9144000" cy="1008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Retell the text</a:t>
            </a:r>
            <a:r>
              <a:rPr b="1" i="1" lang="en-US" sz="6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447920" y="1523880"/>
            <a:ext cx="59436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7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ank you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w1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15320" y="5562720"/>
            <a:ext cx="444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Dragon boat festiv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00291717331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27560" y="2666880"/>
            <a:ext cx="594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Monotype Corsiva"/>
              </a:rPr>
              <a:t>Mid-autumn Festi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6240" y="350532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oon festiv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hongyang01" descr=""/>
          <p:cNvPicPr/>
          <p:nvPr/>
        </p:nvPicPr>
        <p:blipFill>
          <a:blip r:embed="rId1"/>
          <a:stretch/>
        </p:blipFill>
        <p:spPr>
          <a:xfrm>
            <a:off x="1523880" y="0"/>
            <a:ext cx="2514600" cy="2023920"/>
          </a:xfrm>
          <a:prstGeom prst="rect">
            <a:avLst/>
          </a:prstGeom>
          <a:ln w="0">
            <a:noFill/>
          </a:ln>
        </p:spPr>
      </p:pic>
      <p:pic>
        <p:nvPicPr>
          <p:cNvPr id="54" name="chongyang02" descr=""/>
          <p:cNvPicPr/>
          <p:nvPr/>
        </p:nvPicPr>
        <p:blipFill>
          <a:blip r:embed="rId2"/>
          <a:stretch/>
        </p:blipFill>
        <p:spPr>
          <a:xfrm>
            <a:off x="4572000" y="0"/>
            <a:ext cx="2514600" cy="2023920"/>
          </a:xfrm>
          <a:prstGeom prst="rect">
            <a:avLst/>
          </a:prstGeom>
          <a:ln w="0">
            <a:noFill/>
          </a:ln>
        </p:spPr>
      </p:pic>
      <p:pic>
        <p:nvPicPr>
          <p:cNvPr id="55" name="chongyang03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8229600" cy="2000160"/>
          </a:xfrm>
          <a:prstGeom prst="rect">
            <a:avLst/>
          </a:prstGeom>
          <a:ln w="0">
            <a:noFill/>
          </a:ln>
        </p:spPr>
      </p:pic>
      <p:pic>
        <p:nvPicPr>
          <p:cNvPr id="56" name="1005a" descr=""/>
          <p:cNvPicPr/>
          <p:nvPr/>
        </p:nvPicPr>
        <p:blipFill>
          <a:blip r:embed="rId4"/>
          <a:stretch/>
        </p:blipFill>
        <p:spPr>
          <a:xfrm>
            <a:off x="1066680" y="4206960"/>
            <a:ext cx="3810240" cy="2651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56000" y="5029200"/>
            <a:ext cx="33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Double Ninth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清明节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029200" cy="3295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5029200" cy="3292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21120" y="4495680"/>
            <a:ext cx="551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Tomb sweeping da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The clear and bright festi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60200" y="5867280"/>
            <a:ext cx="54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Stepping on Greenery festiv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芦笙节1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531040"/>
          </a:xfrm>
          <a:prstGeom prst="rect">
            <a:avLst/>
          </a:prstGeom>
          <a:ln w="0">
            <a:noFill/>
          </a:ln>
        </p:spPr>
      </p:pic>
      <p:pic>
        <p:nvPicPr>
          <p:cNvPr id="63" name="凯里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8153280" cy="5550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20040" y="6016680"/>
            <a:ext cx="519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Kaili Lusheng Festiv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3865680" cy="5562360"/>
          </a:xfrm>
          <a:prstGeom prst="rect">
            <a:avLst/>
          </a:prstGeom>
          <a:ln w="0">
            <a:noFill/>
          </a:ln>
        </p:spPr>
      </p:pic>
      <p:pic>
        <p:nvPicPr>
          <p:cNvPr id="66" name="7" descr=""/>
          <p:cNvPicPr/>
          <p:nvPr/>
        </p:nvPicPr>
        <p:blipFill>
          <a:blip r:embed="rId2"/>
          <a:stretch/>
        </p:blipFill>
        <p:spPr>
          <a:xfrm>
            <a:off x="5029200" y="762120"/>
            <a:ext cx="3357720" cy="4495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91120" y="5683320"/>
            <a:ext cx="31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Christmas Da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龙洲</cp:lastModifiedBy>
  <dcterms:modified xsi:type="dcterms:W3CDTF">2004-03-03T09:52:10Z</dcterms:modified>
  <cp:revision>139</cp:revision>
  <dc:subject/>
  <dc:title>PowerPoint Presentation</dc:title>
</cp:coreProperties>
</file>