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AA32-84EB-4008-ABD8-4E04D6BF8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60E14-8824-43F4-9D59-E8AED7770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F230-D60B-4A5D-A70F-D16E0924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A0C7-5671-4E31-AFC2-F7AB9BE7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E63F5-B1AB-4881-AE2A-006F3EF1D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EFFE8-20B7-48C2-9417-59FE50A0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131E-42DB-4734-B726-958603748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6697-6F7D-40E1-A29A-21F20E691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B5CCF-A88F-4778-8314-F36FD4C22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96CE1-E08E-441C-80F0-BCF7AF206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826A6-7A94-46D6-B07E-286B4F9A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06C7-D05B-4930-BE47-AD75C9BC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21284-A3DD-4BA8-AA33-EBAF37D41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E4DC9-5F49-4DCE-BDB3-4B9D3901D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6E693-C9FD-471D-A73E-BF3ED41C8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BE734-618A-4C9F-A321-E230853F6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4FF8D-536A-4318-9574-F2EC189B5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FC63-F6C3-401A-800E-4117C8C9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6FD8-D875-45AC-A90C-1A5A5BB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703D-83D0-4507-94BC-F81EFC42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A75-A436-43CC-84A5-C29050F16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771-E244-45F9-8C41-57D1C4B7F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F6E13-A7AE-4E84-8F0B-2232186F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6D80-22D6-468B-A6D4-76F3D6E8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1FEE4-F488-4A80-9898-B93B15DFEEB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CA57-ED15-434E-809E-352F3024148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716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年级  高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学科  英语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BU19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A freedom fighter  (B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播放时间  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28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日 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(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星期三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)  9:50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讲课教师   方芳</a:t>
            </a:r>
            <a:r>
              <a:rPr b="1" lang="zh-CN" sz="3600" spc="-1" strike="noStrike">
                <a:solidFill>
                  <a:srgbClr val="ffff66"/>
                </a:solidFill>
                <a:latin typeface="宋体"/>
              </a:rPr>
              <a:t>  北京四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rosa parks"/>
          <p:cNvPicPr/>
          <p:nvPr/>
        </p:nvPicPr>
        <p:blipFill>
          <a:blip r:embed="rId1"/>
          <a:stretch/>
        </p:blipFill>
        <p:spPr>
          <a:xfrm>
            <a:off x="5181480" y="1219320"/>
            <a:ext cx="3238560" cy="388620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6894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"To this day I believe w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re here on the plan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arth to live, grow 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do what we ca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ake this world a bet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lace for all people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enjoy freedom."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Mrs. Rosa Park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52120" y="838080"/>
            <a:ext cx="579132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600200" y="1905120"/>
            <a:ext cx="652608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955440"/>
            <a:ext cx="777240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66680" y="4038120"/>
            <a:ext cx="7353360" cy="10796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47000"/>
          </a:bodyPr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 on the bus to try to 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egregation.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种族隔离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protest was brutally treated at m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1609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tops along the 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86000" y="838080"/>
            <a:ext cx="4724280" cy="31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181480" y="1219320"/>
            <a:ext cx="2997360" cy="461160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219320" y="685800"/>
            <a:ext cx="4751280" cy="540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bout 250,000 peop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Attended the March 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Washington, D.C., ur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upport for civil-righ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egislation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立法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.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Event was highlighted b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King's “I have a dream"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speech in front of the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Lincoln Memorial.</a:t>
            </a:r>
            <a:r>
              <a:rPr b="0" lang="zh-CN" sz="24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057400" y="914400"/>
            <a:ext cx="5410080" cy="79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52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at did Rosa Parks do on December 1, 1955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What did the police do to the woma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28800" y="990360"/>
            <a:ext cx="5562720" cy="79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sic comprehension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599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Who did the King meet in 1963 and what did he ask fo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4. What was the result of the struggl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Useful words &amp; expression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828800" y="1752120"/>
            <a:ext cx="6618240" cy="35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2, Para. 1)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he refused to move and 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aken away by the polic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371600" y="609480"/>
            <a:ext cx="7201080" cy="49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ahoma"/>
              </a:rPr>
              <a:t>refuse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ffff00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ot to take what is offered; not to do what one is asked to do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拒收；拒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He refused my offer to hel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She refused to take the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refusal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752480" y="731520"/>
            <a:ext cx="6097680" cy="52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3, Para. 1)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: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A group was formed to demand that the bus company should change its unfair practices…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"/>
              </a:rPr>
              <a:t>Unit 19 A freedom fighter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"/>
              </a:rPr>
              <a:t> </a:t>
            </a:r>
            <a:br>
              <a:rPr sz="3600"/>
            </a:b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"/>
              </a:rPr>
              <a:t>(continued)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547640" y="5300640"/>
            <a:ext cx="68724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MLK" descr="Dr. Martin Luther King Jr."/>
          <p:cNvPicPr/>
          <p:nvPr/>
        </p:nvPicPr>
        <p:blipFill>
          <a:blip r:embed="rId1"/>
          <a:stretch/>
        </p:blipFill>
        <p:spPr>
          <a:xfrm>
            <a:off x="3048120" y="2286000"/>
            <a:ext cx="36716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52480" y="619920"/>
            <a:ext cx="61722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1" lang="zh-CN" sz="36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vi. &amp; vt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make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形成，组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 I can’t form any idea or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pinion about i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2. Clouds are forming on th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op of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h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in any form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以任何形式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752480" y="778680"/>
            <a:ext cx="6248520" cy="46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ahoma"/>
              </a:rPr>
              <a:t>call for ; give in</a:t>
            </a:r>
            <a:r>
              <a:rPr b="1" lang="zh-CN" sz="36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(Line 7, Para. 1)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原句</a:t>
            </a:r>
            <a:r>
              <a:rPr b="1" lang="zh-CN" sz="2800" spc="-1" strike="noStrike">
                <a:solidFill>
                  <a:srgbClr val="ffff00"/>
                </a:solidFill>
                <a:latin typeface="Tahoma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King called for black peo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not to give in but to continu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he struggl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6254640" cy="546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ahoma"/>
              </a:rPr>
              <a:t>call for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     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要求；来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You passed your test? This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calls for a celebration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I will call for you at you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hous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905120" y="762120"/>
            <a:ext cx="5105160" cy="60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i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    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屈服；归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1. The rebels were found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to give 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2. He had to give in 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say sorry to Joh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143000" y="497520"/>
            <a:ext cx="6781680" cy="596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与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</a:t>
            </a:r>
            <a:r>
              <a:rPr b="1" lang="zh-CN" sz="3200" spc="-1" strike="noStrike">
                <a:solidFill>
                  <a:srgbClr val="ecf53d"/>
                </a:solidFill>
                <a:latin typeface="Arial"/>
              </a:rPr>
              <a:t>有关的词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up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bandon the attemp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放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can do nothing more. I gave up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ut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come to the end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到尽头；结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r patience gave ou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447920" y="838080"/>
            <a:ext cx="662940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off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send out, e.g. smoke, smell etc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发出烟，气味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ives off a stink sme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distribut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分配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mayor gave away the prizes at the sports meetin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523880" y="12600"/>
            <a:ext cx="6115320" cy="65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give away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2. give freely, not expecting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anything in return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赠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e gave away all his money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3. reveal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泄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His accent gave him away,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ade known who or what 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wa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600200" y="840600"/>
            <a:ext cx="6191280" cy="49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Line 10, Para. 1) 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把… 从…分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原文</a:t>
            </a:r>
            <a:r>
              <a:rPr b="0" lang="zh-CN" sz="3200" spc="-1" strike="noStrike">
                <a:solidFill>
                  <a:srgbClr val="ecf53d"/>
                </a:solidFill>
                <a:latin typeface="Tahom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…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company did not have the right to separate blacks from whites on its bus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219320" y="533520"/>
            <a:ext cx="70866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… fro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The channel separates England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Franc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2. A garden separates this hous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from the nex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e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 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cf53d"/>
                </a:solidFill>
                <a:latin typeface="Tahoma"/>
              </a:rPr>
              <a:t>separation</a:t>
            </a:r>
            <a:r>
              <a:rPr b="0" lang="en-US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i="1" lang="en-US" sz="3200" spc="-1" strike="noStrike">
                <a:solidFill>
                  <a:srgbClr val="ecf53d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10560"/>
            <a:ext cx="7097760" cy="52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 by 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cf53d"/>
                </a:solidFill>
                <a:latin typeface="Times New Roman"/>
              </a:rPr>
              <a:t>(Sentence 3, Practice 2, Page 40)</a:t>
            </a: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cf53d"/>
                </a:solidFill>
                <a:latin typeface="Tahoma"/>
              </a:rPr>
              <a:t>肩并肩的   原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 shall never forget the time when blacks and whites were fighting side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by side for the freedom of all race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218960" y="3505320"/>
            <a:ext cx="7543800" cy="155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artin Luther King dreamed of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etter world for all Americans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d worked to make it real witho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any stop.</a:t>
            </a: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MLK" descr="Dr. Martin Luther King Jr."/>
          <p:cNvPicPr/>
          <p:nvPr/>
        </p:nvPicPr>
        <p:blipFill>
          <a:blip r:embed="rId1"/>
          <a:stretch/>
        </p:blipFill>
        <p:spPr>
          <a:xfrm>
            <a:off x="3429000" y="838080"/>
            <a:ext cx="27338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295280" y="991080"/>
            <a:ext cx="653904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by the side of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在…的旁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The girl was standing by the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ide of the road.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95280" y="159840"/>
            <a:ext cx="6934320" cy="60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     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与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ecf53d"/>
                </a:solidFill>
                <a:latin typeface="Tahoma"/>
              </a:rPr>
              <a:t>side</a:t>
            </a: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有关的词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the side of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站在某人一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My mother always takes the side of my brother when I argue with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ahoma"/>
              </a:rPr>
              <a:t>take sides with </a:t>
            </a: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和…站在一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I will take sides with you 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7859880" cy="14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I have a Dream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节选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)</a:t>
            </a:r>
            <a:br>
              <a:rPr sz="4000"/>
            </a:b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          </a:t>
            </a:r>
            <a:r>
              <a:rPr b="1" i="1" lang="zh-CN" sz="3200" spc="-1" strike="noStrike">
                <a:solidFill>
                  <a:srgbClr val="ecf53d"/>
                </a:solidFill>
                <a:latin typeface="Times New Roman"/>
              </a:rPr>
              <a:t>by Martin Luther King, Jr.</a:t>
            </a:r>
            <a:br>
              <a:rPr sz="3200"/>
            </a:b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pic>
        <p:nvPicPr>
          <p:cNvPr id="200" name="127-thumb" descr="Photo"/>
          <p:cNvPicPr/>
          <p:nvPr/>
        </p:nvPicPr>
        <p:blipFill>
          <a:blip r:embed="rId1"/>
          <a:stretch/>
        </p:blipFill>
        <p:spPr>
          <a:xfrm>
            <a:off x="1619280" y="2060640"/>
            <a:ext cx="6053040" cy="38955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84360" y="6094440"/>
            <a:ext cx="50292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619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905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Vocabulary</a:t>
            </a: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437920" y="1371600"/>
            <a:ext cx="4953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creed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信念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sweltering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闷热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oasis    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绿洲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vicious     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adj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不道德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interposition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调停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nullification    </a:t>
            </a:r>
            <a:r>
              <a:rPr b="1" i="1" lang="zh-CN" sz="3600" spc="-1" strike="noStrike">
                <a:solidFill>
                  <a:srgbClr val="ecf53d"/>
                </a:solidFill>
                <a:latin typeface="Times New Roman"/>
              </a:rPr>
              <a:t>n.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ecf53d"/>
                </a:solidFill>
                <a:latin typeface="Times New Roman"/>
              </a:rPr>
              <a:t>废弃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042560" y="1125000"/>
            <a:ext cx="8435880" cy="44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cf53d"/>
                </a:solidFill>
                <a:latin typeface="Times New Roman"/>
              </a:rPr>
              <a:t>Listening practic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1. Where did the two speakers 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last tim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A. At the mark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. At David’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66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C. At Frank’s compan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900000" y="1557360"/>
            <a:ext cx="770436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2. Why was Mike late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got up lat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d a car accident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is father was i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756720" y="1628280"/>
            <a:ext cx="8157600" cy="30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</a:rPr>
              <a:t>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3. How do they like the man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They like the man very much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They don’t like the man at all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begin to show interest in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040" y="1752120"/>
            <a:ext cx="7924680" cy="4038840"/>
          </a:xfrm>
          <a:prstGeom prst="rect">
            <a:avLst/>
          </a:prstGeom>
          <a:noFill/>
          <a:ln w="0">
            <a:noFill/>
          </a:ln>
          <a:effectLst>
            <a:outerShdw dist="28496" dir="157448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a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Getting to know more about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lack people’s civil right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movement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了解更多黑人的争取国内权益运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b.  Useful words &amp; express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有用的词与表达法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Because he couldn’t trust Jacob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042920" y="285840"/>
            <a:ext cx="7777080" cy="60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4. Why didn’t the man turn to 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ecf53d"/>
                </a:solidFill>
                <a:latin typeface="Times New Roman"/>
              </a:rPr>
              <a:t>Jacob to  help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A. Because he couldn’t trus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Jacob any longer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Because he hated relying on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others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ll the ti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Because he didn’t want to let 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	</a:t>
            </a:r>
            <a:r>
              <a:rPr b="1" lang="en-US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Jacob worry about him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1221480" y="763560"/>
            <a:ext cx="7601040" cy="53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cf53d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5. Which bag is easy to dispo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处置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)</a:t>
            </a:r>
            <a:r>
              <a:rPr b="1" lang="zh-CN" sz="4000" spc="-1" strike="noStrike">
                <a:solidFill>
                  <a:srgbClr val="ecf53d"/>
                </a:solidFill>
                <a:latin typeface="Times New Roman"/>
              </a:rPr>
              <a:t>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A. Plastic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宋体"/>
              </a:rPr>
              <a:t>B. Paper bag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     </a:t>
            </a:r>
            <a:r>
              <a:rPr b="1" lang="zh-CN" sz="3600" spc="-1" strike="noStrike">
                <a:solidFill>
                  <a:srgbClr val="ecf53d"/>
                </a:solidFill>
                <a:latin typeface="Times New Roman"/>
                <a:ea typeface="宋体"/>
              </a:rPr>
              <a:t>C. They are the same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2637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258920" y="475920"/>
            <a:ext cx="729288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cf53d"/>
                </a:solidFill>
                <a:latin typeface="Times New Roman"/>
              </a:rPr>
              <a:t>Homework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87280" y="1915920"/>
            <a:ext cx="761544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 Do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2,3 on Page 105; Ex.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 on Page 106, Ex. 1&amp;2 on Page 107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in the workboo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Take the Mini-test 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. * Try to Read “I have a dream”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on Intern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f53d"/>
                </a:solidFill>
                <a:latin typeface="Times New Roman"/>
              </a:rPr>
              <a:t>Lesson 75    </a:t>
            </a:r>
            <a:r>
              <a:rPr b="1" lang="zh-CN" sz="4800" spc="-1" strike="noStrike">
                <a:solidFill>
                  <a:srgbClr val="ecf53d"/>
                </a:solidFill>
                <a:latin typeface="Times New Roman"/>
              </a:rPr>
              <a:t>Goals </a:t>
            </a:r>
            <a:r>
              <a:rPr b="1" lang="zh-CN" sz="3200" spc="-1" strike="noStrike">
                <a:solidFill>
                  <a:srgbClr val="ecf53d"/>
                </a:solidFill>
                <a:latin typeface="Times New Roman"/>
              </a:rPr>
              <a:t>教学目标</a:t>
            </a:r>
            <a:endParaRPr b="0" lang="en-US" sz="32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99840" y="1905120"/>
            <a:ext cx="6629400" cy="3581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c. Appreciating the famous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speech “I have a dream”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by Martin Luther 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欣赏马丁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路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·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金的著名演讲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“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我有一个梦想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5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Warming-up exercises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619280" y="2133720"/>
            <a:ext cx="652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. Why is the speech “I have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ream” by Martin Luth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King so famou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2.  Have you ever heard of Rosa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Park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53316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99840" y="2209320"/>
            <a:ext cx="2895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ther of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ivil Right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Movemen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7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3" name="" descr="Photo of Ms. Rosa Parks"/>
          <p:cNvPicPr/>
          <p:nvPr/>
        </p:nvPicPr>
        <p:blipFill>
          <a:blip r:embed="rId1"/>
          <a:stretch/>
        </p:blipFill>
        <p:spPr>
          <a:xfrm>
            <a:off x="4495680" y="2057400"/>
            <a:ext cx="30481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Background introduction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447560" y="1371240"/>
            <a:ext cx="432108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rs. Rosa Parks, bor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 February 4, 1913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has been called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"mother of the civi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rights movement" 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one of the mo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mportant citizens 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2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</a:rPr>
              <a:t>th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century.</a:t>
            </a:r>
            <a:r>
              <a:rPr b="1" lang="en-US" sz="3200" spc="-1" strike="noStrike">
                <a:solidFill>
                  <a:srgbClr val="ecf53d"/>
                </a:solidFill>
                <a:latin typeface="Times New Roman"/>
              </a:rPr>
              <a:t> </a:t>
            </a:r>
            <a:br>
              <a:rPr sz="3200"/>
            </a:br>
            <a:br>
              <a:rPr sz="24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Photo of Ms. Rosa Parks"/>
          <p:cNvPicPr/>
          <p:nvPr/>
        </p:nvPicPr>
        <p:blipFill>
          <a:blip r:embed="rId1"/>
          <a:stretch/>
        </p:blipFill>
        <p:spPr>
          <a:xfrm>
            <a:off x="5562720" y="1752480"/>
            <a:ext cx="28051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295280" y="3809520"/>
            <a:ext cx="693432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osa Parks, an African American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refused to give up her seat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White’s section of a city bus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1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Therefore she was arrested.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502920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9T02:42:50Z</dcterms:created>
  <dc:creator>any</dc:creator>
  <dc:description/>
  <dc:language>en-US</dc:language>
  <cp:lastModifiedBy>Zhang Lingdi</cp:lastModifiedBy>
  <dcterms:modified xsi:type="dcterms:W3CDTF">2003-06-10T14:41:16Z</dcterms:modified>
  <cp:revision>102</cp:revision>
  <dc:subject/>
  <dc:title>Unit 19 A freedom fighter (continued)</dc:title>
</cp:coreProperties>
</file>