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5F7-2708-4C72-9564-8D0F76E8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39A-4DC0-48A0-B228-BA9E2170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F83-7163-45EC-ADB9-F1550B0B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CE5-0BC2-4820-8EF6-B2976D43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EF3F-263A-4B52-96A2-645F0A6E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CA53-4BEE-4535-9CDC-9CC242B3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0D9F-EBBB-44AF-A97E-52D3E39B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5D24-D369-47D9-AF81-18953D58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481D-F2F0-4C00-BDA4-CF2D7F51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B9A1-9669-4390-AA16-6C321DF6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193D-054E-48E9-96A7-D19DF7BA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B5E-67C3-4ED8-8094-4230DE74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8F97-BC1E-45F4-BDB7-B4A25E63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A2AA-EE08-492A-B5A2-B39FDC96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B25E-1EE7-4FE5-B8E7-5D458A3A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42CF-E18A-4C12-B5D8-CC643766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D268-1339-4AD7-96EA-55F25FDF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E8B-3E1D-4F0D-8975-75A3BA02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1A6-F314-460E-AEF5-371A3774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B61-42E2-4D69-A0A3-340DC306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6A0-DA8A-4087-9EED-6F72E572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ABD-CA0C-45B4-B916-37D40F12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EA0-2B39-446C-A1B9-A989F8FE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13F-DAEB-42E7-AA6C-64DC4C4D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64BC-46B6-4ABF-A969-B56FBBA3194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06B8-114E-487F-98C2-A510B969D1F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高二英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会考复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李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北京西城外国语学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A. The weather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The weath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A. List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Listening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目的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会考试卷的结构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会考听力模拟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及听力训练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conductor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B. A conductor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42640" y="533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 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B. Blue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试卷结构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高中英语会考试卷由两卷组成：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  <a:ea typeface="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选择题，在答题纸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非选择题，在试卷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“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he felt being left out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3049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4. How did the girl deal with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She brought in three runs in a softball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4. How did the girl deal with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60948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 She felt being left out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9040" y="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14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ow did the girl deal with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he brought in three runs in 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oftball 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四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单项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完形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-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阅读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6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im lost his job because of hi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im spent much money in fin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im lost his job because of his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spent much money in finding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两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短文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书面表达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0666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e woman had a photo shop of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eveloped her photos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id part of her own film    develop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The woman had a photo shop of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woman developed her photos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The woman did part of her own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ilm develop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听力考试时应注意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扫视选项，做好听前预猜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没听懂时的对策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注意听提出的问题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脑记与笔记相结合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试卷试题难易程度比例结构为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易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6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中等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难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Assign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sten to English everyday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texts, English radio program,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一节：听对话及对话后的问题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录音带上不在卷面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停顿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２秒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题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二节：听下面四段对话独白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或独白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每题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，每段对话共有三小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卷面上而不在录音带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停顿２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段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与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１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主要信息或重要细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２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要点和中心意思，根据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题目做出合理判断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间，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　点，对话人的关系，身份等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３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并理解其深层含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（谈话人的态度，意图等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jg</cp:lastModifiedBy>
  <dcterms:modified xsi:type="dcterms:W3CDTF">2003-06-24T23:34:20Z</dcterms:modified>
  <cp:revision>26</cp:revision>
  <dc:subject/>
  <dc:title>高二英语</dc:title>
</cp:coreProperties>
</file>