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A6A-FABB-416B-AF2A-38BE45CD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20F-0C5B-47E9-840B-F6E9B580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C9B-B661-478F-9E76-BC0F5D57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FDF-E101-42BE-BCFC-CE0A6D6E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7BB1-CA70-421C-B03F-8AFD18CF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7EE3-15E5-4C39-8429-D012D97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0A18-0C51-4CF9-A78F-BA8EED79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3982-7D05-4F3A-85E4-F383E566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32FE-EF5E-42F2-BEED-73AE1E46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B389-88ED-40D6-BFD9-0BAC9826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928A-5A08-4411-B629-FF1746FD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63E-09D2-4E27-BA30-ED63ECFE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1EF8-5B88-493A-85CC-8CA617A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5BA-B5D6-4E28-B392-ADC668F0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2DE4-523E-4101-A9BC-20BCBE49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44A1-AD8E-45D4-BFCA-2461C7A2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AE2C-1111-40A4-9A76-DEFAFA63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D93-853B-4AC2-89B4-16BE64C3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CF5-A7A0-4248-8C7D-AA303DE8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2AA-37FB-46DB-8F46-312B8D3D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000-2CF7-4D7C-9319-B7B1EF4E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9A2-AFD7-46DE-9BE3-66C8863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E0F-DC24-4060-BED7-938337A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941-1E44-4D3E-947E-A412436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92F0-255E-4578-82A1-7391705A4B1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67BB-2783-42E3-8C2D-E75A9FB6A38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BU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A freedom fighter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北京四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rosa parks"/>
          <p:cNvPicPr/>
          <p:nvPr/>
        </p:nvPicPr>
        <p:blipFill>
          <a:blip r:embed="rId1"/>
          <a:stretch/>
        </p:blipFill>
        <p:spPr>
          <a:xfrm>
            <a:off x="5181480" y="1219320"/>
            <a:ext cx="3238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68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"To this day I believe w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here on the pla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rth to live, grow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do what we ca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ke this world a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lace for all peopl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joy freedom.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Mrs. Rosa Pa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838080"/>
            <a:ext cx="579132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65260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9554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4038120"/>
            <a:ext cx="735336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 on the bus to try to 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egregation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种族隔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protest was brutally treated at 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tops along the 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724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2997360" cy="4611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4751280" cy="540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bout 250,000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ttended the March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shington, D.C., ur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upport for civil-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egislation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立法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.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vent was highligh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King's “I have a dream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peech in front of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incoln Memorial.</a:t>
            </a:r>
            <a:r>
              <a:rPr b="0" lang="zh-CN" sz="24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400" y="914400"/>
            <a:ext cx="541008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56272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99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 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ful words &amp;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61824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2, Para. 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e refused to move and 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n away by the pol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609480"/>
            <a:ext cx="720108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ot to take what is offered; not to do what one is asked to do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拒收；拒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He refused my offer to hel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She refused to take the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refusal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52480" y="731520"/>
            <a:ext cx="60976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3, Para. 1)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A group was formed to demand that the bus company should change its unfair practice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19 A freedom figh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continued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MLK" descr="Dr. Martin Luther King Jr."/>
          <p:cNvPicPr/>
          <p:nvPr/>
        </p:nvPicPr>
        <p:blipFill>
          <a:blip r:embed="rId1"/>
          <a:stretch/>
        </p:blipFill>
        <p:spPr>
          <a:xfrm>
            <a:off x="3048120" y="2286000"/>
            <a:ext cx="3671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52480" y="619920"/>
            <a:ext cx="61722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i. &amp; 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make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形成，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I can’t form any idea or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pinion about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Clouds are forming on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op of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h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in any 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以任何形式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52480" y="778680"/>
            <a:ext cx="62485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call for ; give in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7, Para. 1)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King called for black peo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not to give in but to conti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trug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838080"/>
            <a:ext cx="6254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ahoma"/>
              </a:rPr>
              <a:t>call for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要求；来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You passed your test? Th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alls for a celebr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I will call for you at you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762120"/>
            <a:ext cx="510516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i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屈服；归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The rebels were found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give 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He had to give in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ay sorry to Joh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497520"/>
            <a:ext cx="678168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与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有关的词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up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bandon the attemp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放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can do nothing more. I gave u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u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come to the end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到尽头；结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r patience gave o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838080"/>
            <a:ext cx="66294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ff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send out, e.g. smoke, smell etc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发出烟，气味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ives off a stink sm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distribut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分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mayor gave away the prizes at the sports mee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3880" y="12600"/>
            <a:ext cx="6115320" cy="65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2. give freely, not expecting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anything in return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赠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ave away all his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3. reveal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泄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is accent gave him away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ade known who or what 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00200" y="840600"/>
            <a:ext cx="619128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10, Para. 1)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把… 从…分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文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company did not have the right to separate blacks from whites on its bu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533520"/>
            <a:ext cx="7086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The channel separates Engl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2. A garden separates this ho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the nex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ion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10560"/>
            <a:ext cx="7097760" cy="52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 by 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Times New Roman"/>
              </a:rPr>
              <a:t>(Sentence 3, Practice 2, Page 40)</a:t>
            </a: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肩并肩的   原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shall never forget the time when blacks and whites were fighting side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by side for the freedom of all ra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18960" y="3505320"/>
            <a:ext cx="75438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artin Luther King dreamed of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tter world for all Americans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d worked to make it real witho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y stop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MLK" descr="Dr. Martin Luther King Jr."/>
          <p:cNvPicPr/>
          <p:nvPr/>
        </p:nvPicPr>
        <p:blipFill>
          <a:blip r:embed="rId1"/>
          <a:stretch/>
        </p:blipFill>
        <p:spPr>
          <a:xfrm>
            <a:off x="3429000" y="838080"/>
            <a:ext cx="2733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1080"/>
            <a:ext cx="65390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by the side of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在…的旁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girl was standing by t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ide of the road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5280" y="159840"/>
            <a:ext cx="693432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the side of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站在某人一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y mother always takes the side of my brother when I argue with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sides with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和…站在一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I will take sides with you 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85988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 have a Dream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节选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    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by Martin Luther King, Jr.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127-thumb" descr="Photo"/>
          <p:cNvPicPr/>
          <p:nvPr/>
        </p:nvPicPr>
        <p:blipFill>
          <a:blip r:embed="rId1"/>
          <a:stretch/>
        </p:blipFill>
        <p:spPr>
          <a:xfrm>
            <a:off x="1619280" y="2060640"/>
            <a:ext cx="6053040" cy="3895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84360" y="609444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19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Vocabular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creed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信念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weltering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闷热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asis 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绿洲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vicious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不道德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nterposition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调停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nullification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废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0388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Getting to know more abou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’s civil right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ovement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了解更多黑人的争取国内权益运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.  Useful words &amp; express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couldn’t trust Jacob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couldn’t tru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Jacob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29288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615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Do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2,3 on Page 105;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 on Page 106, Ex. 1&amp;2 on Page 1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work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ake the Mini-test 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* Try to Read “I have a dream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66294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c. Appreciating the famou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speech “I have a dream”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by Martin Luther 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欣赏马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路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金的著名演讲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有一个梦想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arming-up exerci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9280" y="2133720"/>
            <a:ext cx="652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y is the speech “I have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ream” by Martin Lu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ing so fam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 Have you ever heard of Ros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k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ther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vil Righ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Photo of Ms. Rosa Parks"/>
          <p:cNvPicPr/>
          <p:nvPr/>
        </p:nvPicPr>
        <p:blipFill>
          <a:blip r:embed="rId1"/>
          <a:stretch/>
        </p:blipFill>
        <p:spPr>
          <a:xfrm>
            <a:off x="4495680" y="205740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371240"/>
            <a:ext cx="4321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rs. Rosa Parks, 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 February 4, 1913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as been called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"mother of the ci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ghts movement"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e of the m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ortant citizen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2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century.</a:t>
            </a: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Photo of Ms. Rosa Parks"/>
          <p:cNvPicPr/>
          <p:nvPr/>
        </p:nvPicPr>
        <p:blipFill>
          <a:blip r:embed="rId1"/>
          <a:stretch/>
        </p:blipFill>
        <p:spPr>
          <a:xfrm>
            <a:off x="5562720" y="1752480"/>
            <a:ext cx="2805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95280" y="3809520"/>
            <a:ext cx="69343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, an African American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fused to give up her sea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te’s section of a city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refore she was arrested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0292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14:41:16Z</dcterms:modified>
  <cp:revision>102</cp:revision>
  <dc:subject/>
  <dc:title>Unit 19 A freedom fighter (continued)</dc:title>
</cp:coreProperties>
</file>