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11.jpeg" ContentType="image/jpeg"/>
  <Override PartName="/ppt/media/image8.png" ContentType="image/png"/>
  <Override PartName="/ppt/media/image28.gif" ContentType="image/gif"/>
  <Override PartName="/ppt/media/image27.png" ContentType="image/png"/>
  <Override PartName="/ppt/media/image24.gif" ContentType="image/gif"/>
  <Override PartName="/ppt/media/image16.jpeg" ContentType="image/jpeg"/>
  <Override PartName="/ppt/media/image17.gif" ContentType="image/gif"/>
  <Override PartName="/ppt/media/image15.gif" ContentType="image/gif"/>
  <Override PartName="/ppt/media/image14.png" ContentType="image/png"/>
  <Override PartName="/ppt/media/image23.gif" ContentType="image/gif"/>
  <Override PartName="/ppt/media/image3.png" ContentType="image/png"/>
  <Override PartName="/ppt/media/image26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0E1-E8A1-491C-B98A-2724DE3C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19A-698B-4277-96E0-B7E6543C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BD4-4765-4AA4-9701-E6760549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006-249D-48E5-858A-31741144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928B-41A2-4E47-9C58-9B7EB7E2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421B-EE05-4F81-B4F7-344D25B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099A-127A-41C7-AE40-8604F779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1584-BF18-42EE-B3F7-6ECFA67D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EEF7-692E-4239-875E-805506C1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64FD-B98F-4E01-82BC-576372A1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0DDA-13A9-4BAB-906E-6A18A9F4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002-907A-4610-8B6B-E30B9457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7BC1-7268-4AC2-8569-718FE748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A847-887D-49FB-90F9-A22BBF92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FA99-86D3-4EDF-AB5B-B51AE03F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8516-A6B6-4D3F-8704-A2993058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4724-6C09-4C4D-B82D-4379F256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15E0-C1E0-41A1-BF0A-371329FA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CC0D-7384-42DC-BFF0-7F4288FE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0A62-204B-41E3-A76E-419E240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DFC8-E110-425D-ADBF-5F601355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1B11-BDB8-4F35-B706-692CDD44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3D3-2F0D-41FA-B658-A6672F40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3B56-1D82-4FDE-BE25-2EE8ED22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8DE0-1411-4E36-98F8-3015F153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9825-7F95-4085-B867-093DB92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28FF-794E-43E9-AAC4-75DF69D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BDAF-8F92-406B-BA21-64A5FCE2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8019-D9C5-4D5B-A4BE-FFD63CB3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907D-65A9-4084-AF2A-01EA89F2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45B-8B6F-44C3-9E57-8C65DA76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A7E-8292-4A62-A17D-0E0265CA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405-35E0-47ED-B845-B729B61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737-8D55-42F9-A4A3-0508ED5D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3B8-11DC-486D-9E42-4ECE64F5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4B2-AD8A-4761-B8A9-E82E2648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945E-B632-4621-A2CC-7C922AB68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2833-734B-47AB-B21E-1876E7AE9AB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4A8D-A50F-479C-A11E-3B4B6C71F5E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19.gi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" Target="slide5.xml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00160" y="5572080"/>
            <a:ext cx="7143840" cy="12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97360" cy="1285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792000" y="2979720"/>
            <a:ext cx="4295880" cy="152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dvertis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141640" y="3564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21164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294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11280" y="18900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omework: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1700280"/>
            <a:ext cx="62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anslate the following phrases and sentences into Engl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手拉着手进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控告他用假广告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班由张老师负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上张贴的广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留心隐藏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gif0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gif011.gif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120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35280" y="1844640"/>
            <a:ext cx="7078680" cy="1123920"/>
          </a:xfrm>
          <a:prstGeom prst="cloudCallout">
            <a:avLst>
              <a:gd name="adj1" fmla="val -87541"/>
              <a:gd name="adj2" fmla="val 168643"/>
            </a:avLst>
          </a:prstGeom>
          <a:noFill/>
          <a:ln w="349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Thank you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Monotype Corsiva"/>
                <a:ea typeface="方正舒体"/>
              </a:rPr>
              <a:t>Goodbye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gif008.gif"/>
          <p:cNvPicPr/>
          <p:nvPr/>
        </p:nvPicPr>
        <p:blipFill>
          <a:blip r:embed="rId4"/>
          <a:stretch/>
        </p:blipFill>
        <p:spPr>
          <a:xfrm>
            <a:off x="7093080" y="4221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gif003.gif"/>
          <p:cNvPicPr/>
          <p:nvPr/>
        </p:nvPicPr>
        <p:blipFill>
          <a:blip r:embed="rId5"/>
          <a:stretch/>
        </p:blipFill>
        <p:spPr>
          <a:xfrm>
            <a:off x="684360" y="692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gif008.gif"/>
          <p:cNvPicPr/>
          <p:nvPr/>
        </p:nvPicPr>
        <p:blipFill>
          <a:blip r:embed="rId6"/>
          <a:stretch/>
        </p:blipFill>
        <p:spPr>
          <a:xfrm>
            <a:off x="5219640" y="5084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2340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2238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2340000" y="5013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9640" y="1700280"/>
            <a:ext cx="7991640" cy="3529080"/>
          </a:xfrm>
          <a:custGeom>
            <a:avLst/>
            <a:gdLst>
              <a:gd name="textAreaLeft" fmla="*/ 0 w 7991640"/>
              <a:gd name="textAreaRight" fmla="*/ 7991640 w 7991640"/>
              <a:gd name="textAreaTop" fmla="*/ 457200 h 3529080"/>
              <a:gd name="textAreaBottom" fmla="*/ 30718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1.Where can ads be found?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2.How do people react to a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333360"/>
            <a:ext cx="3600360" cy="11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Questi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5661000"/>
            <a:ext cx="1295640" cy="679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211640" y="5734080"/>
            <a:ext cx="1295280" cy="679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6588000" y="5661000"/>
            <a:ext cx="1295640" cy="67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-541440" y="-963720"/>
            <a:ext cx="10009440" cy="8398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8360" y="126828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What is the basic principle of adverti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How do companies get their message acros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How do you make a good a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3960" y="47628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Answer the following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732720" y="3789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2195640" y="537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132000" y="566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476360" y="4221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050920" y="4149720"/>
            <a:ext cx="952560" cy="619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3851280" y="5805360"/>
            <a:ext cx="952560" cy="61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95280" y="6922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.How important are ads in today’s society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.How do ads help companies and customer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.What are good ads? What are bad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.Why should we keep an eye out for “hidden information” in ads?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.What are “bait-and –switch”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780000" y="6021360"/>
            <a:ext cx="3809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63640" y="2565360"/>
            <a:ext cx="69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1.How can we develop a critical attitude towards 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gif046.gif"/>
          <p:cNvPicPr/>
          <p:nvPr/>
        </p:nvPicPr>
        <p:blipFill>
          <a:blip r:embed="rId2"/>
          <a:stretch/>
        </p:blipFill>
        <p:spPr>
          <a:xfrm>
            <a:off x="3348000" y="907920"/>
            <a:ext cx="1800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260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girls left the classroom hand in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imilar phrases: face to face/shoulder by shou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780000" y="6165720"/>
            <a:ext cx="3809880" cy="381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95280" y="321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accuse…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2560" y="134136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3789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e neighbours may accuse you of playing your radio too lou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479736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get…a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5300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This is the message that we want to get across to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476280"/>
            <a:ext cx="811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Language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5480" y="17002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appea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4000" y="2492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How did the course appeal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1840" y="3429000"/>
            <a:ext cx="56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keep an eye out for sb/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414972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g. Will you keep an eye out  for my suitcase while I go to get the t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539640" y="476280"/>
          <a:ext cx="8353440" cy="5495760"/>
        </p:xfrm>
        <a:graphic>
          <a:graphicData uri="http://schemas.openxmlformats.org/drawingml/2006/table">
            <a:tbl>
              <a:tblPr/>
              <a:tblGrid>
                <a:gridCol w="4202280"/>
                <a:gridCol w="41511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11280" y="1268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Provide information about  latest products./Help customers find good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126828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Lead people to buy the wrong products./Cheat customers of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2421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Increase sales by repeated advertising./Help companies make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357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Cut costs of newspapers and make them che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1120" y="6818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7964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9280" y="2421000"/>
            <a:ext cx="37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.Give false or incorre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33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Take too much time or space on TV or newspap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4292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Make the public aware of social problems./Inform people about important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0360" y="436572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Raise the price of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611280" y="549360"/>
          <a:ext cx="8010000" cy="5590800"/>
        </p:xfrm>
        <a:graphic>
          <a:graphicData uri="http://schemas.openxmlformats.org/drawingml/2006/table">
            <a:tbl>
              <a:tblPr/>
              <a:tblGrid>
                <a:gridCol w="2670120"/>
                <a:gridCol w="2669760"/>
                <a:gridCol w="267012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1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evelopment of advertising &amp; peoples' attitu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w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asic principle of adverti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Th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s 4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dvantages &amp;disadvantages of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t  F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aragraph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a critical attitude towards a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468360" y="620640"/>
          <a:ext cx="8343720" cy="5396040"/>
        </p:xfrm>
        <a:graphic>
          <a:graphicData uri="http://schemas.openxmlformats.org/drawingml/2006/table">
            <a:tbl>
              <a:tblPr/>
              <a:tblGrid>
                <a:gridCol w="1227240"/>
                <a:gridCol w="3044520"/>
                <a:gridCol w="4071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    ide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860720" y="292428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ritics,accuse,......mis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1557360"/>
            <a:ext cx="40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hand in hand with the development of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349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defenders,useful, make informed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400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5157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2.choose among the availabl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595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ds can be found almost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227664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ople react to advertisements in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90520" y="4653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frequent ads increase s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educe the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465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ds help companies and customers in a variety of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9080" y="4221000"/>
            <a:ext cx="37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appeal to customers' e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introduce brand,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products with ou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88720" y="112536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1.TV,radio,Internet,news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32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he basic principle of advertisements is to influence customers'  cho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645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2880" y="393372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2.get message a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60000" y="57340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deal with,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24000" y="492120"/>
          <a:ext cx="8569080" cy="5791320"/>
        </p:xfrm>
        <a:graphic>
          <a:graphicData uri="http://schemas.openxmlformats.org/drawingml/2006/table">
            <a:tbl>
              <a:tblPr/>
              <a:tblGrid>
                <a:gridCol w="1979640"/>
                <a:gridCol w="3074760"/>
                <a:gridCol w="35146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ords or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340000" y="5013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ustomers should learn to protect themselves from false ads and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mar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ustomers should be careful of illegal  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7080" y="234936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aware,social,,probl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govern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8360" y="242100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Governments and other organizations use ads to make people aware of government policies and soc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98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ost important function of advertising is to introduce new produ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6360" y="342900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3.spread knowledge,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attitudes,improve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2852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name  their spokesman or spokesw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162864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compare,features,functions an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5640" y="566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distinguish between fiction and  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52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truthful,information,help,dec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5084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goodads  ,introduce products,  increase  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6720" y="465300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"bait-and-switch"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6720" y="407664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keep an eye out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"hidden informatio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97000" y="401760"/>
            <a:ext cx="864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vertising is a highly developed industry. It has gone _____________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radio, television and other me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However, people react to ads in different ways. ____________think ads are useful and helpful and help customers make ______________. But critics _________ companies ______ using ads to _______us. Advertising influences customers’ choices by introducing _____________ and associating products with __________needs. There are so many ads for customers, so advertisers try to_______ their message ________by _____________their emo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Ads help companies and customers in a variety of ways. They can help companies________ sales and _________the prices. Meanwhile, they help customers choose among all the_________ products. In fact, ___________ provide good information, and help customers compare features, functions and costs. Some governments name their spokesman or spokeswoman to make people ___________their Social  problems and polic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ustomers should protect themselves by _______________________bad ads,____________ between fiction and facts and making good cho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84840" y="25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6640" y="135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7080" y="333360"/>
            <a:ext cx="162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hand in h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58080" y="86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0268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81960" y="114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33080" y="954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ef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40200" y="1359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formed ch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95560" y="1693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6280" y="1693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20560" y="171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is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27360" y="1989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 bran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94720" y="23036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ustom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3080" y="2664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98440" y="2619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0200" y="29797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ppeal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1280" y="36990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97720" y="3699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95920" y="40147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27000" y="4014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ruthful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07360" y="5003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wa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62200" y="53737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eeping an  eye ou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5200" y="56786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distingu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3:17:38Z</dcterms:created>
  <dc:creator>Jerry</dc:creator>
  <dc:description/>
  <dc:language>en-US</dc:language>
  <cp:lastModifiedBy>Jerry</cp:lastModifiedBy>
  <dcterms:modified xsi:type="dcterms:W3CDTF">2005-09-26T09:36:15Z</dcterms:modified>
  <cp:revision>44</cp:revision>
  <dc:subject/>
  <dc:title>幻灯片 1</dc:title>
</cp:coreProperties>
</file>