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127-0952-4B1A-BD65-9821024A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780-B219-4D6D-B002-EB49257A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90C-3C6B-42A2-8760-EC751C61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9DF-3622-4D0A-98C6-5B9E1CA9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AAFD-35CB-4AB1-88AB-D017FEE2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2F7C-8446-4F4A-88FD-6200C0E8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A0CD-1051-4DAB-9D9E-2D68CB7C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65AE-41B4-4CAF-8F54-308D50D5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6102-A27B-44E7-A8CE-1C1F09B1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57AB-7A8E-4F25-A8C1-2A14A5C5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D0F8-FAEF-4790-9FE7-EE274EDD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991-1FA9-4618-B307-D07DBDDB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3CA5-C28E-4187-95FD-9E88099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2967-B814-49A3-88AB-5761031F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C2AC-7F85-46EB-909C-7F04A0BE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42FA-7F36-4986-80AB-9F496AED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F772-4E13-4978-8689-F53A5E9D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CFB-61AE-4EE8-B41B-0708CEE1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43F-BEB4-4FEC-959A-2597F44E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B97-FA6A-4888-806C-3BAB103D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1AF-11DB-446B-935B-84CFE2F7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575-D613-4339-A364-4C8A3CE8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505-2FD6-4CD0-A1C6-02E6155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400-0B59-4891-B505-C87CD043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250C-FC39-4D51-BCAC-30121145351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09B3-DA46-4FCB-B5FA-6B766BFD3C2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A. The weather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The weath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A. List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Listening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会考试卷的结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听力模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及听力训练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conducto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B. A conductor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42640" y="533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 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B. Blu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试卷结构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高中英语会考试卷由两卷组成：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  <a:ea typeface="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选择题，在答题纸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非选择题，在试卷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“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he felt being left out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4. How did the girl deal with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She brought in three runs in a softball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4. How did the girl deal with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60948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 She felt being left out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9040" y="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4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ow did the girl deal with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he brought in three runs in 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oftball 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四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单项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完形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-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阅读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6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im lost his job because of hi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im spent much money in fin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im lost his job because of his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spent much money in finding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两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短文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书面表达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0666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woman had a photo shop of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eveloped her photos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id part of her own film    develop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The woman had a photo shop of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woman developed her photos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The woman did part of her ow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ilm develop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听力考试时应注意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扫视选项，做好听前预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没听懂时的对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注意听提出的问题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脑记与笔记相结合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试卷试题难易程度比例结构为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易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6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中等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难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sten to English everyda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texts, English radio program,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一节：听对话及对话后的问题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录音带上不在卷面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停顿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２秒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题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二节：听下面四段对话独白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或独白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每题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，每段对话共有三小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卷面上而不在录音带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停顿２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段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与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１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主要信息或重要细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２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要点和中心意思，根据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题目做出合理判断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，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点，对话人的关系，身份等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３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并理解其深层含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谈话人的态度，意图等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4T23:34:20Z</dcterms:modified>
  <cp:revision>26</cp:revision>
  <dc:subject/>
  <dc:title>高二英语</dc:title>
</cp:coreProperties>
</file>