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4CA-08AB-4FD8-934B-69AC478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090-791F-458E-BED5-E6029B6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763-BCBB-4886-A216-355307F0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89A-F97B-4439-881B-61EC655A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5C7D-76AD-47CA-BB86-947664C6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5B82-AEB6-4248-A1C1-895DF11A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FC61-C148-4DB2-9F67-203FCD45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636-9075-4E80-BA5C-4BC579C0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9675-9B78-4F7C-948C-EE59E9B4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1892-2146-4F57-BD36-A249079F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2C05-55EA-4C6B-8EC2-C0626D5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715-FC22-4151-B552-C0DEE7A3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FDCA-2158-4A6F-9AE8-7AF70C0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3F25-5F48-4C68-975B-FEED4BC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E43-84A6-4BEB-BFF2-3FCDDCFE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8F2-E9F5-42C0-8FF7-109A8D6A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9730-47D0-4422-A169-DC224F8B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670-9764-42C9-B894-24BBB7E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5AC-8104-4952-9491-91D076D8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D25-B994-41B3-BD20-3CA8F41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858-F041-480C-815F-406CDF51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ADF-270C-499E-8BFC-62C5585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732-BB5D-443C-A17D-0D58D68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E3D-4113-4D82-8CB0-3D130716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DA8-DF80-4891-82E4-B209554D0A7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347-2604-489E-955E-04591D5E9E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BU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A freedom fighter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北京四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rosa parks"/>
          <p:cNvPicPr/>
          <p:nvPr/>
        </p:nvPicPr>
        <p:blipFill>
          <a:blip r:embed="rId1"/>
          <a:stretch/>
        </p:blipFill>
        <p:spPr>
          <a:xfrm>
            <a:off x="5181480" y="121932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68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To this day I believe w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here on the pla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th to live, grow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do what we ca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e this world a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ce for all peop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joy freedom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Mrs. Rosa Pa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579132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526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9554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4038120"/>
            <a:ext cx="73533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 on the bus to try to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egregation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种族隔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rotest was brutally treated at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tops along the 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724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997360" cy="461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475128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bout 250,000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ttended the March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shington, D.C., ur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upport for civil-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egislation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立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vent was highligh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King's “I have a dream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peech in fron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incoln Memorial.</a:t>
            </a:r>
            <a:r>
              <a:rPr b="0" lang="zh-CN" sz="24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91440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9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 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ful words &amp;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61824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2, Para. 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e refused to move and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n away by the pol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609480"/>
            <a:ext cx="7201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ot to take what is offered; not to do what one is asked to do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拒收；拒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He refused my offer to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She refused to take the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refusal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31520"/>
            <a:ext cx="60976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3, Para. 1)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A group was formed to demand that the bus company should change its unfair practic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19 A freedom figh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continu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MLK" descr="Dr. Martin Luther King Jr."/>
          <p:cNvPicPr/>
          <p:nvPr/>
        </p:nvPicPr>
        <p:blipFill>
          <a:blip r:embed="rId1"/>
          <a:stretch/>
        </p:blipFill>
        <p:spPr>
          <a:xfrm>
            <a:off x="3048120" y="2286000"/>
            <a:ext cx="367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19920"/>
            <a:ext cx="61722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i. &amp; 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形成，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I can’t form any idea or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pinion abou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Clouds are forming o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op of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h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in any 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以任何形式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778680"/>
            <a:ext cx="62485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call for ; give in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7, Para. 1)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King called for black peo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not to give in but to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tru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25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ahoma"/>
              </a:rPr>
              <a:t>call for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要求；来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You passed your test? Th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alls for a celebr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I will call for you at you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1051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屈服；归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The rebels were foun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giv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He had to give in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ay sorry to Joh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497520"/>
            <a:ext cx="67816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与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有关的词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up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bandon the attemp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放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can do nothing more. I gave 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u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come to the end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到尽头；结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r patience gave 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838080"/>
            <a:ext cx="6629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ff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send out, e.g. smoke, smell etc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发出烟，气味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ives off a stink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distribut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分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mayor gave away the prizes at the sports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2600"/>
            <a:ext cx="611532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2. give freely, not expecting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anything in return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赠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ave away all his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3. reveal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泄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is accent gave him aw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ade known who or what 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840600"/>
            <a:ext cx="619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10, Para. 1)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把… 从…分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文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company did not have the right to separate blacks from whites on its bu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533520"/>
            <a:ext cx="7086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The channel separates 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2. A garden separates this ho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the n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ion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10560"/>
            <a:ext cx="709776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 by 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Times New Roman"/>
              </a:rPr>
              <a:t>(Sentence 3, Practice 2, Page 40)</a:t>
            </a: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肩并肩的   原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shall never forget the time when blacks and whites were fighting side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by side for the freedom of all r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5438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rtin Luther King dreamed of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tter world for all Americans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d worked to make it real with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y stop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MLK" descr="Dr. Martin Luther King Jr."/>
          <p:cNvPicPr/>
          <p:nvPr/>
        </p:nvPicPr>
        <p:blipFill>
          <a:blip r:embed="rId1"/>
          <a:stretch/>
        </p:blipFill>
        <p:spPr>
          <a:xfrm>
            <a:off x="3429000" y="838080"/>
            <a:ext cx="2733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1080"/>
            <a:ext cx="6539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by the side of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在…的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girl was standing by t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ide of the road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159840"/>
            <a:ext cx="693432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the side of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站在某人一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y mother always takes the side of my brother when I argue with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sides with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和…站在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I will take sides with you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85988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 have a Dream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节选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    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by Martin Luther King, Jr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127-thumb" descr="Photo"/>
          <p:cNvPicPr/>
          <p:nvPr/>
        </p:nvPicPr>
        <p:blipFill>
          <a:blip r:embed="rId1"/>
          <a:stretch/>
        </p:blipFill>
        <p:spPr>
          <a:xfrm>
            <a:off x="1619280" y="2060640"/>
            <a:ext cx="6053040" cy="3895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4360" y="609444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1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creed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信念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weltering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闷热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asis 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绿洲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vicious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不道德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nterposition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调停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nullification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废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0388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Getting to know more abou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’s civil right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ovement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了解更多黑人的争取国内权益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.  Useful words &amp; expres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couldn’t trust Jacob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couldn’t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acob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2928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1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Do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2,3 on Page 105;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 on Page 106, Ex. 1&amp;2 on Page 1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work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ake the Mini-test 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* Try to Read “I have a dream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629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. Appreciating the famo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peech “I have a dream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y Martin Luther 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欣赏马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路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金的著名演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有一个梦想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arming-up exerci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y is the speech “I have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eam” by Martin Lu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ing so fam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 Have you ever heard of Ros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ther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vil Righ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Photo of Ms. Rosa Parks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43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rs. Rosa Parks, 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February 4, 1913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 been called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mother of the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s movement"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of the m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ortant citizen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entury.</a:t>
            </a: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Photo of Ms. Rosa Parks"/>
          <p:cNvPicPr/>
          <p:nvPr/>
        </p:nvPicPr>
        <p:blipFill>
          <a:blip r:embed="rId1"/>
          <a:stretch/>
        </p:blipFill>
        <p:spPr>
          <a:xfrm>
            <a:off x="5562720" y="1752480"/>
            <a:ext cx="280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3809520"/>
            <a:ext cx="6934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, an African America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fused to give up her sea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’s section of a city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refore she was arrest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029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14:41:16Z</dcterms:modified>
  <cp:revision>102</cp:revision>
  <dc:subject/>
  <dc:title>Unit 19 A freedom fighter (continued)</dc:title>
</cp:coreProperties>
</file>