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8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D9E-0A27-487F-AA5F-7DDBB629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7B2-9874-49A8-9C8B-C12ACD15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9C0-41AD-4FE8-A611-C36B3B94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1D0-310B-47A1-97D1-DE1FCD48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553-EF39-4110-9D95-01D87097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022-DE86-4BA7-AEAE-6ABEA9B9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AFE-9D54-4945-B440-37C6C289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211-0E87-4775-B773-656A0948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4AF-05FD-4C09-9C0D-4452499A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EC4-61F9-4B63-B916-8C0D6DFA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9BC-30F6-4744-A783-8B97CB3C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DDC-61BD-4BE9-AD20-DA6F2795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D4EA-A1E1-4D22-917A-7EC4F5E6D2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83808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ccff"/>
                </a:solidFill>
                <a:latin typeface="Times New Roman"/>
              </a:rPr>
              <a:t>Unit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ccff"/>
                </a:solidFill>
                <a:latin typeface="Times New Roman"/>
              </a:rPr>
              <a:t>Modern Agricultu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86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If three million pigs, sheep and cattle were raised during the years from 1986 to 1990, how many were raised from 1991 to 199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867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9 mi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Furthe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conclusion can you draw from the grap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4792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eat more meat because of _________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6232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eat more fish because eating fish does n’t  make them as ___ as eating 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4956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have a better knowledge of healthy diet so they eat mor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172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447920"/>
            <a:ext cx="761760" cy="4876560"/>
          </a:xfrm>
          <a:custGeom>
            <a:avLst/>
            <a:gdLst>
              <a:gd name="textAreaLeft" fmla="*/ 0 w 761760"/>
              <a:gd name="textAreaRight" fmla="*/ 275040 w 761760"/>
              <a:gd name="textAreaTop" fmla="*/ 127080 h 4876560"/>
              <a:gd name="textAreaBottom" fmla="*/ 4749480 h 48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657600"/>
            <a:ext cx="1371600" cy="38088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1600" y="1752480"/>
            <a:ext cx="6069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ing eating ha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1828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ing r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6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7520" y="380880"/>
            <a:ext cx="611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20" y="0"/>
            <a:ext cx="6069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ing eating ha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48120"/>
            <a:ext cx="1676520" cy="1522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43828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eff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33520"/>
            <a:ext cx="304920" cy="5105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0520" y="1447920"/>
            <a:ext cx="611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67652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8920" y="1447920"/>
            <a:ext cx="60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 and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3048120"/>
            <a:ext cx="1371600" cy="15228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6668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533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to raise more 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533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to grow more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523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59092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more ________ in which to raise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shp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41911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row more fruit trees which will bear more fru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55627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ut down forests,burn grass, use chemicals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oadway BT"/>
                <a:ea typeface="华文彩云"/>
              </a:rPr>
              <a:t>Task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4    Pre-liste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520" y="106668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 depends on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105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f we changed the structure of agriculture, what do you think will happen to the n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219320"/>
            <a:ext cx="8667720" cy="3741120"/>
            <a:chOff x="304920" y="1219320"/>
            <a:chExt cx="8667720" cy="37411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6570720" y="3234960"/>
              <a:ext cx="235260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6426360" y="1219320"/>
              <a:ext cx="254628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304920" y="2371680"/>
              <a:ext cx="2952720" cy="14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402000" y="1795320"/>
              <a:ext cx="249732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73120" y="35953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8560" y="2462040"/>
              <a:ext cx="184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54720" y="4563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49640" y="4373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1960" y="38098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ather &amp;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7320" y="46483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22160" y="47847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ther natur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4720" y="7621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7240" y="6095880"/>
            <a:ext cx="5042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oods or droughts, soil erosio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rought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ng period without 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ike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narrow piece of land built to                    stop water from com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fishpond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 area of water where fish are rais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14600" y="304920"/>
            <a:ext cx="3962520" cy="12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New word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33360" y="422280"/>
            <a:ext cx="393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华文彩云"/>
                <a:ea typeface="华文彩云"/>
              </a:rPr>
              <a:t>Task 2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华文彩云"/>
              </a:rPr>
              <a:t>While liste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25360"/>
            <a:ext cx="91440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1 Listen to the tape. The passage you hear talks  ab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history of farming              (  ) farmers in America        (  ) fish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protection of nature           (  ) farmers in China             (  ) pig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environmental problems    (  ) trees                                 (  ) dik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480" y="3335400"/>
            <a:ext cx="905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2 Which of the following sentences are true &amp; which are fals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3520" y="4221000"/>
            <a:ext cx="8875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1 In early times farmers in China moved around &amp; burnt forests.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2 All farmers in South America burn forests to create farmland.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3 Flood &amp; droughts are disasters that farmers cannot stop.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4 Some of the land in China  is too wet to grow crops.         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5 Fish farmers damage nature.                                               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2060640"/>
            <a:ext cx="7488000" cy="1009440"/>
            <a:chOff x="324000" y="2060640"/>
            <a:chExt cx="7488000" cy="1009440"/>
          </a:xfrm>
        </p:grpSpPr>
        <p:sp>
          <p:nvSpPr>
            <p:cNvPr id="161" name=""/>
            <p:cNvSpPr/>
            <p:nvPr/>
          </p:nvSpPr>
          <p:spPr>
            <a:xfrm>
              <a:off x="324000" y="206064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42100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28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7280" y="242100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472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534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61440" y="530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34520" y="4627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4941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61440" y="563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rcRect l="0" t="24415" r="0" b="7628"/>
          <a:stretch/>
        </p:blipFill>
        <p:spPr>
          <a:xfrm>
            <a:off x="0" y="719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280" y="404640"/>
            <a:ext cx="89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3 Listen to the tape &amp; complete the sentences by using your own word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335240"/>
            <a:ext cx="87328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When farming goes against nature, ______________________________ are the result. The earliest farmers ___________nature. Their way of agriculture led to ______________ &amp; _____________. It is an old truth that __________ should not ____________________. The land that Tan &amp; Xiao Zao bought was _________ &amp; could not be used for ____________. Instead they changed the fields into _______. On their farm they kept __________________ &amp; grew _________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960" y="174312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l kinds of environment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68200" y="2154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7280" y="25351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10720" y="2535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r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70640" y="29210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1880" y="33274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o against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0920" y="3759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o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9360" y="4119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" y="44798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shp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36080" y="44798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sh/ducks/chic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6760" y="49150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-方正超大字符集"/>
              </a:rPr>
              <a:t>fruit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40880" y="365040"/>
            <a:ext cx="37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istening 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2760" y="1260360"/>
            <a:ext cx="9617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Farming and nature are like two flowers on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re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When farming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oes agains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nature,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all kinds of environmental problem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are the result. In ancient tim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hen people began using the land, farming was not as it is today. Early farmers moved around the country.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burnt a part of a forest and used this land for one or two years. When they could no longer grow crops on the 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they moved on and repeated this somewhere el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Agriculture in this way destroys nature and 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results in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floods and  drought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Some people in South America still practise this kind of far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00" y="457200"/>
            <a:ext cx="927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Over the past twenty to twenty-five years, far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have recognised some old truths, already known to an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Chinese farmers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arming should not go against nature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If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e soil is too poor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chemicals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can help improve i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grow better crops, but this may damage or destroy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surrounding the farms. Instead, farmers should look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other methods.In the early 16th century, bothers Ta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Xiao Zao of Jiangsu Province cheaply bought fields a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lakes nobody wanted because they were too wet. They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dikes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around the fields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urning the fields into fish pond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they became fish farmers.They also planted </a:t>
            </a:r>
            <a:r>
              <a:rPr b="1" i="1" lang="zh-CN" sz="2800" spc="-1" strike="noStrike">
                <a:solidFill>
                  <a:srgbClr val="3333a5"/>
                </a:solidFill>
                <a:latin typeface="Times New Roman"/>
              </a:rPr>
              <a:t>fruit tree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the dikes and kept </a:t>
            </a:r>
            <a:r>
              <a:rPr b="1" i="1" lang="zh-CN" sz="2800" spc="-1" strike="noStrike">
                <a:solidFill>
                  <a:srgbClr val="3333a5"/>
                </a:solidFill>
                <a:latin typeface="Times New Roman"/>
              </a:rPr>
              <a:t>chickens and duck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. They wer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successful far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2360" y="152280"/>
            <a:ext cx="37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book Page 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838080"/>
            <a:ext cx="8855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1.What is Helen’s job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2.What do you think she is going to d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3.What would she be doing every day in her job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187280"/>
            <a:ext cx="763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She is (probably) a fishwom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160" y="1981080"/>
            <a:ext cx="8320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I think she is going to open the boxes and feed the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r: I think she is on her way to the market to sell the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080" y="3352680"/>
            <a:ext cx="933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 first thing to do is to go out in the boat and see if anything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aught in the nets. Next, you have to bring in the fish and thro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ut the nets for the next catch. Then, the fish must be brought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and. The fish should  be kept in big boxes full of water, so the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on’t d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0" r="0" b="80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20520" y="108900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Task 1: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彩云"/>
              </a:rPr>
              <a:t>Brainstor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4720" y="1906560"/>
            <a:ext cx="71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ill you think of when you see the word “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gricul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733920"/>
            <a:ext cx="4248360" cy="165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幼圆"/>
              </a:rPr>
              <a:t>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3429000"/>
            <a:ext cx="5834160" cy="2160720"/>
            <a:chOff x="1295280" y="3429000"/>
            <a:chExt cx="5834160" cy="2160720"/>
          </a:xfrm>
        </p:grpSpPr>
        <p:sp>
          <p:nvSpPr>
            <p:cNvPr id="49" name=""/>
            <p:cNvSpPr/>
            <p:nvPr/>
          </p:nvSpPr>
          <p:spPr>
            <a:xfrm>
              <a:off x="2087640" y="3645000"/>
              <a:ext cx="865080" cy="4316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472000" y="3429000"/>
              <a:ext cx="720720" cy="57636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2087280" y="5157720"/>
              <a:ext cx="649080" cy="28728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72000" y="5157720"/>
              <a:ext cx="865080" cy="4320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5280" y="4581720"/>
              <a:ext cx="129708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6720" y="4581720"/>
              <a:ext cx="115272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08800" y="49536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oadway BT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0040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84880" y="4572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46800" y="53341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3434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5630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80880"/>
            <a:ext cx="938844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We feed the _________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We ___________________________________ the tanks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水箱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We get __________ out of the best of the 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. When the ________ are big enough, we put them in _____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in the se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5. When the ________ have grown to the right size, we ________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hem, freeze them or_______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6. We take them by truck to the nearest 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44120" y="380880"/>
            <a:ext cx="281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 twice a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6680" y="1219320"/>
            <a:ext cx="591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produce our own fish from eggs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23800" y="2133720"/>
            <a:ext cx="167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the eg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3760" y="2025720"/>
            <a:ext cx="180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large 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7640" y="304812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1640" y="3048120"/>
            <a:ext cx="120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c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63960" y="426708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2000" y="4311720"/>
            <a:ext cx="152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harv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28200" y="4724280"/>
            <a:ext cx="136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mok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1160" y="5638680"/>
            <a:ext cx="148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2760" y="380880"/>
            <a:ext cx="847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do they have to tie the cages to the rocks on the bottom of the s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do they smoke or freeze all the f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 Why do they burn their own wo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.  Why do they smoke their fish themselv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8160" y="1295280"/>
            <a:ext cx="788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The cages have to be tied to the bottom of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ea because it is wind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5400" y="2543040"/>
            <a:ext cx="760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the fish farm is a long way from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nearest mark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400" y="3790800"/>
            <a:ext cx="860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in that way they get a good strong smok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2560" y="4800600"/>
            <a:ext cx="800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they get higher prices for smoked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79880" y="76320"/>
            <a:ext cx="38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Listening tex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609480"/>
            <a:ext cx="8839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a5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Hello, my name’s Helen and I live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on the west coast of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Canada. I work on a fish fa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Right now I’m feeding the fish, which are kept in cages in  the sea. The cages are tied to the rocks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on the bottom of the sea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.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t can get very windy here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Twice a day I put the fish food in the  boat and go out to the cages. The fish are always hungry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When the fish have grown to the right size, we pull the cages out of the water. The fish are killed and  cleaned. Our fish farm is a long way from the nearest market. So we either freeze the fish or smoke them. We don’t salt any fish here. Some fish farms do, but we don’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228600"/>
            <a:ext cx="86104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Three of us work here and there’s always a lot to do. Inside that building over there w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have tanks for the young fish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We produce all our own fish from eggs. The fish start to grow in fresh water. Then, when they are bigger they go into the sea, which is salty, of cours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There’s always a lot of work to do: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eeding the fish, cleaning the tanks, getting eggs out of the best of the large fish, harvesting the fish, cleaning them and smoking them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We burn our own wood and that way we get a very good strong smoke. It’s more work, but w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et higher prices for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our smoked fis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w words of this peri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duc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ffect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ke  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ught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e 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garcane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bacco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cal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990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量，产物，农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6765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，影响，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2392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堤坝，排水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1543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9164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长的茎，藤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4678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甘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410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烟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6019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方的，当地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260280"/>
          <a:ext cx="9144000" cy="59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764720" y="5445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ngsuh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5440" y="5445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6360" y="5445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7080" y="40464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019920"/>
            <a:ext cx="84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wth of major products 1991-95 compared with 1986-90 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80880" y="3962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is the graph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7242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 about the growth of the major farm products during the year 1991-95 compared with that of 1986-9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" y="4191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at is shown on the x-axis and y-ax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9528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 the x-axis: the major farm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 the y-axis: the percentages of growt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57200" y="4114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ich farm product grew most during the first five years of the 199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5562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4038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How much did it grow compared with          that during the last five years of the 198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04920" y="4343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ich farm product grew lea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486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4:29:22Z</dcterms:created>
  <dc:creator>雷安梅</dc:creator>
  <dc:description/>
  <dc:language>en-US</dc:language>
  <cp:lastModifiedBy>user</cp:lastModifiedBy>
  <dcterms:modified xsi:type="dcterms:W3CDTF">2004-06-11T23:39:43Z</dcterms:modified>
  <cp:revision>39</cp:revision>
  <dc:subject/>
  <dc:title>PowerPoint 演示文稿</dc:title>
</cp:coreProperties>
</file>