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1879-52E5-4D45-8067-6944F645008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right answer is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les Darnay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巴黎去救他们家族的一个仆人说明了他是一个善良的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at’s why Charles  hated the cruel deeds of the French no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Thr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right answer i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les was sentenced to death because he belonged to the family of the Marqu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le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被判处死刑是因为他是侯爵家族的成员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urth 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right answer is 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e know this fact from the sentence in Paragraph 4 “Madam Defarge was the sister of the peasant boy and siste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F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ydne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法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le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吃了有催眠作用的药，使他离开了监狱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 we can say that Sydney was determined to help his friends. This also proved that he was a kind per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right answer is C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面哪个选项不是这个故事的意图：故事中没有提到任何有关两个城市的介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ay attention to the question, which one is not mentioned in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fter reading the whole story, it is easy for to find the answer. Because we can’t find any information on the two cities: London and Paris. But we can read about Sydney’s devotion of love, the noble’s cruelty and the poor young peasant and his si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tually, in the original novel, just before Sydney had his head cut off, he gave a speech. Do you want to  know his last speech? Let’s re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是我错做过的最好的事情，这是我所知道的最好的休息。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an you understand his last spee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s Sydney very great man. I think so. I think he is one of the greatest men in the world. Don’t you think s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p to now, we have finished reading the story. Do you enjoy it. I 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ave you read any English novel? If not, I advice you to read this novel “A Tale of Two Cities”. When you read, I would say do not read a short summary, but the original one, either in Chinese or in English, it depends on your English level, so long as you can know about more details. For me I prefer the English 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, everyone!. Good to see you again. Today we are going to learn the last lesson in Unit 22, Lesson 87. Before that, Let’s go over the studying go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original sent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农村革命者放火烧贵族的城堡，将它们夷为平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lease pay attention to the underlined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里的介词短语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o …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示结果。类似的用法还有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跌到地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撕成碎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宣判死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ext word I want to mention is “addres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original sentence i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les Darna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伦敦一家银行发现一封法国来信，信是写给他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 this sentence, the word “address”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动词，短语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ddress to sb,” means 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写某人的姓名或地址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 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有一封写给你的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个包裹不是寄给我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s we know, the word “address” is also used as a noun 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名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. 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无法看清信封上的地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 much for the word “address” and let’s move to the next one “or rather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original sent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les Darna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伦敦一家银行发现一封法国来信，信是写给他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或者更确切地说，是写给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 Evremon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侯爵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phrase “or rather” means “more exactly” or “more truly”. In Chinese we say 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确切地说”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昨天晚上我很晚才睡，更确切地说，我是今天凌晨才谁的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是一名英语教师，更准确地说，他是一名英语教授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en we use this phrase, we must pay attention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当我们在使用这个短语是要注意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or rathe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一个插入语，一般置于句子的中间，并用逗号将它于句子的前后部分隔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ext one is “on one’s arrival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original sentence i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然而，当他一到巴黎就立即被人认出是贵族，因而被投入监狱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个结构里的固定用法是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on/ upon + one’s / the +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名词，表示“一……就……”，注意：这里的名词一般都是有动词变来的，其它的普通名词一般不可以用在这里。比如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rriva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rriv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名词形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老板一进来他们都站了起来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ntranc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名词形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一回美国就开始他的写作。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既是名词也可以用作动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ext one is “through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original sentenc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得知他法国家中的一个仆人无辜地被关进了监狱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里的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rough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相当于介词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用法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rough no faul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相当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no reaso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表示“无辜地”；“没有原因地”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没原因地丢了工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个男孩因为吃得太多而生病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都是因为你刚才所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three goals tod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但从意思上看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rough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还相当于短语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ecause o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s a result o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e t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同样一个意思我们可以用多种方式表达，比如这个句子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因为交通拥挤而上课迟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面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rough the thick traffic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用如下形式表达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 much for the “through”. Next one is “doub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original sentence i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法庭里的人们听到这件事后，他们脑子里无疑都认为汕头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. Evremonde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家族实在是罪孽深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ub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这里是名词，表示“怀疑”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oh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否会按时来还很难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是事谁干的我心里有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整件事情仍未见分晓。注意这里的词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 doub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表示“不确定”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ub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作名词，可以用在如下的结构中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同学们如果能自己动手查查字典，找出各个结构的例句会对这些结构有更深的理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ext one is “do wrong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original sentence is: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们刚才已经见过这个句子了，请同学们注意这里的短语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 wro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希望你永不做错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做了错事，但他真心的悔过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过刚才的例句，我们知道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名词，表示“错事；坏事；冤屈”等，其反义词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igh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表示“正确的事”。如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孩子们是非不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似的用法还有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 good 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做好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, do harm 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有害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, do one’s best 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尽力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et’s look at the last one  “eager”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original sentence from the text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然后他又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efarg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酒店，了解到为什么他们夫妇强烈要求处死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le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原因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形容词，表示“渴望的；热切的”，通常用在短语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e eager to do sth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表示“渴望做某事”或“热心做某事”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们都渴望看看首都的名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营业员热情地接待了我们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意思接近的词是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nxiou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nxiou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强调“焦急的；发愁的；忧虑的”等意思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作状语时，可以表示时间、原因、条件、伴随、结果等。请看例句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坐在扶手椅上读报纸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句话里的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ading the newspaper”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示伴随，是伴随着谓语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t in the armchai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其实这句话相当于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e sat in the armchair and read the news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comes the two pre-reading 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open your book at page 58,  let’s listen to the tape, while listening, think about the two questions. You can make some notes when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由于生病，她只好卧床休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句话里的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eing ill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示原因，说明“她卧床休息的原因”。这句话我们换一种方式讲就是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e had to stay in bed because she was 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s she was ill, she had to stay in b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此，当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表示原因是，相当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ecause, as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引导的原因状语从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那男孩跌倒了，头碰在门上碰破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句话里的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iking his head against the doo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utting 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示结果，表示跌倒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el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结果。如果我们换一种方式来表达这个意思，就是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boy fell so that he stroke his head against the door and cut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当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短语表示结果时，相当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 tha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引导的结果状语从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咱们再看第四个句子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她在外出前穿衣服时把镜子打破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句话里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ressing to go ou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示时间。我们也可以换一种形式来表达这个意思，就是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e broke her looking glass when she was dressing to go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短语作状语表示时间，相当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en, before, after, as soon a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引导的时间状语从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你老站着只会弄得你更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句话里的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keeping on your fee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示条件。如果我们换成条件状语从句的形式来表达这个意思，就是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you keep on your feet, you will only make yourself more ti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短语作状语表示条件，相当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引导的条件状语从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刚才我们总结了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短语作状语的用法，有一点还请大家注意，各种从句都要有完整的主谓结构，而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短语中没有主语。那么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所表示的动作的执行者是什么呢？这个形式主语要和主句的主语是一致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也就是说，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做状语，表示句子主语的主动动作。如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听到呼救声，他们都冲出了房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吃完晚饭，他出去散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两个句子中，无论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ear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还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aving ha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都是句子的主语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发出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 Please finish Part 3 and Part 4 on Page 5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 Please finish Exercise 2 and 3 on page 120 in your work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 For the writing homework, you are required to writing an introduction to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nglish Novel which you have ever re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ording to the story, a lot of things happened to Charles Darn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irst he returned to France to rescue a servant of his fam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s soon as he arrived at Paris, he was recognized as a no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e was thrown into pr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nce the St. Evremonde family had done much wrong, Charles was sentenced to de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e looked very much like Charle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he </a:t>
            </a:r>
            <a:r>
              <a:rPr b="0" lang="zh-CN" sz="1200" spc="-1" strike="noStrike">
                <a:solidFill>
                  <a:srgbClr val="ffcc66"/>
                </a:solidFill>
                <a:latin typeface="Arial"/>
              </a:rPr>
              <a:t>took the place of his friend, Charles, had his head cut of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 we say, Sydney sacrificed his own life for Charles and his wife Lucie. We can also say that Sydney sacrificed his own life for l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crifice /`s  drifais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牺牲；献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got any idea of this part of the story? I want to show you some comprehension questions, and I think they can help you understand the story bet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you will do next is to choose the best answer to the ques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right answer is 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巴黎的穷人起来反抗法国贵族是因为穷人们受到残酷的对待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e knew it when read the first les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ECED-4B5C-4126-A266-17BC581CE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730F-E477-46D4-A532-8D3D0209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A35F-883D-4EBA-B9D5-4C002EE44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0BE2-2524-4C1A-AF4B-2AED7191F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D97D-4E82-4BAD-9A17-E07A2B45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59F6-66EE-494C-9067-76C01C10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48C3-0B79-44CB-9D43-F5C7EBD5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C3AA-D60F-4661-A7D4-3EADFB54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B61C-89CD-4CDD-A106-01092710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8248-6E89-4D09-BD85-C9895307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95B1-8F8C-43B5-AFE1-BB5B75F7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53D1-F9DC-495E-B012-A9A0C991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C291-BB40-41EB-B347-790B20CF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EF53-D928-4B39-AFC0-FCD08D5A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B398-F64A-4543-B64C-5C3D0766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3D4C-02E1-4201-B690-CB18E6905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A2FF-9C2E-4977-9105-B7A972ACC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CCAA-9E0D-4D97-B802-B6075286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6CB3-2743-4C55-8B2E-6092A31E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A822-EC2D-4364-9CC7-29DB64A5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C95C-35ED-42A6-9499-C703A004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9039-495C-407E-A8F7-764793D5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3ED7-4C97-4F87-B042-4EA992A5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225F-D8FE-491C-A238-90EDD88A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262C-F45B-47B3-812D-DE1F4B0FC1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C56A-7D13-4302-A4E3-046C928B0D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科  英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2B U22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MingLiU"/>
              </a:rPr>
              <a:t>A Tale of Two Cities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(C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3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星期五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7:1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讲课教师   邵紫    师大二附中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22280" y="190512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. The fact that Charles Darnay went to Paris to rescue the servant shows that _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he felt guilty of his p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he had done something wrong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serv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C. he was a kind per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he regretted what he had do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22280" y="1752120"/>
            <a:ext cx="660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. Charles was sentenced to death because he _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had done something wrong to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rother and si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belonged to the family of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arqu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. had betrayed his cou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had changed his nam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22280" y="1752120"/>
            <a:ext cx="660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. Charles was sentenced to death because he _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had done something wrong to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rother and si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B. belonged to the family of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      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Marqu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. had betrayed his cou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had changed his nam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 The young peasant boy and his sister were Defarge’s __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neighbou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. relati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. brother and sister-in-la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D. brother and sist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 The young peasant boy and his sister were Defarge’s __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neighbou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. relati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zh-CN" sz="3600" spc="-1" strike="noStrike">
                <a:solidFill>
                  <a:srgbClr val="ff6600"/>
                </a:solidFill>
                <a:latin typeface="Times New Roman"/>
              </a:rPr>
              <a:t>C. brother and sister-in-la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D. brother and sist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69640" y="1981080"/>
            <a:ext cx="690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5. Sydney managed to have Charles leave the prison by __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persuading him to do s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. giving him some medic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. asking him to have a slee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D. asking help from the pris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guar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5. Sydney managed to have Charles leave the prison by __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persuading him to do s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zh-CN" sz="3600" spc="-1" strike="noStrike">
                <a:solidFill>
                  <a:srgbClr val="ff6600"/>
                </a:solidFill>
                <a:latin typeface="Times New Roman"/>
              </a:rPr>
              <a:t>B. giving him some medic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. asking him to have a slee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D. asking help from the pris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guar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0000" y="1752480"/>
            <a:ext cx="705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. Which of the following is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NO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purpose of the stor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To praise the devotion of lo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To condemn the noble’s cruel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. To give us an introduction of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wo c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To have pity on the young peas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nd his sis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69640" y="1752480"/>
            <a:ext cx="690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. Which of the following is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NO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purpose of the stor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To praise the devotion of lo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To condemn the noble’s cruel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C. To give us an introduction of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         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two c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To have pity on the young peas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nd his sis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Sydney’s Last Speech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22280" y="2209320"/>
            <a:ext cx="660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a far, far better thing that I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, than I have ever done; it 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far, far better rest that I go to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n I have ever known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f53d"/>
                </a:solidFill>
                <a:latin typeface="Arial"/>
              </a:rPr>
              <a:t>Unit 22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000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f53d"/>
                </a:solidFill>
                <a:latin typeface="Times New Roman"/>
              </a:rPr>
              <a:t>Lesson 87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f53d"/>
                </a:solidFill>
                <a:latin typeface="Times New Roman"/>
              </a:rPr>
              <a:t>A Tale of Two Citi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French_revolution2" descr=""/>
          <p:cNvPicPr/>
          <p:nvPr/>
        </p:nvPicPr>
        <p:blipFill>
          <a:blip r:embed="rId1"/>
          <a:stretch/>
        </p:blipFill>
        <p:spPr>
          <a:xfrm>
            <a:off x="3276720" y="3429000"/>
            <a:ext cx="3429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burn to the groun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Line7; Para 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the country the revolutionar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t fire to the nobles’ castle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burn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them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to the groun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burn to the groun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57600" y="2971800"/>
            <a:ext cx="4114800" cy="1219320"/>
          </a:xfrm>
          <a:prstGeom prst="wedgeEllipseCallout">
            <a:avLst>
              <a:gd name="adj1" fmla="val -58180"/>
              <a:gd name="adj2" fmla="val -82680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介词短语表示结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59200" y="194940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______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22200" y="3975120"/>
            <a:ext cx="334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ll to the grou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ar …to pie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ntence to de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address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v.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(Line 2; Para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…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harles Darnay found at a bank in London a letter from France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addresse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o him,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69640" y="1447560"/>
            <a:ext cx="69073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address  to sb.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写某人的姓名或地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cc99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re’s a letter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addressed t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yo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cc99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is package is not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addressed t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address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n.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地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cc99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can’t read the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address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on this envelop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8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or rather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(Line 2; Para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…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harles Darnay found at a bank in London a letter from France addressed to him,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or rathe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o the Marquis St. Evremonde,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75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or rather: more exactly; more truly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                                    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更确切地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went to sleep very late last night,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or rathe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, early this morn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is an English teacher,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or rathe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, a professor of Englis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90732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on one’s arriv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(Line 5; Para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owever,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on his arrival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in  Par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was recognized as a noble an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rown into pris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05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on one’s arriv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on / upon + one’s / the +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n. </a:t>
            </a:r>
            <a:r>
              <a:rPr b="1" i="1" lang="zh-CN" sz="3200" spc="-1" strike="noStrike">
                <a:solidFill>
                  <a:srgbClr val="ffcc66"/>
                </a:solidFill>
                <a:latin typeface="Times New Roman"/>
              </a:rPr>
              <a:t>一…就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y stood up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on the entranc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of their bos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Upon his return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o the USA, he began his writ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69640" y="1945800"/>
            <a:ext cx="6450120" cy="28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through 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prep.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Line 4; Para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…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found that a servant of the family in France had been put in prison,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throug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no fault of his ow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71800" y="4267080"/>
            <a:ext cx="4495680" cy="1676520"/>
          </a:xfrm>
          <a:prstGeom prst="cloudCallout">
            <a:avLst>
              <a:gd name="adj1" fmla="val -23907"/>
              <a:gd name="adj2" fmla="val -60796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no reas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13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through sth. / doing sth.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                            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由于……；因为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lost his job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through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no faul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boy became ill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through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eating too muc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t was all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through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hat you said just now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cf53d"/>
                </a:solidFill>
                <a:latin typeface="Times New Roman"/>
              </a:rPr>
              <a:t>Goals </a:t>
            </a:r>
            <a:r>
              <a:rPr b="1" lang="zh-CN" sz="4800" spc="-1" strike="noStrike">
                <a:solidFill>
                  <a:srgbClr val="ecf53d"/>
                </a:solidFill>
                <a:latin typeface="Times New Roman"/>
              </a:rPr>
              <a:t>学习目标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69640" y="1945800"/>
            <a:ext cx="6450120" cy="33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Learn about the ending of the sto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Learn useful expressio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Grammar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–ing Form as Adverbi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69640" y="1676160"/>
            <a:ext cx="67546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through: because of; as a result of;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               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ue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was late for class through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ick traffi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=…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because of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e thick traffi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=…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as a result of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e thick traffi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= …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due t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e thick traffi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oubt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zh-CN" sz="3200" spc="-1" strike="noStrike">
                <a:solidFill>
                  <a:srgbClr val="ffcc66"/>
                </a:solidFill>
                <a:latin typeface="Times New Roman"/>
              </a:rPr>
              <a:t>n.</a:t>
            </a:r>
            <a:r>
              <a:rPr b="0" i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(Line 7; Para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hen the people in the court heard this,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there was no doub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in their minds that the St. Evremonde family had done much wro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698328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oubt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n.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怀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re’s some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doub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whether John will come on ti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’ve no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doub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who did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whole matter is still in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doub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721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oubt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no doubt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必定；无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n doubt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怀疑；猜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re’s no doubt (about) ... / that …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毫无疑问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ithout doubt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毫无疑问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o wrong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(Line 8;Para 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re was no doubt in their mind that the St. Evremonde family had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done much wro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98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o wrong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做错事；做坏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hope you will never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do wro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has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done wro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, but he felt truly sor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45960" y="1946160"/>
            <a:ext cx="622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wrong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 (</a:t>
            </a:r>
            <a:r>
              <a:rPr b="0" i="1" lang="zh-CN" sz="3200" spc="-1" strike="noStrike">
                <a:solidFill>
                  <a:srgbClr val="ffcc66"/>
                </a:solidFill>
                <a:latin typeface="Times New Roman"/>
              </a:rPr>
              <a:t>n.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),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  right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 (</a:t>
            </a:r>
            <a:r>
              <a:rPr b="0" i="1" lang="zh-CN" sz="3200" spc="-1" strike="noStrike">
                <a:solidFill>
                  <a:srgbClr val="ffcc66"/>
                </a:solidFill>
                <a:latin typeface="Times New Roman"/>
              </a:rPr>
              <a:t>n.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hildren don’t know the difference between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righ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wro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o good   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做好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o harm  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有害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o one’s best  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尽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660240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eager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adj. 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(Line4; Para 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n he went to Defarge’s wine shop, where he learnt why they were so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 eager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o  have Charles sentenced to deat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eage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adj 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渴望的；热切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be eager to do st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y’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r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all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eager t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see the sights of the capita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assistant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was eager to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serve us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anxious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adj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f53d"/>
                </a:solidFill>
                <a:latin typeface="Arial"/>
              </a:rPr>
              <a:t>Grammar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7211880" cy="39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动词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-ing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形式作状语的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He sat in the armchair,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reading the newspape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23600" y="4159080"/>
            <a:ext cx="675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sat in the armchair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and read th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newspape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cf53d"/>
                </a:solidFill>
                <a:latin typeface="Arial"/>
              </a:rPr>
              <a:t>Pre-reading Ques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69640" y="1945800"/>
            <a:ext cx="6373800" cy="29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1) What happened to Charles Darna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2) How did Sydney keep his promis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f53d"/>
                </a:solidFill>
                <a:latin typeface="Arial"/>
              </a:rPr>
              <a:t>Grammar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70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动词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-ing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形式作状语的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Being ill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, she had to stay in b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79760" y="3000240"/>
            <a:ext cx="59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had to stay in bed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becau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she was ill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60680" y="4235400"/>
            <a:ext cx="63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As  she was ill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, she had to stay in b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f53d"/>
                </a:solidFill>
                <a:latin typeface="Arial"/>
              </a:rPr>
              <a:t>Grammar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754680" cy="17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动词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-ing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形式作状语的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The boy fell,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striking his head against the doo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cutting i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03800" y="3686040"/>
            <a:ext cx="629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boy fell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so that he struck hi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head against the doo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cut i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f53d"/>
                </a:solidFill>
                <a:latin typeface="Arial"/>
              </a:rPr>
              <a:t>Grammar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90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动词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-ing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形式作状语的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 She broke her looking glass,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dressing to go ou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26760" y="3962520"/>
            <a:ext cx="63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broke her looking glass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wh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she was dressing to go ou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f53d"/>
                </a:solidFill>
                <a:latin typeface="Arial"/>
              </a:rPr>
              <a:t>Grammar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77724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动词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-ing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形式作状语的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Keeping on your fee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, you will only make yourself more tir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80840" y="3914640"/>
            <a:ext cx="633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If you keep on your fe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, you wil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ly make yourself more tir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f53d"/>
                </a:solidFill>
                <a:latin typeface="Arial"/>
              </a:rPr>
              <a:t>Grammar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6831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动词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-ing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所表示的主语的动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 Hearing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cry for help, they rushed out of the roo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Having ha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supper, he went out for a wal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f53d"/>
                </a:solidFill>
                <a:latin typeface="Arial"/>
              </a:rPr>
              <a:t>Homework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8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1. Page 59, Part 3, 4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2. Workbook, page 120, Exx 2, 3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3. Writing: An Introduction to An English Nove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cf53d"/>
                </a:solidFill>
                <a:latin typeface="Arial"/>
              </a:rPr>
              <a:t>Check Your Answ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0000" y="1676160"/>
            <a:ext cx="652608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1) What happened to Charles Darna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1640" y="2819520"/>
            <a:ext cx="546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* … returned to France t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rescue a serva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83640" y="3930480"/>
            <a:ext cx="592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cc66"/>
                </a:solidFill>
                <a:latin typeface="Arial"/>
              </a:rPr>
              <a:t>* … recognized by some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cc66"/>
                </a:solidFill>
                <a:latin typeface="Arial"/>
              </a:rPr>
              <a:t>and thrown into pris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00920" y="5105520"/>
            <a:ext cx="508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* … sentenced to dea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cf53d"/>
                </a:solidFill>
                <a:latin typeface="Arial"/>
              </a:rPr>
              <a:t>Check Your Answ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50520" y="1945800"/>
            <a:ext cx="683100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) How did Sydney keep his promis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97120" y="3305160"/>
            <a:ext cx="658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* … took the place of his friend and had his head cut off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22320" y="4572000"/>
            <a:ext cx="650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* …sacrificed his own life for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. The poor people in Paris went up to fight against the nobles because they _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had been cruelly treated by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were told to do 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. liked fighting against the no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wanted to come into pow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. The poor people in Paris went up to fight against the nobles because they _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A. had been cruelly treated by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       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no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were told to do 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. liked fighting against the no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wanted to come into pow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22280" y="190512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. The fact that Charles Darnay went to Paris to rescue the servant shows that _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he felt guilty of his p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he had done something wrong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serv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. he was a kind per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he regretted what he had do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2:42:50Z</dcterms:created>
  <dc:creator>any</dc:creator>
  <dc:description/>
  <dc:language>en-US</dc:language>
  <cp:lastModifiedBy>Zhang Lingdi</cp:lastModifiedBy>
  <dcterms:modified xsi:type="dcterms:W3CDTF">2003-06-10T09:03:12Z</dcterms:modified>
  <cp:revision>342</cp:revision>
  <dc:subject/>
  <dc:title>Unit 19 A freedom fighter (continued)</dc:title>
</cp:coreProperties>
</file>