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007-7211-4FB2-BC14-C94F561C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DE2-2624-4594-BD22-A343EECD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881-B4C2-4C35-B627-78C1E94F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B7C-3EAC-4894-B1AC-31D3B693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6FD2-66B9-49A8-8909-00D76C95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D4C5-E88F-4925-9F6C-B949B4A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C5B5-B9BD-4860-A38C-E2AB8B36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FBAE-D2EB-4325-AD09-EA3C40FB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EEC-288A-48BA-8DF9-B858B83D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1ABE-41CD-4C6B-A735-3A724BA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1520-EA1D-4B6A-8431-7B370B4B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014-B695-4AA6-92E0-7DE6361C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CF1A-B17B-4915-A435-04491E2C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1D07-7AA2-4C34-88F5-DDB9B43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4B65-48E4-4338-B886-D8D35683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6A63-B552-46D3-9B33-A6399E6D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F9A-1ACF-48E1-9A3B-458F744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D73-B0A1-4E6F-9848-A19E196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C67-3C17-432B-A70F-E17AEF7F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5FC-5F76-4A76-AE9D-F4FCB285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204E-CAE4-4038-98FE-C8EC70ED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C7A-9D68-448F-9AA6-611E5EF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CB7-20A3-4D66-BC7B-A126C4DA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60F-9750-4C2D-8090-8A38D474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52AF-5A2E-4B36-BEEC-2096FDC5EC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1D0E-5637-4E3F-B78C-82ABC817AD1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Unit 23    Telephones 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李艳    师大实验中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3T07:31:05Z</dcterms:modified>
  <cp:revision>102</cp:revision>
  <dc:subject/>
  <dc:title>Unit 19 A freedom fighter (continued)</dc:title>
</cp:coreProperties>
</file>