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D08-50C1-441D-AD12-37A9FCB0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917-9385-4667-AC49-0F30FB11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8F4-F09C-42A8-8AC4-C5B2AE86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37C-E54D-4796-8465-429C6122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AC55-1991-42B0-BF80-E3CD0006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0B6B-C573-4DC8-AEED-50B9A07C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A56D-5788-4337-84AF-A439E51E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8624-6BB9-4302-9F65-86AF7915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0853-7A05-40D0-A751-C49FDC0E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2280-495E-44B1-AD26-DBBCA91F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8E3C-2716-427C-A2E7-A454ABA8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FFD-CD8D-40FB-A200-19996199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6623-312C-44EE-8D26-585076E8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0F57-AA97-46AD-A67B-C1DA061F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E5B1-EC7D-4F0B-8EBC-38CD5CCF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6604-121D-4BF1-82D7-6710B8D4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B661-3B5D-4027-BCA8-9C95AA77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44F-3FD3-4F5D-B80B-970DD1A9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BEA-1E0B-4996-A71E-8158C7A7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7C4-0BF8-4665-9C8F-2FC6BC6F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DD8-399D-4989-A245-D4ACA049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8D3-C42A-495F-BC7A-3E3E90AA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5E5-FAD1-40B6-B608-8641CE98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F1D-56C3-4905-9E61-4D24F5E9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2D41-4B22-46B5-9D36-0EE07997AB4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B4C5-E517-4D3D-93D2-D4C10326C86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9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50.xml"/><Relationship Id="rId6" Type="http://schemas.openxmlformats.org/officeDocument/2006/relationships/slide" Target="slide48.xml"/><Relationship Id="rId7" Type="http://schemas.openxmlformats.org/officeDocument/2006/relationships/slide" Target="slide51.xml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9:5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Put the pictures in the righ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1676520"/>
            <a:ext cx="9144000" cy="1983600"/>
            <a:chOff x="0" y="1676520"/>
            <a:chExt cx="9144000" cy="1983600"/>
          </a:xfrm>
        </p:grpSpPr>
        <p:sp>
          <p:nvSpPr>
            <p:cNvPr id="211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5720" y="167652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069920" y="32004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335268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1523880"/>
            <a:ext cx="3962520" cy="2059920"/>
            <a:chOff x="4572000" y="1523880"/>
            <a:chExt cx="3962520" cy="2059920"/>
          </a:xfrm>
        </p:grpSpPr>
        <p:pic>
          <p:nvPicPr>
            <p:cNvPr id="216" name="j0300239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178416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3124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j0128353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24280" y="5334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3962520"/>
            <a:ext cx="3353040" cy="1907280"/>
            <a:chOff x="1066680" y="3962520"/>
            <a:chExt cx="3353040" cy="1907280"/>
          </a:xfrm>
        </p:grpSpPr>
        <p:grpSp>
          <p:nvGrpSpPr>
            <p:cNvPr id="221" name=""/>
            <p:cNvGrpSpPr/>
            <p:nvPr/>
          </p:nvGrpSpPr>
          <p:grpSpPr>
            <a:xfrm>
              <a:off x="1905120" y="3962520"/>
              <a:ext cx="1752120" cy="1371600"/>
              <a:chOff x="1905120" y="3962520"/>
              <a:chExt cx="1752120" cy="1371600"/>
            </a:xfrm>
          </p:grpSpPr>
          <p:pic>
            <p:nvPicPr>
              <p:cNvPr id="222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5080" y="396252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396252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1066680" y="541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1600200"/>
            <a:ext cx="3886200" cy="1983600"/>
            <a:chOff x="1066680" y="1600200"/>
            <a:chExt cx="3886200" cy="1983600"/>
          </a:xfrm>
        </p:grpSpPr>
        <p:pic>
          <p:nvPicPr>
            <p:cNvPr id="249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2480" y="160020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066680" y="3124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3657600"/>
            <a:ext cx="3962160" cy="2059920"/>
            <a:chOff x="914400" y="3657600"/>
            <a:chExt cx="3962160" cy="2059920"/>
          </a:xfrm>
        </p:grpSpPr>
        <p:pic>
          <p:nvPicPr>
            <p:cNvPr id="252" name="j0300239" descr=""/>
            <p:cNvPicPr/>
            <p:nvPr/>
          </p:nvPicPr>
          <p:blipFill>
            <a:blip r:embed="rId2"/>
            <a:stretch/>
          </p:blipFill>
          <p:spPr>
            <a:xfrm>
              <a:off x="1676160" y="36576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14400" y="52578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48320" y="3809880"/>
            <a:ext cx="3657600" cy="1907280"/>
            <a:chOff x="4648320" y="3809880"/>
            <a:chExt cx="3657600" cy="1907280"/>
          </a:xfrm>
        </p:grpSpPr>
        <p:pic>
          <p:nvPicPr>
            <p:cNvPr id="255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80988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648320" y="52574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724280" y="1600200"/>
            <a:ext cx="3353040" cy="1907280"/>
            <a:chOff x="4724280" y="1600200"/>
            <a:chExt cx="3353040" cy="1907280"/>
          </a:xfrm>
        </p:grpSpPr>
        <p:grpSp>
          <p:nvGrpSpPr>
            <p:cNvPr id="258" name=""/>
            <p:cNvGrpSpPr/>
            <p:nvPr/>
          </p:nvGrpSpPr>
          <p:grpSpPr>
            <a:xfrm>
              <a:off x="5562720" y="1600200"/>
              <a:ext cx="1752120" cy="1371600"/>
              <a:chOff x="5562720" y="1600200"/>
              <a:chExt cx="1752120" cy="1371600"/>
            </a:xfrm>
          </p:grpSpPr>
          <p:pic>
            <p:nvPicPr>
              <p:cNvPr id="259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60020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160020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4724280" y="304776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ound       electrical signals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electrical signals      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electrical sig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how%20tel%20works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886200" y="1981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32004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liked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didn’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ke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1600200"/>
            <a:ext cx="1752120" cy="1371600"/>
            <a:chOff x="1600200" y="1600200"/>
            <a:chExt cx="1752120" cy="1371600"/>
          </a:xfrm>
        </p:grpSpPr>
        <p:pic>
          <p:nvPicPr>
            <p:cNvPr id="278" name="Operator" descr=""/>
            <p:cNvPicPr/>
            <p:nvPr/>
          </p:nvPicPr>
          <p:blipFill>
            <a:blip r:embed="rId1"/>
            <a:stretch/>
          </p:blipFill>
          <p:spPr>
            <a:xfrm>
              <a:off x="2270160" y="1600200"/>
              <a:ext cx="10821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one%20handle" descr=""/>
            <p:cNvPicPr/>
            <p:nvPr/>
          </p:nvPicPr>
          <p:blipFill>
            <a:blip r:embed="rId2"/>
            <a:stretch/>
          </p:blipFill>
          <p:spPr>
            <a:xfrm>
              <a:off x="1600200" y="1600200"/>
              <a:ext cx="71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3657600" y="1905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history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about the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4648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exander Graham Bell invented the phone in 187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Graham%20Bell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the phone was used at tha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6" name="p,g.BELL_HANDSETS_1877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j0300239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784520" cy="1461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505320" y="17524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umber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metal wir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thin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glass pip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4197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j012835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752840" cy="135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05320" y="18288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 of the ways telephones can be us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i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edirection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all wait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52480" y="3429000"/>
            <a:ext cx="2057400" cy="2133360"/>
            <a:chOff x="1752480" y="3429000"/>
            <a:chExt cx="2057400" cy="2133360"/>
          </a:xfrm>
        </p:grpSpPr>
        <p:pic>
          <p:nvPicPr>
            <p:cNvPr id="302" name="modern%202" descr=""/>
            <p:cNvPicPr/>
            <p:nvPr/>
          </p:nvPicPr>
          <p:blipFill>
            <a:blip r:embed="rId1"/>
            <a:stretch/>
          </p:blipFill>
          <p:spPr>
            <a:xfrm>
              <a:off x="1905120" y="3429000"/>
              <a:ext cx="18288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752480" y="5029200"/>
              <a:ext cx="20574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4629"/>
                  </a:moveTo>
                  <a:lnTo>
                    <a:pt x="25067" y="4629"/>
                  </a:lnTo>
                  <a:lnTo>
                    <a:pt x="25067" y="-14464"/>
                  </a:lnTo>
                  <a:lnTo>
                    <a:pt x="20817" y="-315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at a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3429000"/>
            <a:ext cx="2971800" cy="2133720"/>
            <a:chOff x="4724280" y="3429000"/>
            <a:chExt cx="2971800" cy="2133720"/>
          </a:xfrm>
        </p:grpSpPr>
        <p:pic>
          <p:nvPicPr>
            <p:cNvPr id="305" name="mordern%201" descr=""/>
            <p:cNvPicPr/>
            <p:nvPr/>
          </p:nvPicPr>
          <p:blipFill>
            <a:blip r:embed="rId2"/>
            <a:stretch/>
          </p:blipFill>
          <p:spPr>
            <a:xfrm>
              <a:off x="5334120" y="3429000"/>
              <a:ext cx="1434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24280" y="5029200"/>
              <a:ext cx="2971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54" y="4629"/>
                  </a:moveTo>
                  <a:lnTo>
                    <a:pt x="23435" y="4629"/>
                  </a:lnTo>
                  <a:lnTo>
                    <a:pt x="23435" y="-14014"/>
                  </a:lnTo>
                  <a:lnTo>
                    <a:pt x="14792" y="-306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lk at the same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j0300239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784520" cy="1766880"/>
          </a:xfrm>
          <a:prstGeom prst="rect">
            <a:avLst/>
          </a:prstGeom>
          <a:ln w="0">
            <a:noFill/>
          </a:ln>
        </p:spPr>
      </p:pic>
      <p:pic>
        <p:nvPicPr>
          <p:cNvPr id="164" name="j0128353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65" name="how%20tel%20works2" descr=""/>
          <p:cNvPicPr/>
          <p:nvPr/>
        </p:nvPicPr>
        <p:blipFill>
          <a:blip r:embed="rId3"/>
          <a:stretch/>
        </p:blipFill>
        <p:spPr>
          <a:xfrm>
            <a:off x="2286000" y="1295280"/>
            <a:ext cx="19810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715000" y="4191120"/>
            <a:ext cx="2057040" cy="1447560"/>
            <a:chOff x="5715000" y="4191120"/>
            <a:chExt cx="2057040" cy="1447560"/>
          </a:xfrm>
        </p:grpSpPr>
        <p:pic>
          <p:nvPicPr>
            <p:cNvPr id="167" name="Operator" descr=""/>
            <p:cNvPicPr/>
            <p:nvPr/>
          </p:nvPicPr>
          <p:blipFill>
            <a:blip r:embed="rId4"/>
            <a:stretch/>
          </p:blipFill>
          <p:spPr>
            <a:xfrm>
              <a:off x="6501600" y="4191120"/>
              <a:ext cx="12704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hone%20handle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83700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3733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mordern%20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182880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3429000"/>
            <a:ext cx="2971800" cy="2109960"/>
            <a:chOff x="1600200" y="3429000"/>
            <a:chExt cx="2971800" cy="2109960"/>
          </a:xfrm>
        </p:grpSpPr>
        <p:pic>
          <p:nvPicPr>
            <p:cNvPr id="313" name="dialling4" descr=""/>
            <p:cNvPicPr/>
            <p:nvPr/>
          </p:nvPicPr>
          <p:blipFill>
            <a:blip r:embed="rId1"/>
            <a:stretch/>
          </p:blipFill>
          <p:spPr>
            <a:xfrm>
              <a:off x="1600200" y="4191120"/>
              <a:ext cx="18288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514600" y="3429000"/>
              <a:ext cx="2057400" cy="6094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27004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3904637…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029200" y="3505320"/>
            <a:ext cx="2565360" cy="1968480"/>
            <a:chOff x="5029200" y="3505320"/>
            <a:chExt cx="2565360" cy="1968480"/>
          </a:xfrm>
        </p:grpSpPr>
        <p:sp>
          <p:nvSpPr>
            <p:cNvPr id="316" name=""/>
            <p:cNvSpPr/>
            <p:nvPr/>
          </p:nvSpPr>
          <p:spPr>
            <a:xfrm>
              <a:off x="6324480" y="350532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dialling" descr=""/>
            <p:cNvPicPr/>
            <p:nvPr/>
          </p:nvPicPr>
          <p:blipFill>
            <a:blip r:embed="rId2"/>
            <a:stretch/>
          </p:blipFill>
          <p:spPr>
            <a:xfrm>
              <a:off x="5029200" y="419112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720" y="3352680"/>
            <a:ext cx="2565360" cy="1968480"/>
            <a:chOff x="4419720" y="3352680"/>
            <a:chExt cx="2565360" cy="1968480"/>
          </a:xfrm>
        </p:grpSpPr>
        <p:sp>
          <p:nvSpPr>
            <p:cNvPr id="321" name=""/>
            <p:cNvSpPr/>
            <p:nvPr/>
          </p:nvSpPr>
          <p:spPr>
            <a:xfrm>
              <a:off x="5715000" y="335268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2" name="dialling" descr=""/>
            <p:cNvPicPr/>
            <p:nvPr/>
          </p:nvPicPr>
          <p:blipFill>
            <a:blip r:embed="rId1"/>
            <a:stretch/>
          </p:blipFill>
          <p:spPr>
            <a:xfrm>
              <a:off x="4419720" y="403848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1523880" y="4114800"/>
            <a:ext cx="3048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Di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429000"/>
            <a:ext cx="3657600" cy="1981080"/>
            <a:chOff x="1523880" y="3429000"/>
            <a:chExt cx="3657600" cy="1981080"/>
          </a:xfrm>
        </p:grpSpPr>
        <p:pic>
          <p:nvPicPr>
            <p:cNvPr id="327" name="call%20waiting" descr=""/>
            <p:cNvPicPr/>
            <p:nvPr/>
          </p:nvPicPr>
          <p:blipFill>
            <a:blip r:embed="rId1"/>
            <a:stretch/>
          </p:blipFill>
          <p:spPr>
            <a:xfrm>
              <a:off x="1523880" y="41148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66880" y="342900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76720"/>
            <a:ext cx="1676520" cy="2087280"/>
            <a:chOff x="5638680" y="3276720"/>
            <a:chExt cx="1676520" cy="2087280"/>
          </a:xfrm>
        </p:grpSpPr>
        <p:pic>
          <p:nvPicPr>
            <p:cNvPr id="330" name="cordless1,%20pic" descr=""/>
            <p:cNvPicPr/>
            <p:nvPr/>
          </p:nvPicPr>
          <p:blipFill>
            <a:blip r:embed="rId2"/>
            <a:stretch/>
          </p:blipFill>
          <p:spPr>
            <a:xfrm>
              <a:off x="5638680" y="4114800"/>
              <a:ext cx="121464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705720" y="3429000"/>
              <a:ext cx="228600" cy="380520"/>
              <a:chOff x="6705720" y="3429000"/>
              <a:chExt cx="228600" cy="3805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6781680" y="342900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5812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05720" y="358092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086600" y="3276720"/>
              <a:ext cx="228600" cy="380520"/>
              <a:chOff x="7086600" y="3276720"/>
              <a:chExt cx="228600" cy="3805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7162560" y="32767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62560" y="34290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086600" y="34286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934320" y="3733920"/>
              <a:ext cx="228600" cy="380520"/>
              <a:chOff x="6934320" y="3733920"/>
              <a:chExt cx="228600" cy="3805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010280" y="37339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38862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934320" y="38858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400800" y="3809880"/>
              <a:ext cx="228600" cy="380520"/>
              <a:chOff x="6400800" y="3809880"/>
              <a:chExt cx="228600" cy="38052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476760" y="380988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76760" y="396216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400800" y="396180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800" y="3276720"/>
            <a:ext cx="3657600" cy="1981080"/>
            <a:chOff x="4114800" y="3276720"/>
            <a:chExt cx="3657600" cy="1981080"/>
          </a:xfrm>
        </p:grpSpPr>
        <p:pic>
          <p:nvPicPr>
            <p:cNvPr id="350" name="call%20waiting" descr=""/>
            <p:cNvPicPr/>
            <p:nvPr/>
          </p:nvPicPr>
          <p:blipFill>
            <a:blip r:embed="rId1"/>
            <a:stretch/>
          </p:blipFill>
          <p:spPr>
            <a:xfrm>
              <a:off x="4114800" y="396252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327672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371600" y="380988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Busy_man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1938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4724280" y="3276720"/>
            <a:ext cx="2819520" cy="2239920"/>
            <a:chOff x="4724280" y="3276720"/>
            <a:chExt cx="2819520" cy="2239920"/>
          </a:xfrm>
        </p:grpSpPr>
        <p:sp>
          <p:nvSpPr>
            <p:cNvPr id="357" name=""/>
            <p:cNvSpPr/>
            <p:nvPr/>
          </p:nvSpPr>
          <p:spPr>
            <a:xfrm>
              <a:off x="6078600" y="3276720"/>
              <a:ext cx="1465200" cy="927000"/>
            </a:xfrm>
            <a:prstGeom prst="borderCallout1">
              <a:avLst>
                <a:gd name="adj1" fmla="val 18750"/>
                <a:gd name="adj2" fmla="val -8333"/>
                <a:gd name="adj3" fmla="val 12328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Mobile_phone" descr=""/>
            <p:cNvPicPr/>
            <p:nvPr/>
          </p:nvPicPr>
          <p:blipFill>
            <a:blip r:embed="rId2"/>
            <a:stretch/>
          </p:blipFill>
          <p:spPr>
            <a:xfrm>
              <a:off x="472428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657600"/>
            <a:ext cx="2971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all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3124080"/>
            <a:ext cx="2684520" cy="2392560"/>
            <a:chOff x="4572000" y="3124080"/>
            <a:chExt cx="2684520" cy="2392560"/>
          </a:xfrm>
        </p:grpSpPr>
        <p:sp>
          <p:nvSpPr>
            <p:cNvPr id="363" name=""/>
            <p:cNvSpPr/>
            <p:nvPr/>
          </p:nvSpPr>
          <p:spPr>
            <a:xfrm>
              <a:off x="5791320" y="3124080"/>
              <a:ext cx="1465200" cy="927360"/>
            </a:xfrm>
            <a:prstGeom prst="borderCallout1">
              <a:avLst>
                <a:gd name="adj1" fmla="val 18750"/>
                <a:gd name="adj2" fmla="val -8333"/>
                <a:gd name="adj3" fmla="val 46574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Mobile_phone" descr=""/>
            <p:cNvPicPr/>
            <p:nvPr/>
          </p:nvPicPr>
          <p:blipFill>
            <a:blip r:embed="rId1"/>
            <a:stretch/>
          </p:blipFill>
          <p:spPr>
            <a:xfrm>
              <a:off x="457200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was one teleph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onnected wit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an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past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question1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724280"/>
            <a:ext cx="4724280" cy="685800"/>
          </a:xfrm>
          <a:prstGeom prst="wedgeRectCallout">
            <a:avLst>
              <a:gd name="adj1" fmla="val -1342"/>
              <a:gd name="adj2" fmla="val -2543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(cause to) join (someth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riv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irectly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se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have a general knowledge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f teleph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know how to use some  words, expressions and one grammar item--- noun claus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mall children do not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ighte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an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London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2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f trains, buses,etc.) to be planned so that passengers can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train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s 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one leaving for London an hour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he problem with electrical signals is that they get weaker and weaker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travel 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572000"/>
            <a:ext cx="2895840" cy="914400"/>
          </a:xfrm>
          <a:prstGeom prst="wedgeRectCallout">
            <a:avLst>
              <a:gd name="adj1" fmla="val -32509"/>
              <a:gd name="adj2" fmla="val -14513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; w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he talked on, he got more and more excit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get wis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et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These are some of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e ways in whic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can be us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2, Text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114800"/>
            <a:ext cx="5029200" cy="1143000"/>
          </a:xfrm>
          <a:prstGeom prst="wedgeRectCallout">
            <a:avLst>
              <a:gd name="adj1" fmla="val 50472"/>
              <a:gd name="adj2" fmla="val -1897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the ways (tha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is very rude. Don’t speak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do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y didn’t do the experiment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e do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1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How a telephone wor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is a question which not every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 answ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4572000"/>
            <a:ext cx="3124440" cy="609480"/>
          </a:xfrm>
          <a:prstGeom prst="wedgeRectCallout">
            <a:avLst>
              <a:gd name="adj1" fmla="val 63060"/>
              <a:gd name="adj2" fmla="val -25807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versation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conversation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39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2 The problem with electrical signals is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they get weak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nd weaker as they tra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419720"/>
            <a:ext cx="2057400" cy="609480"/>
          </a:xfrm>
          <a:prstGeom prst="wedgeRectCallout">
            <a:avLst>
              <a:gd name="adj1" fmla="val -11884"/>
              <a:gd name="adj2" fmla="val -1611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3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fac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we lack enough phon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needs to be consider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267080"/>
            <a:ext cx="2438640" cy="533520"/>
          </a:xfrm>
          <a:prstGeom prst="wedgeRectCallout">
            <a:avLst>
              <a:gd name="adj1" fmla="val 61587"/>
              <a:gd name="adj2" fmla="val -2663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4  We need to think abou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what we should say to the caller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3809880"/>
            <a:ext cx="2819160" cy="609840"/>
          </a:xfrm>
          <a:prstGeom prst="wedgeRectCallout">
            <a:avLst>
              <a:gd name="adj1" fmla="val 31925"/>
              <a:gd name="adj2" fmla="val -1802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性从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主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表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同位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2514600"/>
            <a:ext cx="3809880" cy="2438280"/>
          </a:xfrm>
          <a:prstGeom prst="leftArrowCallout">
            <a:avLst>
              <a:gd name="adj1" fmla="val 14112"/>
              <a:gd name="adj2" fmla="val 11894"/>
              <a:gd name="adj3" fmla="val 27228"/>
              <a:gd name="adj4" fmla="val 766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; who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; tha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; w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; how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;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rId3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rId4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00040" y="4495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lephone direc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irectory%20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154620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j0300239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784160" cy="198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how%20tel%20works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66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572000" y="1600200"/>
            <a:ext cx="3962160" cy="2059920"/>
            <a:chOff x="4572000" y="1600200"/>
            <a:chExt cx="3962160" cy="2059920"/>
          </a:xfrm>
        </p:grpSpPr>
        <p:pic>
          <p:nvPicPr>
            <p:cNvPr id="457" name="j0300239" descr=""/>
            <p:cNvPicPr/>
            <p:nvPr/>
          </p:nvPicPr>
          <p:blipFill>
            <a:blip r:embed="rId2"/>
            <a:stretch/>
          </p:blipFill>
          <p:spPr>
            <a:xfrm>
              <a:off x="5333760" y="16002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572000" y="32004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48320" y="3733920"/>
            <a:ext cx="3657600" cy="1907280"/>
            <a:chOff x="4648320" y="3733920"/>
            <a:chExt cx="3657600" cy="1907280"/>
          </a:xfrm>
        </p:grpSpPr>
        <p:pic>
          <p:nvPicPr>
            <p:cNvPr id="460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73392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48320" y="5181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990720" y="3809880"/>
            <a:ext cx="3352680" cy="1907280"/>
            <a:chOff x="990720" y="3809880"/>
            <a:chExt cx="3352680" cy="1907280"/>
          </a:xfrm>
        </p:grpSpPr>
        <p:grpSp>
          <p:nvGrpSpPr>
            <p:cNvPr id="463" name=""/>
            <p:cNvGrpSpPr/>
            <p:nvPr/>
          </p:nvGrpSpPr>
          <p:grpSpPr>
            <a:xfrm>
              <a:off x="1828800" y="3809880"/>
              <a:ext cx="1752120" cy="1371600"/>
              <a:chOff x="1828800" y="3809880"/>
              <a:chExt cx="1752120" cy="1371600"/>
            </a:xfrm>
          </p:grpSpPr>
          <p:pic>
            <p:nvPicPr>
              <p:cNvPr id="464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8760" y="380988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380988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" name=""/>
            <p:cNvSpPr/>
            <p:nvPr/>
          </p:nvSpPr>
          <p:spPr>
            <a:xfrm>
              <a:off x="990720" y="52574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way in which/ (that)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76" name="bell's%201st%20%20box%20phone%20in%201877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361960" cy="1584360"/>
          </a:xfrm>
          <a:prstGeom prst="rect">
            <a:avLst/>
          </a:prstGeom>
          <a:ln w="0">
            <a:noFill/>
          </a:ln>
        </p:spPr>
      </p:pic>
      <p:pic>
        <p:nvPicPr>
          <p:cNvPr id="477" name="liquid" descr=""/>
          <p:cNvPicPr/>
          <p:nvPr/>
        </p:nvPicPr>
        <p:blipFill>
          <a:blip r:embed="rId2"/>
          <a:stretch/>
        </p:blipFill>
        <p:spPr>
          <a:xfrm>
            <a:off x="2462040" y="1946160"/>
            <a:ext cx="1224000" cy="1981440"/>
          </a:xfrm>
          <a:prstGeom prst="rect">
            <a:avLst/>
          </a:prstGeom>
          <a:ln w="0">
            <a:noFill/>
          </a:ln>
        </p:spPr>
      </p:pic>
      <p:pic>
        <p:nvPicPr>
          <p:cNvPr id="478" name="phone%20gallery1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479" name="phone%20handle" descr=""/>
          <p:cNvPicPr/>
          <p:nvPr/>
        </p:nvPicPr>
        <p:blipFill>
          <a:blip r:embed="rId4"/>
          <a:stretch/>
        </p:blipFill>
        <p:spPr>
          <a:xfrm>
            <a:off x="2438280" y="3962520"/>
            <a:ext cx="127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81" name="old%20tele" descr=""/>
          <p:cNvPicPr/>
          <p:nvPr/>
        </p:nvPicPr>
        <p:blipFill>
          <a:blip r:embed="rId1"/>
          <a:stretch/>
        </p:blipFill>
        <p:spPr>
          <a:xfrm>
            <a:off x="2427120" y="1946160"/>
            <a:ext cx="129564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ivory_princess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2405160" cy="1495440"/>
          </a:xfrm>
          <a:prstGeom prst="rect">
            <a:avLst/>
          </a:prstGeom>
          <a:ln w="0">
            <a:noFill/>
          </a:ln>
        </p:spPr>
      </p:pic>
      <p:pic>
        <p:nvPicPr>
          <p:cNvPr id="483" name="left_" descr=""/>
          <p:cNvPicPr/>
          <p:nvPr/>
        </p:nvPicPr>
        <p:blipFill>
          <a:blip r:embed="rId3"/>
          <a:stretch/>
        </p:blipFill>
        <p:spPr>
          <a:xfrm>
            <a:off x="5105520" y="2023920"/>
            <a:ext cx="1981080" cy="1633680"/>
          </a:xfrm>
          <a:prstGeom prst="rect">
            <a:avLst/>
          </a:prstGeom>
          <a:ln w="0">
            <a:noFill/>
          </a:ln>
        </p:spPr>
      </p:pic>
      <p:pic>
        <p:nvPicPr>
          <p:cNvPr id="484" name="modern%20p2" descr=""/>
          <p:cNvPicPr/>
          <p:nvPr/>
        </p:nvPicPr>
        <p:blipFill>
          <a:blip r:embed="rId4"/>
          <a:stretch/>
        </p:blipFill>
        <p:spPr>
          <a:xfrm>
            <a:off x="5145120" y="411480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wind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 waind ]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winding1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winded%20silk%20thread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l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handle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winding1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4343040" y="3352320"/>
            <a:ext cx="152280" cy="1143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352320"/>
            <a:ext cx="457200" cy="12193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irectio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direct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4343040"/>
            <a:ext cx="378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engthe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Strengthen-our-Hands-" descr=""/>
          <p:cNvPicPr/>
          <p:nvPr/>
        </p:nvPicPr>
        <p:blipFill>
          <a:blip r:embed="rId1"/>
          <a:stretch/>
        </p:blipFill>
        <p:spPr>
          <a:xfrm>
            <a:off x="3790800" y="1946160"/>
            <a:ext cx="2529000" cy="198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31:05Z</dcterms:modified>
  <cp:revision>102</cp:revision>
  <dc:subject/>
  <dc:title>Unit 19 A freedom fighter (continued)</dc:title>
</cp:coreProperties>
</file>