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C3FE-87F8-47F1-BB0C-B02E79AB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CAD9-C106-4B87-ACFE-657C901C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99F-8D37-48BE-A71D-A4307BFF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7491-D6E4-422A-8A18-E4F906AFF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0AB-9D78-4873-9034-F6656930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2435-E662-4B1D-A4C8-0E85F664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8725-D694-4273-BB36-AB43EADE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3C29-D311-410F-AD4B-CE0FEEC13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A46B-A424-423F-A8DE-99DDD5D3E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C4EF-98B2-4384-BB68-B8A69E13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3A1D-44F4-4D19-A5F1-6EE23736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688-7908-4876-ABAE-8C002056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2162-8988-411D-895C-B19D7FC86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1600200"/>
            <a:ext cx="678168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云南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· 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2952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连接成分实际上是一个连词，用来连接两个或几个平行的词、短语和分句。这种连词叫做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并列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另一类连接成分是用来连接两个句子、且一个句子从属于另一个句子（即从句）的连词。这类连词叫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。从属连词主要用于引导各种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一个完整的句子（主句或从句）必须包含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到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个基本成分，此外，如果意思上有需要，还可包含一个或更多其他的句子成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2286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连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5400000">
            <a:off x="-304920" y="152388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简单句</a:t>
            </a:r>
            <a:endParaRPr b="0" lang="en-US" sz="40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22860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简单句只有一个限定动词（即只有一个主谓结构），它是最小的句子单位。主要起下列四种作用中的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作一种陈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提出一个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发出一种命令或请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cc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c0066"/>
                </a:solidFill>
                <a:latin typeface="Times New Roman"/>
              </a:rPr>
              <a:t>表示一种感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62320"/>
            <a:ext cx="9144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oy hit the dog. / The dog bit the bo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irl read the books.  / The books pleased the gir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ephen apologized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the shop close at 7 ton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t the do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 slow train this i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743200" y="228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简单句的基本词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20816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主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动词部分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宾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状语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（谓语）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地点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时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bought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hat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hildren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   ran 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ho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taxi driver shouted at m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ngri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W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te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our meal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sil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 car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topp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sudden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A young girl walked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confidently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They drove him away 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800080"/>
                </a:solidFill>
                <a:latin typeface="Times New Roman"/>
              </a:rPr>
              <a:t>in a police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743200" y="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简单句的扩展成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09480"/>
            <a:ext cx="914400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3366"/>
                </a:solidFill>
                <a:latin typeface="Times New Roman"/>
              </a:rPr>
              <a:t>简单句的主语、宾语可以加上一个短语（如定语）来扩展，及物动词或不及物动词也可以与其它短语（如状语）连用进行扩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 bought a rain coa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a warm lining</a:t>
            </a:r>
            <a:r>
              <a:rPr b="1" i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dog jump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ough the window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is saving up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o buy a mobile pho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right littl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boy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rosy chee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ut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three bottles o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milk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quietl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my doorstep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before seven o’clock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worked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like a madm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in the garden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on Saturday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youn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girl </a:t>
            </a:r>
            <a:r>
              <a:rPr b="1" lang="zh-CN" sz="2800" spc="-1" strike="noStrike" u="sng">
                <a:solidFill>
                  <a:srgbClr val="3333cc"/>
                </a:solidFill>
                <a:uFillTx/>
                <a:latin typeface="Times New Roman"/>
              </a:rPr>
              <a:t>with long black hai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seems to be very happ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68200"/>
            <a:ext cx="7772400" cy="607320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主语可以连词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ut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..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either…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either…nor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not only…but also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，但应注意主语和谓语动词的一致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Par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re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Pari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R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ut not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Ro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y be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 to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Berl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e boss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no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 His secretary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n’t fl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to Y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he boss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is secretary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is flying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to Yor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0160" y="68580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143000" y="268200"/>
            <a:ext cx="7772400" cy="5993640"/>
          </a:xfrm>
          <a:prstGeom prst="rect">
            <a:avLst/>
          </a:prstGeom>
          <a:solidFill>
            <a:srgbClr val="ccffff"/>
          </a:solidFill>
          <a:ln cap="sq" w="349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简单句的宾语可由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both…and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等连词连接组成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met Jane. I m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and 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both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and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her husban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t was cold. It was w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t was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cold and w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didn’t meet Jane. I didn’t meet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didn’t meet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 o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her hus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I met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either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Jan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nor</a:t>
            </a:r>
            <a:r>
              <a:rPr b="1" i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her husban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个或两个以上限定动词也可合并为一个简单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ng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ll night. We </a:t>
            </a: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c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We </a:t>
            </a:r>
            <a:r>
              <a:rPr b="1" i="1" lang="zh-CN" sz="2400" spc="-1" strike="noStrike" u="sng">
                <a:solidFill>
                  <a:srgbClr val="ff3300"/>
                </a:solidFill>
                <a:uFillTx/>
                <a:latin typeface="Times New Roman"/>
              </a:rPr>
              <a:t>sang and dance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all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1000" y="609480"/>
            <a:ext cx="729000" cy="533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主语、谓语、宾语的合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3880" y="457200"/>
            <a:ext cx="7239240" cy="581400"/>
          </a:xfrm>
          <a:prstGeom prst="rect">
            <a:avLst/>
          </a:prstGeom>
          <a:solidFill>
            <a:srgbClr val="ccffff">
              <a:alpha val="50000"/>
            </a:srgbClr>
          </a:solidFill>
          <a:ln cap="sq"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需把几个意思连接在一起时，可用分号或把两个或几个简单句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连接起来，这种结构即构成一个并列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24382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2362320"/>
            <a:ext cx="6858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6576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43000" y="3581280"/>
            <a:ext cx="7696080" cy="15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分号，后跟一个连接副词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; however, we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5181480"/>
            <a:ext cx="80010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并列连词（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e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fished all day, but (we) didn’t catch a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5257800"/>
            <a:ext cx="685800" cy="380880"/>
          </a:xfrm>
          <a:prstGeom prst="rightArrow">
            <a:avLst>
              <a:gd name="adj1" fmla="val 50000"/>
              <a:gd name="adj2" fmla="val 4501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37160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常用并列连词</a:t>
            </a:r>
            <a:br>
              <a:rPr sz="4800"/>
            </a:br>
            <a:r>
              <a:rPr b="1" lang="zh-CN" sz="4800" spc="-1" strike="noStrike">
                <a:solidFill>
                  <a:srgbClr val="000066"/>
                </a:solidFill>
                <a:latin typeface="Times New Roman"/>
              </a:rPr>
              <a:t>coordinating conjunc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057400"/>
            <a:ext cx="37339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平行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转折并列连词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因果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选择并列连词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733920" y="24382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d, both…and, not only…but also,  neither…nor, and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3581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but, however, while, y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648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or,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13480" y="5791320"/>
            <a:ext cx="450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or, either…or, neither… n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1c39f"/>
            </a:gs>
            <a:gs pos="100000">
              <a:srgbClr val="ffefd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62160" y="228600"/>
            <a:ext cx="1521000" cy="1981080"/>
          </a:xfrm>
          <a:prstGeom prst="rect">
            <a:avLst/>
          </a:prstGeom>
          <a:solidFill>
            <a:srgbClr val="ffffcc"/>
          </a:solidFill>
          <a:ln cap="sq"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幼圆"/>
              </a:rPr>
              <a:t>并列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66"/>
                </a:solidFill>
                <a:latin typeface="Times New Roman"/>
              </a:rPr>
              <a:t>并列句的词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列句基本上保留了简单句的词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3880" y="1371600"/>
            <a:ext cx="7239240" cy="1108440"/>
          </a:xfrm>
          <a:prstGeom prst="rect">
            <a:avLst/>
          </a:prstGeom>
          <a:noFill/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谓语       宾语      连词    主语   动词     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immy fell off  his bike but    (he)  wasn’t   hu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81952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五种简单句型可用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并列连词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连接起来组成并列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3352680"/>
            <a:ext cx="8610480" cy="3272760"/>
          </a:xfrm>
          <a:prstGeom prst="rect">
            <a:avLst/>
          </a:prstGeom>
          <a:noFill/>
          <a:ln cap="sq"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状（方式） 连       主        谓                 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rank worked hard        and   (he ) became an archit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 谓         宾       连    主         谓            地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     ’ve got a cold,  so   I     ’m going  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主       谓        宾     宾补         连      主              谓                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y made him chairman, but (they) didn’t increase his sala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1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Exerci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请用合适的并列连词把每组句子合并为一个并列句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3600" y="1752480"/>
            <a:ext cx="49647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tired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ent to b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114300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He was tired.    He went to bed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514600"/>
            <a:ext cx="8763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The child hid behind his mother's skirt.  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320" y="5029200"/>
            <a:ext cx="607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3. He made a promise. He didn’t keep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5867280"/>
            <a:ext cx="6705360" cy="5205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 a promise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u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n’t keep i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3809880"/>
            <a:ext cx="7925040" cy="94716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hild hid behind his mother's skirt,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fo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afraid of the do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295280" y="533520"/>
            <a:ext cx="6782040" cy="1911960"/>
          </a:xfrm>
          <a:prstGeom prst="rect">
            <a:avLst/>
          </a:prstGeom>
          <a:noFill/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82800" bIns="82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英语句子概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  <a:ea typeface="隶书"/>
              </a:rPr>
              <a:t>玉溪一中 孙维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743200"/>
            <a:ext cx="3581640" cy="374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 action="ppaction://hlinksldjump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2" action="ppaction://hlinksldjump"/>
              </a:rPr>
              <a:t>基本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3" action="ppaction://hlinksldjump"/>
              </a:rPr>
              <a:t> 附属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4" action="ppaction://hlinksldjump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省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接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2819520"/>
            <a:ext cx="3352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简单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并列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c5e4f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09680" y="457200"/>
            <a:ext cx="6934320" cy="5943600"/>
          </a:xfrm>
          <a:prstGeom prst="wedgeRoundRectCallout">
            <a:avLst>
              <a:gd name="adj1" fmla="val -65157"/>
              <a:gd name="adj2" fmla="val -43990"/>
              <a:gd name="adj3" fmla="val 166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由一个主句和一个或者一个以上从句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构成的句子。在英语书面语中应用广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是一个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可以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句是一个不完整的句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它必须和一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主句连用，不能独立存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可以通过把两个以上简单句连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一起构成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但复合句的各组成部份并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同等重要，其中一个句子由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从属连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导（从句），用以修饰另一句子（主句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复合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=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主句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+ 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24640" y="609480"/>
            <a:ext cx="1399320" cy="1752840"/>
          </a:xfrm>
          <a:prstGeom prst="rect">
            <a:avLst/>
          </a:prstGeom>
          <a:noFill/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复合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133720"/>
            <a:ext cx="9144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2666880"/>
            <a:ext cx="1371600" cy="0"/>
          </a:xfrm>
          <a:prstGeom prst="line">
            <a:avLst/>
          </a:prstGeom>
          <a:ln cap="sq"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9144000" cy="24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合句是在简单句的基础上，通过从属连词将两个或两个以上简单句连接在一起而构成。从属连词所引导的从句起形容词、名词、副词的作用。复合句主要包含以下类型从句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主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定语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状语从句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同位语从句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657600"/>
            <a:ext cx="5867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英文写作中最常使用的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状语从句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001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定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480" y="4419720"/>
            <a:ext cx="3429000" cy="2438280"/>
          </a:xfrm>
          <a:prstGeom prst="ellipse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2743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told 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67080" y="2743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219320"/>
            <a:ext cx="3200400" cy="914400"/>
          </a:xfrm>
          <a:prstGeom prst="wedgeRectCallout">
            <a:avLst>
              <a:gd name="adj1" fmla="val 74106"/>
              <a:gd name="adj2" fmla="val 119967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the match h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een cancel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8320" y="2819520"/>
            <a:ext cx="114300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91120" y="4343400"/>
            <a:ext cx="4495680" cy="1905120"/>
          </a:xfrm>
          <a:prstGeom prst="wedgeEllipseCallout">
            <a:avLst>
              <a:gd name="adj1" fmla="val -20305"/>
              <a:gd name="adj2" fmla="val -94583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was prep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pay for my c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429000"/>
            <a:ext cx="3429000" cy="1676520"/>
          </a:xfrm>
          <a:prstGeom prst="wedgeRoundRectCallout">
            <a:avLst>
              <a:gd name="adj1" fmla="val 81203"/>
              <a:gd name="adj2" fmla="val -43657"/>
              <a:gd name="adj3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I could h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oney without del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4495680"/>
            <a:ext cx="5105520" cy="2057400"/>
          </a:xfrm>
          <a:prstGeom prst="wedgeRoundRectCallout">
            <a:avLst>
              <a:gd name="adj1" fmla="val 47976"/>
              <a:gd name="adj2" fmla="val -95912"/>
              <a:gd name="adj3" fmla="val 16667"/>
            </a:avLst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 much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he was prepared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pay for my car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I cou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have the money without del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838080"/>
            <a:ext cx="3733920" cy="1600200"/>
          </a:xfrm>
          <a:prstGeom prst="cloudCallout">
            <a:avLst>
              <a:gd name="adj1" fmla="val -34481"/>
              <a:gd name="adj2" fmla="val 69444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he w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ving for Pari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3505320" cy="2057400"/>
          </a:xfrm>
          <a:prstGeom prst="wedgeEllipseCallout">
            <a:avLst>
              <a:gd name="adj1" fmla="val -47736"/>
              <a:gd name="adj2" fmla="val -66666"/>
            </a:avLst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is fathe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as working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at scho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3400" y="2819520"/>
            <a:ext cx="2133720" cy="642600"/>
          </a:xfrm>
          <a:prstGeom prst="rect">
            <a:avLst/>
          </a:prstGeom>
          <a:solidFill>
            <a:srgbClr val="00cc99"/>
          </a:solidFill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6668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don’t k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2666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75360" y="3924360"/>
            <a:ext cx="3968640" cy="520560"/>
          </a:xfrm>
          <a:prstGeom prst="borderCallout1">
            <a:avLst>
              <a:gd name="adj1" fmla="val 18750"/>
              <a:gd name="adj2" fmla="val -8333"/>
              <a:gd name="adj3" fmla="val -127504"/>
              <a:gd name="adj4" fmla="val -9476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has finished his 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762120"/>
            <a:ext cx="5715000" cy="1523880"/>
          </a:xfrm>
          <a:prstGeom prst="wedgeRoundRectCallout">
            <a:avLst>
              <a:gd name="adj1" fmla="val -16805"/>
              <a:gd name="adj2" fmla="val 84273"/>
              <a:gd name="adj3" fmla="val 16667"/>
            </a:avLst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 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333300"/>
                </a:solidFill>
                <a:latin typeface="Times New Roman"/>
              </a:rPr>
              <a:t> he has finished his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2743200"/>
            <a:ext cx="198108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宾语从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395960"/>
            <a:ext cx="2743200" cy="947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600" y="2575"/>
                </a:moveTo>
                <a:lnTo>
                  <a:pt x="-763" y="2575"/>
                </a:lnTo>
                <a:lnTo>
                  <a:pt x="-763" y="-11193"/>
                </a:lnTo>
                <a:lnTo>
                  <a:pt x="34048" y="-25260"/>
                </a:lnTo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4114800"/>
            <a:ext cx="6248160" cy="2362320"/>
          </a:xfrm>
          <a:prstGeom prst="wedgeRectCallout">
            <a:avLst>
              <a:gd name="adj1" fmla="val 21342"/>
              <a:gd name="adj2" fmla="val -84879"/>
            </a:avLst>
          </a:prstGeom>
          <a:solidFill>
            <a:srgbClr val="ccf1f4"/>
          </a:solidFill>
          <a:ln cap="sq"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how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ethe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is leaving for Washing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2895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eople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28954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rpri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29257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066680"/>
            <a:ext cx="3276720" cy="1371600"/>
          </a:xfrm>
          <a:prstGeom prst="wedgeEllipseCallout">
            <a:avLst>
              <a:gd name="adj1" fmla="val -21319"/>
              <a:gd name="adj2" fmla="val 72800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s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e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971800"/>
            <a:ext cx="1143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800600"/>
            <a:ext cx="3733920" cy="1447920"/>
          </a:xfrm>
          <a:prstGeom prst="wedgeEllipseCallout">
            <a:avLst>
              <a:gd name="adj1" fmla="val -15601"/>
              <a:gd name="adj2" fmla="val -136291"/>
            </a:avLst>
          </a:prstGeom>
          <a:solidFill>
            <a:srgbClr val="ffffcc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he didn’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know the ans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28954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 the roo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520" y="2895480"/>
            <a:ext cx="121896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4800" y="4191120"/>
            <a:ext cx="4800600" cy="2209680"/>
          </a:xfrm>
          <a:prstGeom prst="wedgeRoundRectCallout">
            <a:avLst>
              <a:gd name="adj1" fmla="val 10648"/>
              <a:gd name="adj2" fmla="val -80888"/>
              <a:gd name="adj3" fmla="val 16667"/>
            </a:avLst>
          </a:prstGeom>
          <a:solidFill>
            <a:srgbClr val="ccccff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sitting in the roo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ere pres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s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ons were at w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who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had signed the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81952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at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28195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19720" y="2819520"/>
            <a:ext cx="190476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8120" y="3962520"/>
            <a:ext cx="3809880" cy="2514600"/>
          </a:xfrm>
          <a:prstGeom prst="wedgeRoundRectCallout">
            <a:avLst>
              <a:gd name="adj1" fmla="val -3458"/>
              <a:gd name="adj2" fmla="val -70958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gave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becaus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has happe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9718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worked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2971800"/>
            <a:ext cx="32004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15000" y="2971800"/>
            <a:ext cx="3429000" cy="6426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状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191120"/>
            <a:ext cx="3047760" cy="1828800"/>
          </a:xfrm>
          <a:prstGeom prst="wedgeEllipseCallout">
            <a:avLst>
              <a:gd name="adj1" fmla="val 35675"/>
              <a:gd name="adj2" fmla="val -77259"/>
            </a:avLst>
          </a:prstGeom>
          <a:solidFill>
            <a:srgbClr val="ffffff"/>
          </a:solidFill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ther wor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4600" y="2978280"/>
            <a:ext cx="3200400" cy="642600"/>
          </a:xfrm>
          <a:prstGeom prst="rect">
            <a:avLst/>
          </a:prstGeom>
          <a:solidFill>
            <a:srgbClr val="ccccff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that fac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3000" y="1219320"/>
            <a:ext cx="3352680" cy="914400"/>
          </a:xfrm>
          <a:prstGeom prst="wedgeRectCallout">
            <a:avLst>
              <a:gd name="adj1" fmla="val 23486"/>
              <a:gd name="adj2" fmla="val 157120"/>
            </a:avLst>
          </a:prstGeom>
          <a:solidFill>
            <a:srgbClr val="ffffcc"/>
          </a:solidFill>
          <a:ln cap="sq"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 l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4267080"/>
            <a:ext cx="2514600" cy="1828800"/>
          </a:xfrm>
          <a:prstGeom prst="cloudCallout">
            <a:avLst>
              <a:gd name="adj1" fmla="val -5870"/>
              <a:gd name="adj2" fmla="val -81162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ved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4797360"/>
            <a:ext cx="4641840" cy="581400"/>
          </a:xfrm>
          <a:prstGeom prst="borderCallout2">
            <a:avLst>
              <a:gd name="adj1" fmla="val 18750"/>
              <a:gd name="adj2" fmla="val -8333"/>
              <a:gd name="adj3" fmla="val 19300"/>
              <a:gd name="adj4" fmla="val 105231"/>
              <a:gd name="adj5" fmla="val -185949"/>
              <a:gd name="adj6" fmla="val 108851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s father worked t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9720" y="990720"/>
            <a:ext cx="2484360" cy="581400"/>
          </a:xfrm>
          <a:prstGeom prst="borderCallout1">
            <a:avLst>
              <a:gd name="adj1" fmla="val 18750"/>
              <a:gd name="adj2" fmla="val -8333"/>
              <a:gd name="adj3" fmla="val 314662"/>
              <a:gd name="adj4" fmla="val 139666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 lived t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1066680"/>
            <a:ext cx="3962520" cy="1295640"/>
          </a:xfrm>
          <a:prstGeom prst="wedgeEllipseCallout">
            <a:avLst>
              <a:gd name="adj1" fmla="val 21712"/>
              <a:gd name="adj2" fmla="val 9227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e lived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ree years ag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复合句与简单句：复合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从属连词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简单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16765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t the bo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16765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de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43400" y="2895480"/>
            <a:ext cx="3733920" cy="1143000"/>
          </a:xfrm>
          <a:prstGeom prst="wedgeRoundRectCallout">
            <a:avLst>
              <a:gd name="adj1" fmla="val -48722"/>
              <a:gd name="adj2" fmla="val -103333"/>
              <a:gd name="adj3" fmla="val 16667"/>
            </a:avLst>
          </a:prstGeom>
          <a:solidFill>
            <a:srgbClr val="ffffff">
              <a:alpha val="50000"/>
            </a:srgbClr>
          </a:solidFill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took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410080" y="914400"/>
            <a:ext cx="3048120" cy="914400"/>
          </a:xfrm>
          <a:prstGeom prst="wedgeEllipseCallout">
            <a:avLst>
              <a:gd name="adj1" fmla="val -73856"/>
              <a:gd name="adj2" fmla="val 39064"/>
            </a:avLst>
          </a:prstGeom>
          <a:solidFill>
            <a:srgbClr val="ffffcc"/>
          </a:solidFill>
          <a:ln cap="sq"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t w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1744560"/>
            <a:ext cx="2286000" cy="581400"/>
          </a:xfrm>
          <a:prstGeom prst="rect">
            <a:avLst/>
          </a:prstGeom>
          <a:solidFill>
            <a:srgbClr val="00cc99"/>
          </a:solidFill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地点状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15000" y="2590920"/>
            <a:ext cx="3429000" cy="1600200"/>
          </a:xfrm>
          <a:prstGeom prst="wedgeEllipseCallout">
            <a:avLst>
              <a:gd name="adj1" fmla="val -72268"/>
              <a:gd name="adj2" fmla="val -67657"/>
            </a:avLst>
          </a:prstGeom>
          <a:gradFill rotWithShape="0">
            <a:gsLst>
              <a:gs pos="0">
                <a:srgbClr val="ffffcc"/>
              </a:gs>
              <a:gs pos="50000">
                <a:srgbClr val="ccccff"/>
              </a:gs>
              <a:gs pos="100000">
                <a:srgbClr val="ffffc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you found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00100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460224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can’t cam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657600" y="464832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14800" y="5486400"/>
            <a:ext cx="3581280" cy="1371600"/>
          </a:xfrm>
          <a:prstGeom prst="wedgeRoundRectCallout">
            <a:avLst>
              <a:gd name="adj1" fmla="val -46189"/>
              <a:gd name="adj2" fmla="val -85532"/>
              <a:gd name="adj3" fmla="val 16667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her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lot of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4419720"/>
            <a:ext cx="3733920" cy="1752480"/>
          </a:xfrm>
          <a:prstGeom prst="wedgeEllipseCallout">
            <a:avLst>
              <a:gd name="adj1" fmla="val -75550"/>
              <a:gd name="adj2" fmla="val -19384"/>
            </a:avLst>
          </a:prstGeom>
          <a:solidFill>
            <a:srgbClr val="ccffff"/>
          </a:solidFill>
          <a:ln cap="sq"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erever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you li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指出下列各从句的类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" y="2057400"/>
            <a:ext cx="541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t everything is going on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as reading a nove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en I came 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is the girl 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who sings best in my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1828800"/>
            <a:ext cx="3200400" cy="914400"/>
          </a:xfrm>
          <a:prstGeom prst="cloudCallout">
            <a:avLst>
              <a:gd name="adj1" fmla="val -60365"/>
              <a:gd name="adj2" fmla="val 460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宾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67280" y="3048120"/>
            <a:ext cx="3276720" cy="1066680"/>
          </a:xfrm>
          <a:prstGeom prst="cloudCallout">
            <a:avLst>
              <a:gd name="adj1" fmla="val -52083"/>
              <a:gd name="adj2" fmla="val 319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状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5880" y="4419720"/>
            <a:ext cx="3048120" cy="990360"/>
          </a:xfrm>
          <a:prstGeom prst="cloudCallout">
            <a:avLst>
              <a:gd name="adj1" fmla="val -62189"/>
              <a:gd name="adj2" fmla="val 165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228600"/>
            <a:ext cx="733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用所给连词连接句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04920" y="8380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has found out. She was late. (wh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71600" y="1447920"/>
            <a:ext cx="7543800" cy="58140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has found out </a:t>
            </a:r>
            <a:r>
              <a:rPr b="1" i="1" lang="en-US" sz="3200" spc="-1" strike="noStrike" u="sng">
                <a:solidFill>
                  <a:srgbClr val="ff3300"/>
                </a:solidFill>
                <a:uFillTx/>
                <a:latin typeface="Times New Roman"/>
              </a:rPr>
              <a:t>why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was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920" y="21337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still remember the day. I first went to York on that day. (wh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3162240"/>
            <a:ext cx="7508880" cy="1068840"/>
          </a:xfrm>
          <a:prstGeom prst="rect">
            <a:avLst/>
          </a:prstGeom>
          <a:noFill/>
          <a:ln w="381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 still remember the day when I firs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nt to Yor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419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将各组句子连接为一个含有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状语从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复合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2286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66ccff"/>
                </a:solidFill>
                <a:uFillTx/>
                <a:latin typeface="Times New Roman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4920" y="51055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didn’t come yesterday. He was ill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5867280"/>
            <a:ext cx="792468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e didn’t come yesterday because he was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685800"/>
            <a:ext cx="8534160" cy="4075560"/>
          </a:xfrm>
          <a:prstGeom prst="rect">
            <a:avLst/>
          </a:prstGeom>
          <a:solidFill>
            <a:srgbClr val="00cc99">
              <a:alpha val="50000"/>
            </a:srgbClr>
          </a:solidFill>
          <a:ln w="572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不及物动词  （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 + Vi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及物动词 ＋宾语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 S + Vt + 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系动词 ＋ 表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LV + predica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＋双宾动词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直宾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Vt +O.indir+O. di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＋ 宾补动词 ＋宾语 ＋宾语补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(S + Vt. + O + O. comp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 be / stand/ lie / liv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51137"/>
                </a:solidFill>
                <a:latin typeface="楷体_GB2312"/>
                <a:ea typeface="楷体_GB2312"/>
              </a:rPr>
              <a:t>简单句的五种基本句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876920"/>
            <a:ext cx="91440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主语、动词（不及物动词、及物动词、双宾动词、系动词、宾补动词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)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、宾语及补语可以称为</a:t>
            </a:r>
            <a:r>
              <a:rPr b="1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基本句子成分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完整的句子一般至少包含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，至多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4</a:t>
            </a:r>
            <a:r>
              <a:rPr b="0" i="1" lang="zh-CN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个基本成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’ll give the letter to him. I see him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时间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It is such a big box. Nobody can move it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结果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’ll go to the great wall. It’s fine tomorrow.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条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e should not go there all the time. The place is quite pleasant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步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" y="27352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t is such a big box that nobody can move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4038480"/>
            <a:ext cx="8458200" cy="581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e’ll go to the great wall if it’s fine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5638680"/>
            <a:ext cx="8534520" cy="106884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lthough the place is quite pleasant, we should not go ther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8382240" cy="1607400"/>
          </a:xfrm>
          <a:prstGeom prst="rect">
            <a:avLst/>
          </a:prstGeom>
          <a:noFill/>
          <a:ln cap="sq"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when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as soon as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’ll give the letter to him the moment I see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971800" y="22860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Impact"/>
              </a:rPr>
              <a:t>T H E    E N 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467480" y="1905120"/>
            <a:ext cx="1676520" cy="2743200"/>
          </a:xfrm>
          <a:prstGeom prst="wedgeEllipseCallout">
            <a:avLst>
              <a:gd name="adj1" fmla="val -92898"/>
              <a:gd name="adj2" fmla="val -5958"/>
            </a:avLst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220968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主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62200" y="2239920"/>
            <a:ext cx="47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谓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5029200" y="1828800"/>
            <a:ext cx="130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宾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029200" y="2819520"/>
            <a:ext cx="1833480" cy="459720"/>
            <a:chOff x="5029200" y="2819520"/>
            <a:chExt cx="1833480" cy="459720"/>
          </a:xfrm>
        </p:grpSpPr>
        <p:sp>
          <p:nvSpPr>
            <p:cNvPr id="53" name=""/>
            <p:cNvSpPr/>
            <p:nvPr/>
          </p:nvSpPr>
          <p:spPr>
            <a:xfrm>
              <a:off x="5029200" y="2819520"/>
              <a:ext cx="87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8800" y="2819520"/>
              <a:ext cx="89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016600" y="3397320"/>
            <a:ext cx="8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表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016600" y="2384280"/>
            <a:ext cx="2755800" cy="462240"/>
            <a:chOff x="5016600" y="2384280"/>
            <a:chExt cx="2755800" cy="462240"/>
          </a:xfrm>
        </p:grpSpPr>
        <p:sp>
          <p:nvSpPr>
            <p:cNvPr id="57" name=""/>
            <p:cNvSpPr/>
            <p:nvPr/>
          </p:nvSpPr>
          <p:spPr>
            <a:xfrm>
              <a:off x="64278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16600" y="2384280"/>
              <a:ext cx="134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宾语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直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" name=""/>
                <p:cNvSpPr txBox="1"/>
                <p:nvPr/>
              </p:nvSpPr>
              <p:spPr>
                <a:xfrm>
                  <a:off x="5203800" y="2643120"/>
                  <a:ext cx="100080" cy="20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60" name=""/>
          <p:cNvSpPr/>
          <p:nvPr/>
        </p:nvSpPr>
        <p:spPr>
          <a:xfrm>
            <a:off x="3489480" y="245736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68600" y="3465360"/>
            <a:ext cx="6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-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89480" y="1371600"/>
            <a:ext cx="5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940200" y="2239920"/>
            <a:ext cx="941400" cy="3621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06800" y="2673360"/>
            <a:ext cx="78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63960" y="2746440"/>
            <a:ext cx="917640" cy="288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075200" y="3686040"/>
            <a:ext cx="847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271440" cy="2241720"/>
          </a:xfrm>
          <a:custGeom>
            <a:avLst/>
            <a:gdLst>
              <a:gd name="textAreaLeft" fmla="*/ 173520 w 271440"/>
              <a:gd name="textAreaRight" fmla="*/ 271800 w 271440"/>
              <a:gd name="textAreaTop" fmla="*/ 58320 h 2241720"/>
              <a:gd name="textAreaBottom" fmla="*/ 2183400 h 224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962520"/>
            <a:ext cx="3200400" cy="1904760"/>
          </a:xfrm>
          <a:prstGeom prst="wedgeEllipseCallout">
            <a:avLst>
              <a:gd name="adj1" fmla="val 16865"/>
              <a:gd name="adj2" fmla="val -94333"/>
            </a:avLst>
          </a:prstGeom>
          <a:solidFill>
            <a:srgbClr val="00cc99">
              <a:alpha val="50000"/>
            </a:srgbClr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0"/>
            <a:ext cx="3581280" cy="1600200"/>
          </a:xfrm>
          <a:prstGeom prst="wedgeRoundRectCallout">
            <a:avLst>
              <a:gd name="adj1" fmla="val -43518"/>
              <a:gd name="adj2" fmla="val 75694"/>
              <a:gd name="adj3" fmla="val 16667"/>
            </a:avLst>
          </a:prstGeom>
          <a:solidFill>
            <a:srgbClr val="cc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oun / Pronoun 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 + 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-ing / Clause / Infin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 rot="5400000">
            <a:off x="-1143360" y="1676520"/>
            <a:ext cx="3429000" cy="533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cap="sq" w="28440">
                  <a:solidFill>
                    <a:srgbClr val="3333cc"/>
                  </a:solidFill>
                  <a:miter/>
                </a:ln>
                <a:solidFill>
                  <a:srgbClr val="6666ff"/>
                </a:solidFill>
                <a:latin typeface="宋体"/>
              </a:rPr>
              <a:t>英语句子基本成分示意图</a:t>
            </a:r>
            <a:endParaRPr b="0" lang="en-US" sz="3200" spc="1" strike="noStrike">
              <a:ln cap="sq" w="28440">
                <a:solidFill>
                  <a:srgbClr val="3333cc"/>
                </a:solidFill>
                <a:miter/>
              </a:ln>
              <a:solidFill>
                <a:srgbClr val="6666ff"/>
              </a:solidFill>
              <a:latin typeface="宋体"/>
              <a:ea typeface="宋体"/>
            </a:endParaRPr>
          </a:p>
        </p:txBody>
      </p:sp>
      <p:sp>
        <p:nvSpPr>
          <p:cNvPr id="71" name=""/>
          <p:cNvSpPr/>
          <p:nvPr/>
        </p:nvSpPr>
        <p:spPr>
          <a:xfrm>
            <a:off x="2743200" y="4800600"/>
            <a:ext cx="3505320" cy="2057400"/>
          </a:xfrm>
          <a:prstGeom prst="wedgeRectCallout">
            <a:avLst>
              <a:gd name="adj1" fmla="val -20199"/>
              <a:gd name="adj2" fmla="val -90277"/>
            </a:avLst>
          </a:prstGeom>
          <a:solidFill>
            <a:srgbClr val="ffffc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/ feel / seem /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pear / stand / l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ome /get / grow / tur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/ come / remain/ k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ste / smell 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886200"/>
            <a:ext cx="1600200" cy="2971800"/>
          </a:xfrm>
          <a:prstGeom prst="wedgeEllipseCallout">
            <a:avLst>
              <a:gd name="adj1" fmla="val -103074"/>
              <a:gd name="adj2" fmla="val -55768"/>
            </a:avLst>
          </a:prstGeom>
          <a:solidFill>
            <a:srgbClr val="b2eefa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rono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dj. / ad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V-ing / V-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80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 ＋   不及物动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came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/ My head ach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及物动词  ＋  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likes Englis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 系动词  ＋  主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is happ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双宾动词  ＋  间接宾语  ＋  直接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gave John a book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bought a book for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主语  ＋  宾补动词  ＋  宾语  ＋  宾语补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She makes her mother angr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 teacher asked me to read  the pass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+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There lies a book on the des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09680" y="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Times New Roman"/>
                <a:ea typeface="隶书"/>
              </a:rPr>
              <a:t>简单句基本句型实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895480" y="0"/>
            <a:ext cx="312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66ff"/>
                </a:solidFill>
                <a:latin typeface="Times New Roman"/>
                <a:ea typeface="隶书"/>
              </a:rPr>
              <a:t>附属成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33520" y="990720"/>
            <a:ext cx="8153280" cy="13737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基本成分的修饰语。可以是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语：即用来修饰名词的单词、短语或从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状语：即用来修饰名词或代词以外的词的单词、短语或从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0" y="3124080"/>
            <a:ext cx="914400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定    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oor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tottered toward a hospital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nearb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he likes oranges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imported from the USA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John gave Mar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man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ook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ich are full of illustrations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ave you seen the book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on the desk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playing over 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is my brot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ople </a:t>
            </a:r>
            <a:r>
              <a:rPr b="1" i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t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like spor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3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1249200"/>
            <a:ext cx="9144000" cy="56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oft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me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o chat with m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likes oranges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very muc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henever he gets drun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hn makes Mary very angry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aring the new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he jump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with joy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s he was ill,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didn’t come to class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is sitting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at the des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doing her homewor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y father worked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in this scho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ten years ag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’d better stay </a:t>
            </a:r>
            <a:r>
              <a:rPr b="1" i="1" lang="en-US" sz="2800" spc="-1" strike="noStrike" u="sng">
                <a:solidFill>
                  <a:srgbClr val="ff0000"/>
                </a:solidFill>
                <a:uFillTx/>
                <a:latin typeface="Times New Roman"/>
              </a:rPr>
              <a:t>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228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Times New Roman"/>
                <a:ea typeface="隶书"/>
              </a:rPr>
              <a:t>状   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86000" y="2514600"/>
            <a:ext cx="548640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h</a:t>
            </a:r>
            <a:r>
              <a:rPr b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  is tha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！（惊叹词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e ha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alas</a:t>
            </a:r>
            <a:r>
              <a:rPr b="1" lang="zh-CN" sz="2800" spc="-1" strike="noStrike">
                <a:solidFill>
                  <a:srgbClr val="8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failed ag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Joh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（呼语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Ocea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oll 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可以去掉的成分，去掉后不影响句子的完整性。这种成分和句子的其他词没有语法的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57600" y="3049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独立成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077320" y="60958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e4fb"/>
            </a:gs>
            <a:gs pos="50000">
              <a:srgbClr val="66ccff"/>
            </a:gs>
            <a:gs pos="100000">
              <a:srgbClr val="c5e4fb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251460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e her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I wish you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ood luck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ome gave him praise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but others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（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gave him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otte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ggs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e runs as fast as, if 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he does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run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faster, than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I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Hope you like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John should clean the room today and Peter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( should 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	</a:t>
            </a:r>
            <a:r>
              <a:rPr b="1" i="1" lang="zh-CN" sz="2800" spc="-1" strike="noStrike" u="sng">
                <a:solidFill>
                  <a:srgbClr val="660066"/>
                </a:solidFill>
                <a:uFillTx/>
                <a:latin typeface="Times New Roman"/>
              </a:rPr>
              <a:t>clean it 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815328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cap="sq" w="698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中被省略的成分，虽然未说出来，却在句中表示一定的意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228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省略成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32448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22" h="21600">
                <a:moveTo>
                  <a:pt x="13462" y="10800"/>
                </a:moveTo>
                <a:lnTo>
                  <a:pt x="23968" y="3794"/>
                </a:lnTo>
                <a:lnTo>
                  <a:pt x="23968" y="17806"/>
                </a:lnTo>
                <a:close/>
              </a:path>
              <a:path fill="darken" w="33922" h="21600">
                <a:moveTo>
                  <a:pt x="9955" y="3794"/>
                </a:moveTo>
                <a:lnTo>
                  <a:pt x="11617" y="3794"/>
                </a:lnTo>
                <a:lnTo>
                  <a:pt x="11617" y="17806"/>
                </a:lnTo>
                <a:lnTo>
                  <a:pt x="9955" y="17806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6T12:21:56Z</dcterms:created>
  <dc:creator>孙维云</dc:creator>
  <dc:description/>
  <dc:language>en-US</dc:language>
  <cp:lastModifiedBy>swy</cp:lastModifiedBy>
  <cp:lastPrinted>2003-02-07T18:03:54Z</cp:lastPrinted>
  <dcterms:modified xsi:type="dcterms:W3CDTF">2003-02-09T05:20:28Z</dcterms:modified>
  <cp:revision>81</cp:revision>
  <dc:subject/>
  <dc:title>英语句子概论</dc:title>
</cp:coreProperties>
</file>