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093-50F2-41E1-BA0B-AE3370D2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F4D-E2F7-4B17-99D4-CBD3EB8C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7D6-57FE-49C0-B285-A91B284E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15B-B952-43FE-86F0-37F6CA68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87F-032E-429C-95F4-BEB9BC68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E89-9737-44BE-A517-3E51D886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7FD-9FCB-4749-BF15-CD163DFE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9F3-DD3E-4B87-ACD0-7EB4E168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BC1-C598-4437-92DD-79F2C961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70C-81E5-4901-89AF-0358B0F5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DFC-3D7C-4E7B-82B2-15BB7976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B4B-1360-40E8-BB37-7A52367E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549D-DF37-4A1E-8EA4-7B1FE4A8C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600200"/>
            <a:ext cx="678168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云南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·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95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连接成分实际上是一个连词，用来连接两个或几个平行的词、短语和分句。这种连词叫做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并列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另一类连接成分是用来连接两个句子、且一个句子从属于另一个句子（即从句）的连词。这类连词叫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从属连词主要用于引导各种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一个完整的句子（主句或从句）必须包含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到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基本成分，此外，如果意思上有需要，还可包含一个或更多其他的句子成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28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连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-304920" y="152388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简单句</a:t>
            </a:r>
            <a:endParaRPr b="0" lang="en-US" sz="4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286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简单句只有一个限定动词（即只有一个主谓结构），它是最小的句子单位。主要起下列四种作用中的一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作一种陈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提出一个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发出一种命令或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表示一种感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6232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y hit the dog. / The dog bit the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irl read the books.  / The books pleased the gi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hen apologized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hop close at 7 ton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t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 slow train this 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简单句的基本词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0816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主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动词部分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状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谓语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方式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地点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bought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hat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hildren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ran 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taxi driver shouted at m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ngr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W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t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our meal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si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ar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topp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udde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young girl walk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confidently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y drove him away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a polic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3200" y="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简单句的扩展成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480"/>
            <a:ext cx="91440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3366"/>
                </a:solidFill>
                <a:latin typeface="Times New Roman"/>
              </a:rPr>
              <a:t>简单句的主语、宾语可以加上一个短语（如定语）来扩展，及物动词或不及物动词也可以与其它短语（如状语）连用进行扩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bought a rain coa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a warm lining</a:t>
            </a:r>
            <a:r>
              <a:rPr b="1" i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dog jump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ough the window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saving up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o buy a mobile ph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right 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boy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rosy chee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u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ee bottles o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milk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quiet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my doorstep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efore seven o’cloc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work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like a madm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 the garden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Saturday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you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girl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long black hai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seems to be very 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68200"/>
            <a:ext cx="7772400" cy="607320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主语可以连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ut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..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either…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either…n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ot only…but also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，但应注意主语和谓语动词的一致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ut not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R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 to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n’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Y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160" y="68580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268200"/>
            <a:ext cx="7772400" cy="599364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宾语可由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…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met Jane. I m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and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her husba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was cold. It was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cold and w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didn’t meet Jane. I didn’t me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didn’t meet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er husb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或两个以上限定动词也可合并为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l night. 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c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sang and dance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000" y="60948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57200"/>
            <a:ext cx="723924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需把几个意思连接在一起时，可用分号或把两个或几个简单句用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连接起来，这种结构即构成一个并列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4382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36232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6576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581280"/>
            <a:ext cx="769608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，后跟一个连接副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however,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5181480"/>
            <a:ext cx="8001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并列连词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, but (we)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574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733920" y="24382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, both…and, not only…but also,  neither…nor,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58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ut, however, while,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648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r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3480" y="5791320"/>
            <a:ext cx="45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r, either…or, neither… 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并列句的词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列句基本上保留了简单句的词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371600"/>
            <a:ext cx="7239240" cy="1108440"/>
          </a:xfrm>
          <a:prstGeom prst="rect">
            <a:avLst/>
          </a:prstGeom>
          <a:noFill/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谓语       宾语      连词    主语   动词     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immy fell off  his bike but    (he)  wasn’t   h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819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五种简单句型可用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并列连词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连接起来组成并列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352680"/>
            <a:ext cx="8610480" cy="3272760"/>
          </a:xfrm>
          <a:prstGeom prst="rect">
            <a:avLst/>
          </a:prstGeom>
          <a:noFill/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状（方式） 连       主        谓                 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rank worked hard        and   (he ) became an archit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 宾       连    主         谓            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     ’ve got a cold,  so   I     ’m going  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谓        宾     宾补         连      主              谓                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y made him chairman, but (they) didn’t increase his sa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Exerc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请用合适的并列连词把每组句子合并为一个并列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600" y="1752480"/>
            <a:ext cx="49647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tired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ent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He was tired.    He went to bed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5146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child hid behind his mother's skirt.  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320" y="5029200"/>
            <a:ext cx="60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He made a promise. He didn’t keep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867280"/>
            <a:ext cx="67053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 a promise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n’t keep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809880"/>
            <a:ext cx="7925040" cy="94716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ild hid behind his mother's skirt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533520"/>
            <a:ext cx="678204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743200"/>
            <a:ext cx="35816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基本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 附属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省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2819520"/>
            <a:ext cx="3352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简单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5e4f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57200"/>
            <a:ext cx="6934320" cy="5943600"/>
          </a:xfrm>
          <a:prstGeom prst="wedgeRoundRectCallout">
            <a:avLst>
              <a:gd name="adj1" fmla="val -65157"/>
              <a:gd name="adj2" fmla="val -43990"/>
              <a:gd name="adj3" fmla="val 166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由一个主句和一个或者一个以上从句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构成的句子。在英语书面语中应用广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是一个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可以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句是一个不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必须和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连用，不能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可以通过把两个以上简单句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一起构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但复合句的各组成部份并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同等重要，其中一个句子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导（从句），用以修饰另一句子（主句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复合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主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24640" y="609480"/>
            <a:ext cx="1399320" cy="1752840"/>
          </a:xfrm>
          <a:prstGeom prst="rect">
            <a:avLst/>
          </a:prstGeom>
          <a:noFill/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133720"/>
            <a:ext cx="9144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666880"/>
            <a:ext cx="13716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合句是在简单句的基础上，通过从属连词将两个或两个以上简单句连接在一起而构成。从属连词所引导的从句起形容词、名词、副词的作用。复合句主要包含以下类型从句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同位语从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657600"/>
            <a:ext cx="586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英文写作中最常使用的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状语从句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定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4419720"/>
            <a:ext cx="3429000" cy="2438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743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told 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743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219320"/>
            <a:ext cx="3200400" cy="914400"/>
          </a:xfrm>
          <a:prstGeom prst="wedgeRectCallout">
            <a:avLst>
              <a:gd name="adj1" fmla="val 74106"/>
              <a:gd name="adj2" fmla="val 1199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match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en canc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819520"/>
            <a:ext cx="114300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343400"/>
            <a:ext cx="4495680" cy="1905120"/>
          </a:xfrm>
          <a:prstGeom prst="wedgeEllipseCallout">
            <a:avLst>
              <a:gd name="adj1" fmla="val -20305"/>
              <a:gd name="adj2" fmla="val -94583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pre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ay for my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429000"/>
            <a:ext cx="3429000" cy="1676520"/>
          </a:xfrm>
          <a:prstGeom prst="wedgeRoundRectCallout">
            <a:avLst>
              <a:gd name="adj1" fmla="val 81203"/>
              <a:gd name="adj2" fmla="val -4365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I could h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ney without d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495680"/>
            <a:ext cx="5105520" cy="2057400"/>
          </a:xfrm>
          <a:prstGeom prst="wedgeRoundRectCallout">
            <a:avLst>
              <a:gd name="adj1" fmla="val 47976"/>
              <a:gd name="adj2" fmla="val -95912"/>
              <a:gd name="adj3" fmla="val 16667"/>
            </a:avLst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he was prepar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y for my car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 c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the money without de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838080"/>
            <a:ext cx="3733920" cy="1600200"/>
          </a:xfrm>
          <a:prstGeom prst="cloudCallout">
            <a:avLst>
              <a:gd name="adj1" fmla="val -34481"/>
              <a:gd name="adj2" fmla="val 6944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he w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ving for Par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3505320" cy="2057400"/>
          </a:xfrm>
          <a:prstGeom prst="wedgeEllipseCallout">
            <a:avLst>
              <a:gd name="adj1" fmla="val -47736"/>
              <a:gd name="adj2" fmla="val -6666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is f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 working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2819520"/>
            <a:ext cx="213372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on’t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75360" y="3924360"/>
            <a:ext cx="3968640" cy="520560"/>
          </a:xfrm>
          <a:prstGeom prst="borderCallout1">
            <a:avLst>
              <a:gd name="adj1" fmla="val 18750"/>
              <a:gd name="adj2" fmla="val -8333"/>
              <a:gd name="adj3" fmla="val -127504"/>
              <a:gd name="adj4" fmla="val -9476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has finished his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762120"/>
            <a:ext cx="5715000" cy="1523880"/>
          </a:xfrm>
          <a:prstGeom prst="wedgeRoundRectCallout">
            <a:avLst>
              <a:gd name="adj1" fmla="val -16805"/>
              <a:gd name="adj2" fmla="val 84273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 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743200"/>
            <a:ext cx="198108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395960"/>
            <a:ext cx="2743200" cy="94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00" y="2575"/>
                </a:moveTo>
                <a:lnTo>
                  <a:pt x="-763" y="2575"/>
                </a:lnTo>
                <a:lnTo>
                  <a:pt x="-763" y="-11193"/>
                </a:lnTo>
                <a:lnTo>
                  <a:pt x="34048" y="-25260"/>
                </a:lnTo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4114800"/>
            <a:ext cx="6248160" cy="2362320"/>
          </a:xfrm>
          <a:prstGeom prst="wedgeRectCallout">
            <a:avLst>
              <a:gd name="adj1" fmla="val 21342"/>
              <a:gd name="adj2" fmla="val -84879"/>
            </a:avLst>
          </a:prstGeom>
          <a:solidFill>
            <a:srgbClr val="ccf1f4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eopl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8954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pri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925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066680"/>
            <a:ext cx="3276720" cy="1371600"/>
          </a:xfrm>
          <a:prstGeom prst="wedgeEllipseCallout">
            <a:avLst>
              <a:gd name="adj1" fmla="val -21319"/>
              <a:gd name="adj2" fmla="val 72800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1143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800600"/>
            <a:ext cx="3733920" cy="1447920"/>
          </a:xfrm>
          <a:prstGeom prst="wedgeEllipseCallout">
            <a:avLst>
              <a:gd name="adj1" fmla="val -15601"/>
              <a:gd name="adj2" fmla="val -136291"/>
            </a:avLst>
          </a:prstGeom>
          <a:solidFill>
            <a:srgbClr val="ffffcc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he didn’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now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895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the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895480"/>
            <a:ext cx="121896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191120"/>
            <a:ext cx="4800600" cy="2209680"/>
          </a:xfrm>
          <a:prstGeom prst="wedgeRoundRectCallout">
            <a:avLst>
              <a:gd name="adj1" fmla="val 10648"/>
              <a:gd name="adj2" fmla="val -80888"/>
              <a:gd name="adj3" fmla="val 16667"/>
            </a:avLst>
          </a:prstGeom>
          <a:solidFill>
            <a:srgbClr val="cccc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sitting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ons were at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d signed the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819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819520"/>
            <a:ext cx="190476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962520"/>
            <a:ext cx="3809880" cy="2514600"/>
          </a:xfrm>
          <a:prstGeom prst="wedgeRoundRectCallout">
            <a:avLst>
              <a:gd name="adj1" fmla="val -3458"/>
              <a:gd name="adj2" fmla="val -70958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gave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cau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as happ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971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work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971800"/>
            <a:ext cx="32004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191120"/>
            <a:ext cx="3047760" cy="1828800"/>
          </a:xfrm>
          <a:prstGeom prst="wedgeEllipseCallout">
            <a:avLst>
              <a:gd name="adj1" fmla="val 35675"/>
              <a:gd name="adj2" fmla="val -77259"/>
            </a:avLst>
          </a:prstGeom>
          <a:solidFill>
            <a:srgbClr val="ffffff"/>
          </a:solidFill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her wo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2978280"/>
            <a:ext cx="32004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219320"/>
            <a:ext cx="3352680" cy="914400"/>
          </a:xfrm>
          <a:prstGeom prst="wedgeRectCallout">
            <a:avLst>
              <a:gd name="adj1" fmla="val 23486"/>
              <a:gd name="adj2" fmla="val 157120"/>
            </a:avLst>
          </a:prstGeom>
          <a:solidFill>
            <a:srgbClr val="ffffcc"/>
          </a:solidFill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l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267080"/>
            <a:ext cx="2514600" cy="1828800"/>
          </a:xfrm>
          <a:prstGeom prst="cloudCallout">
            <a:avLst>
              <a:gd name="adj1" fmla="val -5870"/>
              <a:gd name="adj2" fmla="val -81162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ved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7360"/>
            <a:ext cx="4641840" cy="581400"/>
          </a:xfrm>
          <a:prstGeom prst="borderCallout2">
            <a:avLst>
              <a:gd name="adj1" fmla="val 18750"/>
              <a:gd name="adj2" fmla="val -8333"/>
              <a:gd name="adj3" fmla="val 19300"/>
              <a:gd name="adj4" fmla="val 105231"/>
              <a:gd name="adj5" fmla="val -185949"/>
              <a:gd name="adj6" fmla="val 10885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s father worked t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9720" y="990720"/>
            <a:ext cx="2484360" cy="581400"/>
          </a:xfrm>
          <a:prstGeom prst="borderCallout1">
            <a:avLst>
              <a:gd name="adj1" fmla="val 18750"/>
              <a:gd name="adj2" fmla="val -8333"/>
              <a:gd name="adj3" fmla="val 314662"/>
              <a:gd name="adj4" fmla="val 139666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lived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1066680"/>
            <a:ext cx="3962520" cy="1295640"/>
          </a:xfrm>
          <a:prstGeom prst="wedgeEllipseCallout">
            <a:avLst>
              <a:gd name="adj1" fmla="val 21712"/>
              <a:gd name="adj2" fmla="val 9227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lived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676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the 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1676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de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895480"/>
            <a:ext cx="3733920" cy="1143000"/>
          </a:xfrm>
          <a:prstGeom prst="wedgeRoundRectCallout">
            <a:avLst>
              <a:gd name="adj1" fmla="val -48722"/>
              <a:gd name="adj2" fmla="val -103333"/>
              <a:gd name="adj3" fmla="val 16667"/>
            </a:avLst>
          </a:prstGeom>
          <a:solidFill>
            <a:srgbClr val="ffffff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oo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914400"/>
            <a:ext cx="3048120" cy="914400"/>
          </a:xfrm>
          <a:prstGeom prst="wedgeEllipseCallout">
            <a:avLst>
              <a:gd name="adj1" fmla="val -73856"/>
              <a:gd name="adj2" fmla="val 39064"/>
            </a:avLst>
          </a:prstGeom>
          <a:solidFill>
            <a:srgbClr val="ffffcc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t w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744560"/>
            <a:ext cx="2286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2590920"/>
            <a:ext cx="3429000" cy="1600200"/>
          </a:xfrm>
          <a:prstGeom prst="wedgeEllipseCallout">
            <a:avLst>
              <a:gd name="adj1" fmla="val -72268"/>
              <a:gd name="adj2" fmla="val -67657"/>
            </a:avLst>
          </a:prstGeom>
          <a:gradFill rotWithShape="0">
            <a:gsLst>
              <a:gs pos="0">
                <a:srgbClr val="ffffcc"/>
              </a:gs>
              <a:gs pos="50000">
                <a:srgbClr val="ccccf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ou fou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4602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’t cam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464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486400"/>
            <a:ext cx="3581280" cy="1371600"/>
          </a:xfrm>
          <a:prstGeom prst="wedgeRoundRectCallout">
            <a:avLst>
              <a:gd name="adj1" fmla="val -46189"/>
              <a:gd name="adj2" fmla="val -85532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r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ot of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419720"/>
            <a:ext cx="3733920" cy="1752480"/>
          </a:xfrm>
          <a:prstGeom prst="wedgeEllipseCallout">
            <a:avLst>
              <a:gd name="adj1" fmla="val -75550"/>
              <a:gd name="adj2" fmla="val -19384"/>
            </a:avLst>
          </a:prstGeom>
          <a:solidFill>
            <a:srgbClr val="ccffff"/>
          </a:soli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v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指出下列各从句的类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05740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t everything is going on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as reading a nove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o sings best in my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22860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所给连词连接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838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found out. She was late. (wh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47920"/>
            <a:ext cx="7543800" cy="58140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has found out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133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till remember the day. I first went to York on that day. (w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3162240"/>
            <a:ext cx="7508880" cy="106884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still remember the day when I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nt to Y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1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各组句子连接为一个含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状语从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复合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5105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didn’t come yesterday. He was ill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867280"/>
            <a:ext cx="792468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didn’t come yesterday because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85800"/>
            <a:ext cx="8534160" cy="4075560"/>
          </a:xfrm>
          <a:prstGeom prst="rect">
            <a:avLst/>
          </a:prstGeom>
          <a:solidFill>
            <a:srgbClr val="00cc99">
              <a:alpha val="50000"/>
            </a:srgbClr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不及物动词  （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 + V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及物动词 ＋宾语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 S + Vt + 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系动词 ＋ 表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LV + predic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＋双宾动词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Vt +O.indir+O. di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宾补动词 ＋宾语 ＋宾语补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Vt. + O + O. com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 be / stand/ lie / liv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137"/>
                </a:solidFill>
                <a:latin typeface="楷体_GB2312"/>
                <a:ea typeface="楷体_GB2312"/>
              </a:rPr>
              <a:t>简单句的五种基本句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7692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主语、动词（不及物动词、及物动词、双宾动词、系动词、宾补动词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宾语及补语可以称为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基本句子成分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完整的句子一般至少包含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，至多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ll give the letter to him. I see him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时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is such a big box. Nobody can move i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结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’ll go to the great wall. It’s fine tomorrow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should not go there all the time. The place is quite pleasant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7352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t is such a big box that nobody can mo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40384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’ll go to the great wall if it’s fine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638680"/>
            <a:ext cx="8534520" cy="106884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8382240" cy="1607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when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as soon as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the moment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71800" y="22860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Impact"/>
              </a:rPr>
              <a:t>T H E    E N 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67480" y="1905120"/>
            <a:ext cx="1676520" cy="2743200"/>
          </a:xfrm>
          <a:prstGeom prst="wedgeEllipseCallout">
            <a:avLst>
              <a:gd name="adj1" fmla="val -92898"/>
              <a:gd name="adj2" fmla="val -5958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20968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2200" y="223992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谓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029200" y="182880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2819520"/>
            <a:ext cx="1833480" cy="459720"/>
            <a:chOff x="5029200" y="2819520"/>
            <a:chExt cx="1833480" cy="459720"/>
          </a:xfrm>
        </p:grpSpPr>
        <p:sp>
          <p:nvSpPr>
            <p:cNvPr id="53" name=""/>
            <p:cNvSpPr/>
            <p:nvPr/>
          </p:nvSpPr>
          <p:spPr>
            <a:xfrm>
              <a:off x="5029200" y="281952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68800" y="28195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016600" y="33973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016600" y="2384280"/>
            <a:ext cx="2755800" cy="462240"/>
            <a:chOff x="5016600" y="2384280"/>
            <a:chExt cx="2755800" cy="462240"/>
          </a:xfrm>
        </p:grpSpPr>
        <p:sp>
          <p:nvSpPr>
            <p:cNvPr id="57" name=""/>
            <p:cNvSpPr/>
            <p:nvPr/>
          </p:nvSpPr>
          <p:spPr>
            <a:xfrm>
              <a:off x="64278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166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5203800" y="2643120"/>
                  <a:ext cx="10008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3489480" y="24573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68600" y="3465360"/>
            <a:ext cx="6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-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89480" y="137160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40200" y="2239920"/>
            <a:ext cx="941400" cy="362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6800" y="2673360"/>
            <a:ext cx="78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3960" y="2746440"/>
            <a:ext cx="917640" cy="28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5200" y="3686040"/>
            <a:ext cx="847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600200"/>
            <a:ext cx="271440" cy="2241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58320 h 2241720"/>
              <a:gd name="textAreaBottom" fmla="*/ 2183400 h 22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62520"/>
            <a:ext cx="3200400" cy="1904760"/>
          </a:xfrm>
          <a:prstGeom prst="wedgeEllipseCallout">
            <a:avLst>
              <a:gd name="adj1" fmla="val 16865"/>
              <a:gd name="adj2" fmla="val -94333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0"/>
            <a:ext cx="3581280" cy="1600200"/>
          </a:xfrm>
          <a:prstGeom prst="wedgeRoundRectCallout">
            <a:avLst>
              <a:gd name="adj1" fmla="val -43518"/>
              <a:gd name="adj2" fmla="val 75694"/>
              <a:gd name="adj3" fmla="val 16667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 / 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-1143360" y="1676520"/>
            <a:ext cx="3429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cap="sq" w="28440">
                  <a:solidFill>
                    <a:srgbClr val="3333cc"/>
                  </a:solidFill>
                  <a:miter/>
                </a:ln>
                <a:solidFill>
                  <a:srgbClr val="6666ff"/>
                </a:solidFill>
                <a:latin typeface="宋体"/>
              </a:rPr>
              <a:t>英语句子基本成分示意图</a:t>
            </a:r>
            <a:endParaRPr b="0" lang="en-US" sz="3200" spc="1" strike="noStrike">
              <a:ln cap="sq" w="28440">
                <a:solidFill>
                  <a:srgbClr val="3333cc"/>
                </a:solidFill>
                <a:miter/>
              </a:ln>
              <a:solidFill>
                <a:srgbClr val="6666ff"/>
              </a:solidFill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800600"/>
            <a:ext cx="3505320" cy="2057400"/>
          </a:xfrm>
          <a:prstGeom prst="wedgeRectCallout">
            <a:avLst>
              <a:gd name="adj1" fmla="val -20199"/>
              <a:gd name="adj2" fmla="val -90277"/>
            </a:avLst>
          </a:prstGeom>
          <a:solidFill>
            <a:srgbClr val="ffff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/ feel / seem /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ear / stand / l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ome /get / grow / 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/ come / remain/ k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 / smell 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886200"/>
            <a:ext cx="1600200" cy="2971800"/>
          </a:xfrm>
          <a:prstGeom prst="wedgeEllipseCallout">
            <a:avLst>
              <a:gd name="adj1" fmla="val -103074"/>
              <a:gd name="adj2" fmla="val -55768"/>
            </a:avLst>
          </a:prstGeom>
          <a:solidFill>
            <a:srgbClr val="b2eef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/ 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380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 ＋   不及物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came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/ My head a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及物动词  ＋  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likes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 系动词  ＋  主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is happ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双宾动词  ＋  间接宾语  ＋  直接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gave John a book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bought a book for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宾补动词  ＋  宾语  ＋  宾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makes her mother angr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 teacher asked me to read  the pa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lies a book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简单句基本句型实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5480" y="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隶书"/>
              </a:rPr>
              <a:t>附属成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990720"/>
            <a:ext cx="815328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成分的修饰语。可以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：即用来修饰名词的单词、短语或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语：即用来修饰名词或代词以外的词的单词、短语或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1240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定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oo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tottered toward a hospital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nearb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 likes oranges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ed from the USA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gave Mar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ich are full of illustrations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ave you seen the book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on the des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aying over 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my br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like s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249200"/>
            <a:ext cx="9144000" cy="56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 chat with 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ikes oranges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ery muc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enever he gets drun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makes Mary very ang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aring the n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 jump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ith joy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 he was ill,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n’t come to class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is sitting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t the de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oing her home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father work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this sch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n years a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’d better stay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28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状   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0" y="2514600"/>
            <a:ext cx="54864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h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 is 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！（惊叹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h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alas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ailed ag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Joh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呼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c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可以去掉的成分，去掉后不影响句子的完整性。这种成分和句子的其他词没有语法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04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5146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I wish 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od lu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ome gave him praise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ut others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gave him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tte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gg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e runs as fast as, if 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he does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run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faster, tha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I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Hope you lik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ohn should clean the room today and Peter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should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clean it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被省略的成分，虽然未说出来，却在句中表示一定的意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28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省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2:21:56Z</dcterms:created>
  <dc:creator>孙维云</dc:creator>
  <dc:description/>
  <dc:language>en-US</dc:language>
  <cp:lastModifiedBy>swy</cp:lastModifiedBy>
  <cp:lastPrinted>2003-02-07T18:03:54Z</cp:lastPrinted>
  <dcterms:modified xsi:type="dcterms:W3CDTF">2003-02-09T05:20:28Z</dcterms:modified>
  <cp:revision>81</cp:revision>
  <dc:subject/>
  <dc:title>英语句子概论</dc:title>
</cp:coreProperties>
</file>