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3C2-07AD-4B01-B4CA-4582C7E2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D48-4B46-4AAE-AB63-AC207385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DC0-4A4C-4E92-AA75-ADB7B433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277-E2E1-493D-AA15-78F4C9BD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4B0D-55A1-4005-9F8F-3D7911BD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0BB0-8A6E-40AA-B96F-E662E650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B0C6-C291-4B09-BE9B-4F83E35F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47F0-9E29-4909-A6F9-60ACB0AF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F8B5-EC31-4A1A-8249-2DF99008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3A7B-9607-4BDB-8102-54D60FD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9166-DBA3-4B9C-A932-461DC3D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151-0D13-4433-BE31-7EBA35BD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F57F-3A5B-4023-81F0-1E45729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7743-DB26-47BA-9A3D-CC0BBDC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BAB1-7134-4B61-A7BF-5F2811B2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9942-E186-455B-9612-7682C87F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2C5F-8680-4BEA-B17D-FD318732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9CD-5C61-40EA-9DC8-99C6A321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EF3-FD78-49B3-B6BF-716878A3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7C6-0A5C-4323-B18F-3871593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81C-48C3-4B67-891F-308DC72F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932-5CCE-4426-B029-FB46CB9D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8E8-8EF6-4DF4-8A5C-5BE8445C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2B1-BF0E-410A-B11E-046C2D9E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A4F7-D04D-489E-9098-D11E42E7AE1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3072-83D6-4B11-ACEF-9558432E74E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10667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Unit 21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What are you doing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1911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Lesson 8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5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焦作市第二十中学    张福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Corret the sentenc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8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I cleaning the house 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5909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He is listen to 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114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.He is write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562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They are run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am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leaning the house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276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 listen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876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216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run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E03166_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.Ask and answ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04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What’s he/she doing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5'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3" name="6'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7'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5" name="8'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905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267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22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33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444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219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685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.Read and ac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83808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.New wor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962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zh-CN" sz="7200" spc="-1" strike="noStrike" u="sng">
                <a:solidFill>
                  <a:srgbClr val="ffffff"/>
                </a:solidFill>
                <a:uFillTx/>
                <a:latin typeface="Times New Roman"/>
              </a:rPr>
              <a:t>ear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 v.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穿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i="1" lang="zh-CN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i="1" lang="zh-CN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zj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255" name="zj4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02920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wearing a co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48769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putting o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II.Quest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838080"/>
            <a:ext cx="9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1.What is she wearing?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851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uc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85144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张晶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133720" cy="4191120"/>
          </a:xfrm>
          <a:prstGeom prst="rect">
            <a:avLst/>
          </a:prstGeom>
          <a:ln w="0">
            <a:noFill/>
          </a:ln>
        </p:spPr>
      </p:pic>
      <p:pic>
        <p:nvPicPr>
          <p:cNvPr id="263" name="张晶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4572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666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I am coming.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现在进行时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BD00028_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.Duty repor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Who’s on duty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2.Is everyone here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1148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3.What day i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t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S00975_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733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9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Spelling and pronunc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00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e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ousers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in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00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895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nk  hu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d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895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038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ca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k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s/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038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s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2578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ir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frie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s/d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334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z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.Talk about the pictur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4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01981_" descr=""/>
          <p:cNvPicPr/>
          <p:nvPr/>
        </p:nvPicPr>
        <p:blipFill>
          <a:blip r:embed="rId1"/>
          <a:stretch/>
        </p:blipFill>
        <p:spPr>
          <a:xfrm>
            <a:off x="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24080" y="1676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woman is </a:t>
            </a:r>
            <a:r>
              <a:rPr b="0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i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s the woman ski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581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she i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572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is the woman      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D06518_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5049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sing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905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re they sing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124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they a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3434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50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.Stree and inton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is she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e’s mending her      b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are you 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’m cleaning the      wind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s he singing a      so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es,he      is./  No,he      isn’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088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37160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9092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24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8098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048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8769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.Grammer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Using the Present Continuous Tense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现在进行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现在进行时表示现在（说话瞬间）正在进行或发生的动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谓语结构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否定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not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疑问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re they  playing      footb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es,they      are./  No,they     are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049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动词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-ing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形式的构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914400"/>
          <a:ext cx="7772400" cy="5645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般在动词原形后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以不发音的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结尾的，去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，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重读闭音节以一个辅音字母结尾的，双写这一字母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.Add –ing to the following 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57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2819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73320"/>
            <a:ext cx="243828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3623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5053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715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2952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2362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05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638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7:54:41Z</dcterms:created>
  <dc:creator>user5</dc:creator>
  <dc:description/>
  <dc:language>en-US</dc:language>
  <cp:lastModifiedBy>user</cp:lastModifiedBy>
  <dcterms:modified xsi:type="dcterms:W3CDTF">2002-04-09T07:34:48Z</dcterms:modified>
  <cp:revision>47</cp:revision>
  <dc:subject/>
  <dc:title>PowerPoint 演示文稿</dc:title>
</cp:coreProperties>
</file>