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9CC7-A311-4010-AB0E-D70906A5D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FCC1-CB06-44F0-AC1E-5F69F66F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B208-318B-4E25-BFA6-ABD17D6BE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A8DC-C734-4BC2-AAF0-B099729FA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A148-D4D1-4C3F-95F2-4DD4B943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6DEA-980E-43C3-B15F-CB842BAB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8854-0D14-45C1-A60D-38C559F1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EECE-70F9-4299-8A5A-B52F77AE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ABA7-87EE-467A-A9F2-58E8EBD2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CF97-1650-4E81-A6CE-EA918542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70E2-1E8B-4C34-9E1B-8730DF3F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640A-02F7-4EA0-B45A-9FA31705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C5CA-D6A8-4E31-99A5-F4401BD012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7100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553080" y="2209680"/>
            <a:ext cx="1676520" cy="1067040"/>
          </a:xfrm>
          <a:prstGeom prst="cloudCallout">
            <a:avLst>
              <a:gd name="adj1" fmla="val -38634"/>
              <a:gd name="adj2" fmla="val 30997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81280" y="1295280"/>
            <a:ext cx="1295640" cy="2133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43800" y="4572000"/>
            <a:ext cx="1600200" cy="533520"/>
          </a:xfrm>
          <a:prstGeom prst="wedgeEllipseCallout">
            <a:avLst>
              <a:gd name="adj1" fmla="val -43750"/>
              <a:gd name="adj2" fmla="val 25862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26589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2/b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80240" y="474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96080" y="4648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/k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5200" y="1828800"/>
            <a:ext cx="91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.6 /k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324480" y="5791320"/>
            <a:ext cx="914400" cy="761760"/>
          </a:xfrm>
          <a:prstGeom prst="wedgeRectCallout">
            <a:avLst>
              <a:gd name="adj1" fmla="val -43518"/>
              <a:gd name="adj2" fmla="val 4604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0 /k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4120" y="4648320"/>
            <a:ext cx="914400" cy="609480"/>
          </a:xfrm>
          <a:prstGeom prst="wedgeRectCallout">
            <a:avLst>
              <a:gd name="adj1" fmla="val -43518"/>
              <a:gd name="adj2" fmla="val 7005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57800" y="4572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5/k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5334120"/>
            <a:ext cx="1219320" cy="609480"/>
          </a:xfrm>
          <a:prstGeom prst="cloudCallout">
            <a:avLst>
              <a:gd name="adj1" fmla="val -45310"/>
              <a:gd name="adj2" fmla="val 700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5486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6/k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57400" y="533520"/>
            <a:ext cx="2286000" cy="609480"/>
          </a:xfrm>
          <a:prstGeom prst="wedgeRoundRectCallout">
            <a:avLst>
              <a:gd name="adj1" fmla="val -47500"/>
              <a:gd name="adj2" fmla="val 70050"/>
              <a:gd name="adj3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609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5.0/sh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710032" descr=""/>
          <p:cNvPicPr/>
          <p:nvPr/>
        </p:nvPicPr>
        <p:blipFill>
          <a:blip r:embed="rId1"/>
          <a:stretch/>
        </p:blipFill>
        <p:spPr>
          <a:xfrm>
            <a:off x="30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638680" y="838080"/>
            <a:ext cx="1143000" cy="1295640"/>
          </a:xfrm>
          <a:prstGeom prst="wedgeRoundRectCallout">
            <a:avLst>
              <a:gd name="adj1" fmla="val -45000"/>
              <a:gd name="adj2" fmla="val 30023"/>
              <a:gd name="adj3" fmla="val 1666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9907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91320" y="13716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0/bo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710052" descr=""/>
          <p:cNvPicPr/>
          <p:nvPr/>
        </p:nvPicPr>
        <p:blipFill>
          <a:blip r:embed="rId1"/>
          <a:stretch/>
        </p:blipFill>
        <p:spPr>
          <a:xfrm>
            <a:off x="-380880" y="25560"/>
            <a:ext cx="10058400" cy="6705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410080" y="380880"/>
            <a:ext cx="2971800" cy="914400"/>
          </a:xfrm>
          <a:prstGeom prst="wedgeEllipseCallout">
            <a:avLst>
              <a:gd name="adj1" fmla="val -48078"/>
              <a:gd name="adj2" fmla="val 3003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75480" y="477720"/>
            <a:ext cx="15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0/pi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10080" y="3733920"/>
            <a:ext cx="3733920" cy="2361960"/>
          </a:xfrm>
          <a:prstGeom prst="cloudCallout">
            <a:avLst>
              <a:gd name="adj1" fmla="val -48467"/>
              <a:gd name="adj2" fmla="val -1901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43600" y="4800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.5/b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710078" descr=""/>
          <p:cNvPicPr/>
          <p:nvPr/>
        </p:nvPicPr>
        <p:blipFill>
          <a:blip r:embed="rId1"/>
          <a:stretch/>
        </p:blipFill>
        <p:spPr>
          <a:xfrm>
            <a:off x="0" y="-228600"/>
            <a:ext cx="8534520" cy="7315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676520" y="3962520"/>
            <a:ext cx="3504960" cy="609480"/>
          </a:xfrm>
          <a:prstGeom prst="cloudCallout">
            <a:avLst>
              <a:gd name="adj1" fmla="val -48370"/>
              <a:gd name="adj2" fmla="val 700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41560" y="398304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.0/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3T10:24:26Z</dcterms:created>
  <dc:creator>Star</dc:creator>
  <dc:description/>
  <dc:language>en-US</dc:language>
  <cp:lastModifiedBy>Star</cp:lastModifiedBy>
  <dcterms:modified xsi:type="dcterms:W3CDTF">2002-05-13T10:43:05Z</dcterms:modified>
  <cp:revision>4</cp:revision>
  <dc:subject/>
  <dc:title>PowerPoint 演示文稿</dc:title>
</cp:coreProperties>
</file>