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wmf" ContentType="image/x-wmf"/>
  <Override PartName="/ppt/media/image21.wmf" ContentType="image/x-wmf"/>
  <Override PartName="/ppt/media/image4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gif" ContentType="image/gif"/>
  <Override PartName="/ppt/media/image6.png" ContentType="image/png"/>
  <Override PartName="/ppt/media/image19.jpeg" ContentType="image/jpeg"/>
  <Override PartName="/ppt/media/image11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8811-E9B9-4E26-B7BE-375B93F2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914-7819-42B1-A716-6B31DB42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220C-B10E-4921-99C4-F2A7D171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B4B9-BBEC-4A03-A2F4-5E64C1524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A330-6BCD-45EB-8B9C-14C2AE20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F49-7449-42F2-A811-6F472B58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EC0B-A09B-439B-AFBE-97963262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83E3-E4FB-4C14-8CD6-0E09A617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3385-0AB5-48A6-829B-BF14EA8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359F-13AC-4006-B996-B5C73DAF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D0EF-47B6-4BFF-88D4-B746FE1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BB9F-96B6-47C6-A73A-3E4F104C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1901-0B6D-4954-BE94-FA560888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8F742-0990-4DB3-8950-B1B55B1A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016E-EBAF-4028-8504-6D6ECC94A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AF49-603F-45AD-8612-8843EDE4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9190B-C9B6-4D4A-A599-5EA0AD5CA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5B0-B931-4929-A46D-8C735558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E8A-6693-4127-8238-CC7AD36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98E-1050-440C-9FCA-0BA759B2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2C3-783B-47C4-8FA5-12D61F09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CF1D-7764-40D0-AE34-E4B4FEE5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5225-E680-4216-8755-4C8D84D5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1AC-63C3-449D-96F3-638B9B52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4C1D-9F1B-479C-8114-B68CBFE1E31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1F6E-67FA-41F7-A325-9914984EE4A5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19320"/>
            <a:ext cx="106678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       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Unit 21. 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What are you doing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38280" y="4191120"/>
            <a:ext cx="464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6600" spc="-1" strike="noStrike">
                <a:solidFill>
                  <a:srgbClr val="ffffff"/>
                </a:solidFill>
                <a:latin typeface="Times New Roman"/>
              </a:rPr>
              <a:t>Lesson 84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676520" y="60958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焦作市第二十中学    张福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371600" y="3049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Corret the sentenc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8088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066680"/>
            <a:ext cx="7391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1.I cleaning the house now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5909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2.He is listen to m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411480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3.He is write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5627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4.They are run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am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cleaning the house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43000" y="3276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 listening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o m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66680" y="48769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rit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2164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runn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E03166_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8195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0"/>
            <a:ext cx="6629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.Ask and answer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304920"/>
            <a:ext cx="76212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9144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What’s he/she doing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5'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3" name="6'" descr=""/>
          <p:cNvPicPr/>
          <p:nvPr/>
        </p:nvPicPr>
        <p:blipFill>
          <a:blip r:embed="rId2"/>
          <a:stretch/>
        </p:blipFill>
        <p:spPr>
          <a:xfrm>
            <a:off x="1219320" y="434340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234" name="7'" descr=""/>
          <p:cNvPicPr/>
          <p:nvPr/>
        </p:nvPicPr>
        <p:blipFill>
          <a:blip r:embed="rId3"/>
          <a:stretch/>
        </p:blipFill>
        <p:spPr>
          <a:xfrm>
            <a:off x="5791320" y="1905120"/>
            <a:ext cx="2438280" cy="2133360"/>
          </a:xfrm>
          <a:prstGeom prst="rect">
            <a:avLst/>
          </a:prstGeom>
          <a:ln w="0">
            <a:noFill/>
          </a:ln>
        </p:spPr>
      </p:pic>
      <p:pic>
        <p:nvPicPr>
          <p:cNvPr id="235" name="8'" descr=""/>
          <p:cNvPicPr/>
          <p:nvPr/>
        </p:nvPicPr>
        <p:blipFill>
          <a:blip r:embed="rId4"/>
          <a:stretch/>
        </p:blipFill>
        <p:spPr>
          <a:xfrm>
            <a:off x="5791320" y="4267080"/>
            <a:ext cx="2438280" cy="228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0" y="1905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426708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190512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76920" y="4191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762120" y="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1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222" descr=""/>
          <p:cNvPicPr/>
          <p:nvPr/>
        </p:nvPicPr>
        <p:blipFill>
          <a:blip r:embed="rId2"/>
          <a:stretch/>
        </p:blipFill>
        <p:spPr>
          <a:xfrm>
            <a:off x="5638680" y="1295280"/>
            <a:ext cx="3200400" cy="2514600"/>
          </a:xfrm>
          <a:prstGeom prst="rect">
            <a:avLst/>
          </a:prstGeom>
          <a:ln w="0">
            <a:noFill/>
          </a:ln>
        </p:spPr>
      </p:pic>
      <p:pic>
        <p:nvPicPr>
          <p:cNvPr id="243" name="33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3200400" cy="2438280"/>
          </a:xfrm>
          <a:prstGeom prst="rect">
            <a:avLst/>
          </a:prstGeom>
          <a:ln w="0">
            <a:noFill/>
          </a:ln>
        </p:spPr>
      </p:pic>
      <p:pic>
        <p:nvPicPr>
          <p:cNvPr id="244" name="444" descr=""/>
          <p:cNvPicPr/>
          <p:nvPr/>
        </p:nvPicPr>
        <p:blipFill>
          <a:blip r:embed="rId4"/>
          <a:stretch/>
        </p:blipFill>
        <p:spPr>
          <a:xfrm>
            <a:off x="5715000" y="4038480"/>
            <a:ext cx="3124080" cy="2514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06668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19112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12193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24280" y="4191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4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981080" y="68580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.Read and act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838080"/>
            <a:ext cx="83844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22096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.New wor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39625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zh-CN" sz="7200" spc="-1" strike="noStrike" u="sng">
                <a:solidFill>
                  <a:srgbClr val="ffffff"/>
                </a:solidFill>
                <a:uFillTx/>
                <a:latin typeface="Times New Roman"/>
              </a:rPr>
              <a:t>ear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 v. </a:t>
            </a: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穿着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120" y="0"/>
            <a:ext cx="769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i="1" lang="zh-CN" sz="8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zh-CN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i="1" lang="zh-CN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7200" spc="-1" strike="noStrike">
                <a:solidFill>
                  <a:srgbClr val="ffffff"/>
                </a:solidFill>
                <a:latin typeface="Times New Roman"/>
              </a:rPr>
              <a:t>and </a:t>
            </a:r>
            <a:r>
              <a:rPr b="0" i="1" lang="zh-CN" sz="72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zj3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362320" cy="3600360"/>
          </a:xfrm>
          <a:prstGeom prst="rect">
            <a:avLst/>
          </a:prstGeom>
          <a:ln w="0">
            <a:noFill/>
          </a:ln>
        </p:spPr>
      </p:pic>
      <p:pic>
        <p:nvPicPr>
          <p:cNvPr id="255" name="zj4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324160" cy="3429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838080" y="5029200"/>
            <a:ext cx="3733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wea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wearing a coa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4876920"/>
            <a:ext cx="3657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put o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强调动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e is putting on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04920" y="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III.Question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838080"/>
            <a:ext cx="967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1.What is she wearing?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5851440"/>
            <a:ext cx="266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uc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828800" y="585144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Lily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张晶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2133720" cy="4191120"/>
          </a:xfrm>
          <a:prstGeom prst="rect">
            <a:avLst/>
          </a:prstGeom>
          <a:ln w="0">
            <a:noFill/>
          </a:ln>
        </p:spPr>
      </p:pic>
      <p:pic>
        <p:nvPicPr>
          <p:cNvPr id="263" name="张晶2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133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066680" y="45720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cc00"/>
                </a:solidFill>
                <a:latin typeface="Times New Roman"/>
              </a:rPr>
              <a:t>Ques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2666880"/>
            <a:ext cx="5410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I am coming.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是现在进行时吗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BD00028_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19047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62120" y="53352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000" spc="-1" strike="noStrike">
                <a:solidFill>
                  <a:srgbClr val="ffcc00"/>
                </a:solidFill>
                <a:latin typeface="Times New Roman"/>
              </a:rPr>
              <a:t>.Duty report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7621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75248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1.Who’s on duty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97180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2.Is everyone here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411480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3.What day is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t today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BS00975_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373392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04920"/>
            <a:ext cx="998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cc00"/>
                </a:solidFill>
                <a:latin typeface="Times New Roman"/>
              </a:rPr>
              <a:t>.Spelling and pronunci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57200"/>
            <a:ext cx="60948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16002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e 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ousers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 t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in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167652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160020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2895480"/>
            <a:ext cx="4724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nk  hu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r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ed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2895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2320" y="28954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r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0384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ca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ki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40384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s/t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403848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ts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525780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bir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frien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ds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25780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ds/d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533412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</a:rPr>
              <a:t>/dz/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4572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Times New Roman"/>
              </a:rPr>
              <a:t>.Talk about the pictures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09480"/>
            <a:ext cx="838080" cy="76212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E01981_" descr=""/>
          <p:cNvPicPr/>
          <p:nvPr/>
        </p:nvPicPr>
        <p:blipFill>
          <a:blip r:embed="rId1"/>
          <a:stretch/>
        </p:blipFill>
        <p:spPr>
          <a:xfrm>
            <a:off x="0" y="16002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124080" y="1676520"/>
            <a:ext cx="571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e woman is </a:t>
            </a:r>
            <a:r>
              <a:rPr b="0" lang="zh-CN" sz="4800" spc="-1" strike="noStrike" u="sng">
                <a:solidFill>
                  <a:srgbClr val="ffffff"/>
                </a:solidFill>
                <a:uFillTx/>
                <a:latin typeface="Times New Roman"/>
              </a:rPr>
              <a:t>skiing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00400" y="259092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Is the woman ski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358128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she is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71800" y="4572000"/>
            <a:ext cx="6172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is the woman      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BD06518_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504960" cy="5790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68580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They are </a:t>
            </a:r>
            <a:r>
              <a:rPr b="0" lang="zh-CN" sz="5400" spc="-1" strike="noStrike" u="sng">
                <a:solidFill>
                  <a:srgbClr val="ffffff"/>
                </a:solidFill>
                <a:uFillTx/>
                <a:latin typeface="Times New Roman"/>
              </a:rPr>
              <a:t>singing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190512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Are they sing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31240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Yes,they are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43434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What are they doing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5028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Arial Black"/>
              </a:rPr>
              <a:t>.Stree and intonation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is she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She’s mending her      bik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hat are you       do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’m cleaning the      window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Is he singing a      so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es,he      is./  No,he      isn’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380880"/>
            <a:ext cx="76176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86200" y="137160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259092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3124080"/>
            <a:ext cx="681120" cy="228600"/>
          </a:xfrm>
          <a:custGeom>
            <a:avLst/>
            <a:gdLst>
              <a:gd name="textAreaLeft" fmla="*/ 119160 w 681120"/>
              <a:gd name="textAreaRight" fmla="*/ 493920 w 68112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380988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24280" y="5029200"/>
            <a:ext cx="685800" cy="228600"/>
          </a:xfrm>
          <a:custGeom>
            <a:avLst/>
            <a:gdLst>
              <a:gd name="textAreaLeft" fmla="*/ 119880 w 685800"/>
              <a:gd name="textAreaRight" fmla="*/ 497160 w 6858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6688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86400" y="434340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53080" y="5562720"/>
            <a:ext cx="685800" cy="276120"/>
          </a:xfrm>
          <a:custGeom>
            <a:avLst/>
            <a:gdLst>
              <a:gd name="textAreaLeft" fmla="*/ 119880 w 685800"/>
              <a:gd name="textAreaRight" fmla="*/ 497160 w 685800"/>
              <a:gd name="textAreaTop" fmla="*/ 36720 h 276120"/>
              <a:gd name="textAreaBottom" fmla="*/ 239400 h 276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19320" y="11430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182880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2362320"/>
            <a:ext cx="0" cy="22860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048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365760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1911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24080" y="4876920"/>
            <a:ext cx="0" cy="15228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5410080"/>
            <a:ext cx="0" cy="152640"/>
          </a:xfrm>
          <a:prstGeom prst="line">
            <a:avLst/>
          </a:prstGeom>
          <a:ln w="76320">
            <a:solidFill>
              <a:srgbClr val="9ce1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6600" spc="-1" strike="noStrike">
                <a:solidFill>
                  <a:srgbClr val="ffcc00"/>
                </a:solidFill>
                <a:latin typeface="Arial Black"/>
              </a:rPr>
              <a:t>.Grammer</a:t>
            </a:r>
            <a:endParaRPr b="0" lang="en-US" sz="6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9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Using the Present Continuous Tense(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使用现在进行时）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现在进行时表示现在（说话瞬间）正在进行或发生的动作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谓语结构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。否定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not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疑问式：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Be(Am,Is,Are)+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主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+do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re they  playing      footba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Yes,they      are./  No,they     aren’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304920"/>
            <a:ext cx="685800" cy="68580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.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动词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-ing</a:t>
            </a: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形式的构成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914400"/>
          <a:ext cx="7772400" cy="56451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136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一般在动词原形后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以不发音的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结尾的，去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，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k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os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5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重读闭音节以一个辅音字母结尾的，双写这一字母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e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nn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mm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tting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19320" y="3808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Times New Roman"/>
              </a:rPr>
              <a:t>.Add –ing to the following verb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457200"/>
            <a:ext cx="685800" cy="60948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1371600"/>
            <a:ext cx="2819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5520" y="1273320"/>
            <a:ext cx="2438280" cy="51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0" y="1295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loo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23623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62320" y="350532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ha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457200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atch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571500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draw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05720" y="12952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thin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81680" y="23623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350532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giv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457200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fly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934320" y="56386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r>
              <a:rPr b="0" lang="zh-CN" sz="4800" spc="-1" strike="noStrike">
                <a:solidFill>
                  <a:srgbClr val="cc3300"/>
                </a:solidFill>
                <a:latin typeface="Times New Roman"/>
              </a:rPr>
              <a:t>ing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6T07:54:41Z</dcterms:created>
  <dc:creator>user5</dc:creator>
  <dc:description/>
  <dc:language>en-US</dc:language>
  <cp:lastModifiedBy>user</cp:lastModifiedBy>
  <dcterms:modified xsi:type="dcterms:W3CDTF">2002-04-09T07:34:48Z</dcterms:modified>
  <cp:revision>47</cp:revision>
  <dc:subject/>
  <dc:title>PowerPoint 演示文稿</dc:title>
</cp:coreProperties>
</file>