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camera.wav" ContentType="audio/x-wav"/>
  <Override PartName="/ppt/media/image5.wmf" ContentType="image/x-wmf"/>
  <Override PartName="/ppt/media/image6.png" ContentType="image/png"/>
  <Override PartName="/ppt/media/image7.jpeg" ContentType="image/jpeg"/>
  <Override PartName="/ppt/media/APPLAUS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2EF0-DDB5-4930-9466-0CA768F92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CDF4-214C-4B97-A020-0E9C368C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1342-6482-4974-9FDB-55CE2D92F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C5ED-472E-4441-8B20-F9909E5B3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63D1-71D6-4BBB-834E-8996709A2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5DD2-04F3-4704-A7CC-204E256D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A57E-E016-45F0-8F41-5337F4FC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BE3D-FC4F-47E1-A46F-8729AD78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5B1CD-68C7-47DC-909A-9F675E4A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240" y="31788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7048D-4963-47AA-97B3-AE7ED8FB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48C96-CB88-46BA-B6EC-BEBE3546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A9AC-F5B4-48C0-BBE6-18393354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3D96-3375-4CCB-9214-FFFBB39E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89CEC-E026-4D5E-A1B6-CC2A3D21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88395-6D29-4FFD-91CB-AFC4FF90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6191-CD0B-4884-87BE-32857FF7F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F6F9-7489-4F9E-B393-51D30C5CA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8B94-0512-409E-86FE-7FFEA718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B92B-EFD8-4059-AA4E-71A3B6B3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7F11-6158-48CD-BB82-7722710E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88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EE55-0DAD-4737-86C9-9F7341CF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30A9-FD4D-488F-B8C8-96529C8A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9305-FF36-430C-9364-AEA3861A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CF32-A106-4376-8906-6DF64756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870A-EFF9-4B8A-AEBD-7CF7554FB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9791-1972-417B-A3EC-BAECD8605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304920" y="762120"/>
            <a:ext cx="8534160" cy="2669400"/>
            <a:chOff x="304920" y="762120"/>
            <a:chExt cx="8534160" cy="2669400"/>
          </a:xfrm>
        </p:grpSpPr>
        <p:sp>
          <p:nvSpPr>
            <p:cNvPr id="84" name=""/>
            <p:cNvSpPr/>
            <p:nvPr/>
          </p:nvSpPr>
          <p:spPr>
            <a:xfrm>
              <a:off x="304920" y="2514600"/>
              <a:ext cx="8001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5400" spc="-1" strike="noStrike">
                  <a:solidFill>
                    <a:srgbClr val="ff3399"/>
                  </a:solidFill>
                  <a:latin typeface="Times New Roman"/>
                </a:rPr>
                <a:t>          </a:t>
              </a:r>
              <a:r>
                <a:rPr b="1" i="1" lang="zh-CN" sz="4400" spc="-1" strike="noStrike">
                  <a:solidFill>
                    <a:srgbClr val="ff3399"/>
                  </a:solidFill>
                  <a:latin typeface="Times New Roman"/>
                </a:rPr>
                <a:t>－</a:t>
              </a:r>
              <a:r>
                <a:rPr b="1" i="1" lang="zh-CN" sz="4400" spc="-1" strike="noStrike">
                  <a:solidFill>
                    <a:srgbClr val="ff3399"/>
                  </a:solidFill>
                  <a:latin typeface="Times New Roman"/>
                </a:rPr>
                <a:t>Directed by Qiu Hong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48640" y="762120"/>
              <a:ext cx="6582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ff3399"/>
                  </a:solidFill>
                  <a:latin typeface="Times New Roman"/>
                </a:rPr>
                <a:t>The Attributive Claus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359320" y="1752480"/>
              <a:ext cx="3479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400" spc="-1" strike="noStrike">
                  <a:solidFill>
                    <a:srgbClr val="ffff00"/>
                  </a:solidFill>
                  <a:latin typeface="Times New Roman"/>
                </a:rPr>
                <a:t>定语从句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160" y="866160"/>
            <a:ext cx="7467480" cy="25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 Black"/>
              </a:rPr>
              <a:t>Which boy do you like better?</a:t>
            </a:r>
            <a:endParaRPr b="0" lang="en-US" sz="5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39" name="z3" descr=""/>
          <p:cNvPicPr/>
          <p:nvPr/>
        </p:nvPicPr>
        <p:blipFill>
          <a:blip r:embed="rId1"/>
          <a:stretch/>
        </p:blipFill>
        <p:spPr>
          <a:xfrm>
            <a:off x="2743200" y="38862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z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6320" y="15228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宋体"/>
              </a:rPr>
              <a:t>关系代词</a:t>
            </a:r>
            <a:r>
              <a:rPr b="1" lang="zh-CN" sz="4000" spc="-1" strike="noStrike">
                <a:solidFill>
                  <a:srgbClr val="663300"/>
                </a:solidFill>
                <a:latin typeface="宋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6633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9907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. who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指人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作主语或宾语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作宾语可省略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16765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The ma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ho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 I talked with is our teac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228600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erso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 wh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teals things is called a thie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27672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2. whom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指人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作宾语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作宾语可省略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如介词提前则不能省</a:t>
            </a:r>
            <a:r>
              <a:rPr b="0" lang="zh-CN" sz="3200" spc="-1" strike="noStrike">
                <a:solidFill>
                  <a:srgbClr val="ff3300"/>
                </a:solidFill>
                <a:latin typeface="宋体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437364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man 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(whom/who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I nodded to is Mr. L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498312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a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o who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nodded is Professor L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659400" y="160020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ap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3880" y="838080"/>
            <a:ext cx="2149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gr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7680" y="3124080"/>
            <a:ext cx="710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pple   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ich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is r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is m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38242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pple   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ich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is gre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is yo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0800" y="4510080"/>
            <a:ext cx="722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pple   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ich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is r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is 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51958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pple   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ich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is gre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is bi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0851000">
            <a:off x="1295280" y="3656880"/>
            <a:ext cx="2286000" cy="152280"/>
          </a:xfrm>
          <a:custGeom>
            <a:avLst/>
            <a:gdLst>
              <a:gd name="textAreaLeft" fmla="*/ 461160 w 2286000"/>
              <a:gd name="textAreaRight" fmla="*/ 1596240 w 22860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0851000">
            <a:off x="1295280" y="4342680"/>
            <a:ext cx="2286000" cy="152280"/>
          </a:xfrm>
          <a:custGeom>
            <a:avLst/>
            <a:gdLst>
              <a:gd name="textAreaLeft" fmla="*/ 461160 w 2286000"/>
              <a:gd name="textAreaRight" fmla="*/ 1596240 w 22860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0851000">
            <a:off x="1295280" y="5028480"/>
            <a:ext cx="2286000" cy="152280"/>
          </a:xfrm>
          <a:custGeom>
            <a:avLst/>
            <a:gdLst>
              <a:gd name="textAreaLeft" fmla="*/ 461160 w 2286000"/>
              <a:gd name="textAreaRight" fmla="*/ 1596240 w 22860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0851000">
            <a:off x="1295280" y="5714280"/>
            <a:ext cx="2286000" cy="152280"/>
          </a:xfrm>
          <a:custGeom>
            <a:avLst/>
            <a:gdLst>
              <a:gd name="textAreaLeft" fmla="*/ 461160 w 2286000"/>
              <a:gd name="textAreaRight" fmla="*/ 1596240 w 22860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257800" y="1447920"/>
            <a:ext cx="938160" cy="107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6248520" y="1066680"/>
          <a:ext cx="162072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48520" y="1066680"/>
                    <a:ext cx="16207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320" y="637200"/>
            <a:ext cx="73152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Mrs. Clark is angry with the goat.   </a:t>
            </a:r>
            <a:br>
              <a:rPr sz="3200"/>
            </a:b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    </a:t>
            </a:r>
            <a:r>
              <a:rPr b="1" lang="zh-CN" sz="3200" spc="-1" strike="noStrike" u="sng">
                <a:solidFill>
                  <a:srgbClr val="003300"/>
                </a:solidFill>
                <a:uFillTx/>
                <a:latin typeface="Times New Roman"/>
              </a:rPr>
              <a:t>The goat is eating her flowers.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2" name=""/>
          <p:cNvSpPr/>
          <p:nvPr/>
        </p:nvSpPr>
        <p:spPr>
          <a:xfrm>
            <a:off x="1736640" y="2077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16765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rs. Clark is angry with the goat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hich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eating her flow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46480" y="344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280" y="304812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 you lend me the book?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You talked about it last nigh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41148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 you lend me the book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which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lked about last n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510552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 you lend me the book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bout whic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talked last night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943600" y="1295280"/>
            <a:ext cx="380880" cy="312840"/>
          </a:xfrm>
          <a:custGeom>
            <a:avLst/>
            <a:gdLst>
              <a:gd name="textAreaLeft" fmla="*/ 127080 w 380880"/>
              <a:gd name="textAreaRight" fmla="*/ 299520 w 380880"/>
              <a:gd name="textAreaTop" fmla="*/ 204840 h 312840"/>
              <a:gd name="textAreaBottom" fmla="*/ 245880 h 312840"/>
            </a:gdLst>
            <a:ahLst/>
            <a:rect l="textAreaLeft" t="textAreaTop" r="textAreaRight" b="textAreaBottom"/>
            <a:pathLst>
              <a:path w="21600" h="21600">
                <a:moveTo>
                  <a:pt x="0" y="18772"/>
                </a:moveTo>
                <a:lnTo>
                  <a:pt x="14143" y="18772"/>
                </a:lnTo>
                <a:lnTo>
                  <a:pt x="14143" y="7200"/>
                </a:lnTo>
                <a:lnTo>
                  <a:pt x="9514" y="7200"/>
                </a:lnTo>
                <a:lnTo>
                  <a:pt x="15557" y="0"/>
                </a:lnTo>
                <a:lnTo>
                  <a:pt x="21600" y="7200"/>
                </a:lnTo>
                <a:lnTo>
                  <a:pt x="16971" y="7200"/>
                </a:lnTo>
                <a:lnTo>
                  <a:pt x="169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3657600"/>
            <a:ext cx="381240" cy="312840"/>
          </a:xfrm>
          <a:custGeom>
            <a:avLst/>
            <a:gdLst>
              <a:gd name="textAreaLeft" fmla="*/ 127080 w 381240"/>
              <a:gd name="textAreaRight" fmla="*/ 299520 w 381240"/>
              <a:gd name="textAreaTop" fmla="*/ 204840 h 312840"/>
              <a:gd name="textAreaBottom" fmla="*/ 245880 h 312840"/>
            </a:gdLst>
            <a:ahLst/>
            <a:rect l="textAreaLeft" t="textAreaTop" r="textAreaRight" b="textAreaBottom"/>
            <a:pathLst>
              <a:path w="21600" h="21600">
                <a:moveTo>
                  <a:pt x="0" y="18772"/>
                </a:moveTo>
                <a:lnTo>
                  <a:pt x="14143" y="18772"/>
                </a:lnTo>
                <a:lnTo>
                  <a:pt x="14143" y="7200"/>
                </a:lnTo>
                <a:lnTo>
                  <a:pt x="9514" y="7200"/>
                </a:lnTo>
                <a:lnTo>
                  <a:pt x="15557" y="0"/>
                </a:lnTo>
                <a:lnTo>
                  <a:pt x="21600" y="7200"/>
                </a:lnTo>
                <a:lnTo>
                  <a:pt x="16971" y="7200"/>
                </a:lnTo>
                <a:lnTo>
                  <a:pt x="169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62120" y="1295280"/>
            <a:ext cx="58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find the pen?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 wrote with it just no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411480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find the pe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ith whic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wrote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ust n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2666880"/>
            <a:ext cx="647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find the pe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which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wro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 just now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533520"/>
            <a:ext cx="7848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3. which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指物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作主语或宾语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作宾语可省略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如介词提前则不能省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1600200"/>
            <a:ext cx="739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se are the trees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hic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were pla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st ye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27432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recorder 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hich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using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de in Japa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3886200"/>
            <a:ext cx="743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this the library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which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borrow books fr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65040" y="5454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4400" y="5105520"/>
            <a:ext cx="736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this the library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from whic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bor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ok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65040" y="2916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69640" y="1143000"/>
            <a:ext cx="57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that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指人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物，作主语或宾语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作宾语可省略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3640" y="4821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20574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lane is a machine. It can f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62040" y="2681280"/>
            <a:ext cx="61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lane is a machine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an f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414504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the man. I told you about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49831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the ma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that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told you ab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0880" y="21337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the ma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that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told you ab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3429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Monotype Sorts"/>
                <a:ea typeface="Monotype Sorts"/>
              </a:rPr>
              <a:t>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注意：介词提前时只能用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which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而不能用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that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64960" y="790560"/>
            <a:ext cx="637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that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指人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物，作主语或宾语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作宾语可省略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5840" y="1447920"/>
            <a:ext cx="59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lane is a machine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an f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30040" y="4191120"/>
            <a:ext cx="7610400" cy="990360"/>
            <a:chOff x="230040" y="4191120"/>
            <a:chExt cx="7610400" cy="990360"/>
          </a:xfrm>
        </p:grpSpPr>
        <p:grpSp>
          <p:nvGrpSpPr>
            <p:cNvPr id="191" name=""/>
            <p:cNvGrpSpPr/>
            <p:nvPr/>
          </p:nvGrpSpPr>
          <p:grpSpPr>
            <a:xfrm>
              <a:off x="3048120" y="4724280"/>
              <a:ext cx="1143000" cy="457200"/>
              <a:chOff x="3048120" y="4724280"/>
              <a:chExt cx="1143000" cy="457200"/>
            </a:xfrm>
          </p:grpSpPr>
          <p:sp>
            <p:nvSpPr>
              <p:cNvPr id="192" name=""/>
              <p:cNvSpPr/>
              <p:nvPr/>
            </p:nvSpPr>
            <p:spPr>
              <a:xfrm>
                <a:off x="3048120" y="4724280"/>
                <a:ext cx="1143000" cy="45720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3048120" y="4724280"/>
                <a:ext cx="1143000" cy="4060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230040" y="4191120"/>
              <a:ext cx="7610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Is this the library 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from which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you borrow books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                              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from tha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28600" y="304920"/>
            <a:ext cx="799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which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在指物的情况下一般都可以互换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但在下列情况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一般用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而不用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which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22240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am sure she has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somethi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(that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can b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7680" y="3657600"/>
            <a:ext cx="74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’ve read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al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books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re not min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481500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the fir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ook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(that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has r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59436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the ver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ook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elongs to h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2920" y="1371600"/>
            <a:ext cx="705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先行词为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all, everything, nothing, somethin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anything, little, much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等不定代词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2800" y="2819520"/>
            <a:ext cx="742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先行词被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all, every, no, some, any, little, much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修饰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20840" y="4357800"/>
            <a:ext cx="388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(3)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先行词被序数词或最高级修饰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73520" y="5486400"/>
            <a:ext cx="728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(4)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先行词被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the only, the very, the same, the last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修饰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31480" y="457200"/>
            <a:ext cx="3009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and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rong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l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augh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32480" y="106668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69040" y="2743200"/>
            <a:ext cx="25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bo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9200" y="3124080"/>
            <a:ext cx="54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boy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s handso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is 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365760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bo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s tal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is 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41911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boy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s stro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is 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472428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bo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s cle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is 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527220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boy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s naugh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is 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0851000">
            <a:off x="1675800" y="3581280"/>
            <a:ext cx="2514600" cy="152640"/>
          </a:xfrm>
          <a:custGeom>
            <a:avLst/>
            <a:gdLst>
              <a:gd name="textAreaLeft" fmla="*/ 507240 w 2514600"/>
              <a:gd name="textAreaRight" fmla="*/ 1755720 w 2514600"/>
              <a:gd name="textAreaTop" fmla="*/ 20160 h 152640"/>
              <a:gd name="textAreaBottom" fmla="*/ 132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0851000">
            <a:off x="1676520" y="4108320"/>
            <a:ext cx="1828800" cy="152640"/>
          </a:xfrm>
          <a:custGeom>
            <a:avLst/>
            <a:gdLst>
              <a:gd name="textAreaLeft" fmla="*/ 369000 w 1828800"/>
              <a:gd name="textAreaRight" fmla="*/ 1276920 w 1828800"/>
              <a:gd name="textAreaTop" fmla="*/ 20160 h 152640"/>
              <a:gd name="textAreaBottom" fmla="*/ 132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51000">
            <a:off x="1676520" y="4641480"/>
            <a:ext cx="1828800" cy="152280"/>
          </a:xfrm>
          <a:custGeom>
            <a:avLst/>
            <a:gdLst>
              <a:gd name="textAreaLeft" fmla="*/ 369000 w 1828800"/>
              <a:gd name="textAreaRight" fmla="*/ 1276920 w 18288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51000">
            <a:off x="1750680" y="5171400"/>
            <a:ext cx="1752480" cy="160200"/>
          </a:xfrm>
          <a:custGeom>
            <a:avLst/>
            <a:gdLst>
              <a:gd name="textAreaLeft" fmla="*/ 353520 w 1752480"/>
              <a:gd name="textAreaRight" fmla="*/ 1223640 w 1752480"/>
              <a:gd name="textAreaTop" fmla="*/ 21240 h 160200"/>
              <a:gd name="textAreaBottom" fmla="*/ 138960 h 160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0851000">
            <a:off x="1676520" y="5708520"/>
            <a:ext cx="1828800" cy="152640"/>
          </a:xfrm>
          <a:custGeom>
            <a:avLst/>
            <a:gdLst>
              <a:gd name="textAreaLeft" fmla="*/ 369000 w 1828800"/>
              <a:gd name="textAreaRight" fmla="*/ 1276920 w 1828800"/>
              <a:gd name="textAreaTop" fmla="*/ 20160 h 152640"/>
              <a:gd name="textAreaBottom" fmla="*/ 132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653040"/>
            <a:ext cx="8229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(1) The scientist is very famous in the world. </a:t>
            </a:r>
            <a:br>
              <a:rPr sz="2800"/>
            </a:b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      </a:t>
            </a:r>
            <a:r>
              <a:rPr b="1" lang="zh-CN" sz="2800" spc="-1" strike="noStrike" u="sng">
                <a:solidFill>
                  <a:srgbClr val="003300"/>
                </a:solidFill>
                <a:uFillTx/>
                <a:latin typeface="Times New Roman"/>
              </a:rPr>
              <a:t>We met her yesterday.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1704960"/>
            <a:ext cx="815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cientist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we met yesterday is very famous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who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th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  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wh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  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320" y="390060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2) The dress is new.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e is wear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4800600"/>
            <a:ext cx="6096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dress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she is wearing is n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28600" y="99072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3) He is the kind person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ve ever worked with him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44197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4) This is the best film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ve ever seen this fil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1981080"/>
            <a:ext cx="8077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e is the kind person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I have ever worked wi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                                  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who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                                     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495288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is the best film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 have ever se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905120" y="5181480"/>
            <a:ext cx="46479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33cc"/>
                  </a:solidFill>
                  <a:miter/>
                </a:ln>
                <a:solidFill>
                  <a:srgbClr val="cc99ff"/>
                </a:solidFill>
                <a:latin typeface="Comic Sans MS"/>
              </a:rPr>
              <a:t>THE END</a:t>
            </a:r>
            <a:endParaRPr b="1" lang="en-US" sz="2400" spc="1" strike="noStrike">
              <a:ln w="9360">
                <a:solidFill>
                  <a:srgbClr val="ff33cc"/>
                </a:solidFill>
                <a:miter/>
              </a:ln>
              <a:solidFill>
                <a:srgbClr val="cc99ff"/>
              </a:solidFill>
              <a:latin typeface="Comic Sans MS"/>
              <a:ea typeface="Comic Sans MS"/>
            </a:endParaRPr>
          </a:p>
        </p:txBody>
      </p:sp>
    </p:spTree>
  </p:cSld>
  <p:transition spd="slow">
    <p:dissolve/>
    <p:sndAc>
      <p:stSnd>
        <p:snd r:embed="rId2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z2" descr=""/>
          <p:cNvPicPr/>
          <p:nvPr/>
        </p:nvPicPr>
        <p:blipFill>
          <a:blip r:embed="rId1"/>
          <a:stretch/>
        </p:blipFill>
        <p:spPr>
          <a:xfrm>
            <a:off x="0" y="468360"/>
            <a:ext cx="89154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2280" y="34776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y is Tom.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boy is smil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25020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y is Tom.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boy has a round fa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14300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boy </a:t>
            </a:r>
            <a:r>
              <a:rPr b="1" i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is smil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is T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主语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3720" y="3124080"/>
            <a:ext cx="675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y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has a round fa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T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9960" y="344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464832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y is Tom.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e sits in front of m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53341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an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sits in front of m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To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0851000">
            <a:off x="990000" y="837720"/>
            <a:ext cx="3476520" cy="304920"/>
          </a:xfrm>
          <a:custGeom>
            <a:avLst/>
            <a:gdLst>
              <a:gd name="textAreaLeft" fmla="*/ 701280 w 3476520"/>
              <a:gd name="textAreaRight" fmla="*/ 2427480 w 34765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41911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41148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woman got the job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woman can speak Russia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6002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woman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can speak Russia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t the jo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320" y="297180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eacher will give us a talk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teacher is famou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411480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eacher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s famou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wil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ve us a tal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4320" y="119160"/>
            <a:ext cx="72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an is kind.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one likes hi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106668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man 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)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everyone like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is k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宾语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20968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woman got the job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e saw her on the stree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32004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woma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m)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we saw on the stree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t the jo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4419720"/>
            <a:ext cx="67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eacher will give us a talk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e met the teacher yesterda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5486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eacher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m)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we met yesterda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will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ve us a tal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51000">
            <a:off x="789840" y="609120"/>
            <a:ext cx="3476520" cy="304920"/>
          </a:xfrm>
          <a:custGeom>
            <a:avLst/>
            <a:gdLst>
              <a:gd name="textAreaLeft" fmla="*/ 701280 w 3476520"/>
              <a:gd name="textAreaRight" fmla="*/ 2427480 w 34765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609480"/>
            <a:ext cx="579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boy is in the lab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 talk to hi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17668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y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m)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you want to talk t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in the la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9098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y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to whom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you want  to tal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in the la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44197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is the boy.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 sit behind hi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50752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is the boy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m)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I sit beh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568476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is the boy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behind whom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I s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6094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91440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 is the teacher.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teacher can speak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Frenc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20113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the teacher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h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an speak  Fren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327672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know the man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e came to visit you toda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343400"/>
            <a:ext cx="74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know the ma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h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ame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sit you to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0851000">
            <a:off x="2237760" y="1447920"/>
            <a:ext cx="3476520" cy="304560"/>
          </a:xfrm>
          <a:custGeom>
            <a:avLst/>
            <a:gdLst>
              <a:gd name="textAreaLeft" fmla="*/ 701280 w 3476520"/>
              <a:gd name="textAreaRight" fmla="*/ 2427480 w 347652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52280" y="6858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lady stepped on his foot.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He was dancing with the lad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190512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lady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whom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e was dancing wit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ped on his fo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3429000"/>
            <a:ext cx="609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o you know the man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You will visit him toda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44956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know the ma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ho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wil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sit to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6T11:32:25Z</dcterms:created>
  <dc:creator>余青</dc:creator>
  <dc:description/>
  <dc:language>en-US</dc:language>
  <cp:lastModifiedBy>a</cp:lastModifiedBy>
  <dcterms:modified xsi:type="dcterms:W3CDTF">2001-03-06T02:53:07Z</dcterms:modified>
  <cp:revision>67</cp:revision>
  <dc:subject/>
  <dc:title>定语从句关系代词that which who whom whose 1. That 指人/物， 作主语或宾语    A plane is a machine. It can fly.    He is the man. I told you about him. 2. Which 指人/物， 作主语或宾语    There are the trees. They were planted last year.    This recorder is made in Japan. He is using it. 3. Who指人,作主语; whom指人,作宾语    A person is called a thief. He steals things.    The man is Professor Li. I nodded to him. 4. Whose指人/物， 起物主代词作用    I want the book. It’s cover is blue.    This is the girl. Her pronunciation is the best.</dc:title>
</cp:coreProperties>
</file>