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0.png" ContentType="image/png"/>
  <Override PartName="/ppt/media/image5.wmf" ContentType="image/x-wmf"/>
  <Override PartName="/ppt/media/image21.wmf" ContentType="image/x-wmf"/>
  <Override PartName="/ppt/media/image4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gif" ContentType="image/gif"/>
  <Override PartName="/ppt/media/image6.png" ContentType="image/png"/>
  <Override PartName="/ppt/media/image19.jpeg" ContentType="image/jpeg"/>
  <Override PartName="/ppt/media/image11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0B3B-C3ED-44BA-B283-7BC49812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961E-5772-486D-A79A-8E2EB083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544D-A998-4FD9-A850-E1F21FBD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E5BA-E743-4364-BC02-22A9899F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C213-C65F-422C-924D-F879AE99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DD7C-2E0C-4565-B104-233ECD63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D6E6-847F-48FB-B2B7-1232630A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A346-FB81-4CB7-9CBC-036C0436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E391-9434-4D6D-A590-56FCE18A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6D5E-3FA4-42E5-A4B7-EE766770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BD49-1F03-441B-A611-1C3AED30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C426-4144-4A74-B1DB-365CB177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5A34-66FA-4134-8850-90CF1971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A4BE-27CA-4240-846D-4083CBF6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7F46-C8EC-4CBA-96CE-2641C23B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ED62-BE8E-415E-9314-56D379B7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2647-5132-427E-8169-9B487F8B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CA33-1DD7-49CA-B38E-02E71517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9FA3-A304-4237-99FA-413E71B5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1991-1702-4923-9B6F-D0F43B18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1712-D7D9-42D5-B14A-18DD7974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28BB-86D6-4029-8FE8-361126EF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BA6D-639A-461D-9018-C808CAAC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505B-318B-4AA5-89BE-93B4B642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7AFD-4F43-4214-A9E9-86EBF6C087E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6689-3ED1-4345-82A0-53594B3DB3E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219320"/>
            <a:ext cx="106678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             </a:t>
            </a: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Unit 21.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What are you doing?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419112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Lesson 84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60958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焦作市第二十中学    张福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371600" y="3049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Times New Roman"/>
              </a:rPr>
              <a:t>.Corret the sentenc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38088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06668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.I cleaning the house now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259092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2.He is listen to m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41148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3.He is write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556272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4.They are run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17524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am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cleaning the house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32767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 listeni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o 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4876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writ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62164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y are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runn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E03166_" descr=""/>
          <p:cNvPicPr/>
          <p:nvPr/>
        </p:nvPicPr>
        <p:blipFill>
          <a:blip r:embed="rId1"/>
          <a:stretch/>
        </p:blipFill>
        <p:spPr>
          <a:xfrm>
            <a:off x="5638680" y="3276720"/>
            <a:ext cx="2819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9320" y="0"/>
            <a:ext cx="66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imes New Roman"/>
              </a:rPr>
              <a:t>.Ask and answer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30492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9144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What’s he/she doing?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5'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2438280" cy="2133360"/>
          </a:xfrm>
          <a:prstGeom prst="rect">
            <a:avLst/>
          </a:prstGeom>
          <a:ln w="0">
            <a:noFill/>
          </a:ln>
        </p:spPr>
      </p:pic>
      <p:pic>
        <p:nvPicPr>
          <p:cNvPr id="233" name="6'" descr=""/>
          <p:cNvPicPr/>
          <p:nvPr/>
        </p:nvPicPr>
        <p:blipFill>
          <a:blip r:embed="rId2"/>
          <a:stretch/>
        </p:blipFill>
        <p:spPr>
          <a:xfrm>
            <a:off x="1219320" y="434340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234" name="7'" descr=""/>
          <p:cNvPicPr/>
          <p:nvPr/>
        </p:nvPicPr>
        <p:blipFill>
          <a:blip r:embed="rId3"/>
          <a:stretch/>
        </p:blipFill>
        <p:spPr>
          <a:xfrm>
            <a:off x="5791320" y="1905120"/>
            <a:ext cx="2438280" cy="2133360"/>
          </a:xfrm>
          <a:prstGeom prst="rect">
            <a:avLst/>
          </a:prstGeom>
          <a:ln w="0">
            <a:noFill/>
          </a:ln>
        </p:spPr>
      </p:pic>
      <p:pic>
        <p:nvPicPr>
          <p:cNvPr id="235" name="8'" descr=""/>
          <p:cNvPicPr/>
          <p:nvPr/>
        </p:nvPicPr>
        <p:blipFill>
          <a:blip r:embed="rId4"/>
          <a:stretch/>
        </p:blipFill>
        <p:spPr>
          <a:xfrm>
            <a:off x="5791320" y="4267080"/>
            <a:ext cx="2438280" cy="2286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190512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426708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76920" y="19051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7692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62120" y="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What are they doing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1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20040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222" descr=""/>
          <p:cNvPicPr/>
          <p:nvPr/>
        </p:nvPicPr>
        <p:blipFill>
          <a:blip r:embed="rId2"/>
          <a:stretch/>
        </p:blipFill>
        <p:spPr>
          <a:xfrm>
            <a:off x="5638680" y="1295280"/>
            <a:ext cx="3200400" cy="2514600"/>
          </a:xfrm>
          <a:prstGeom prst="rect">
            <a:avLst/>
          </a:prstGeom>
          <a:ln w="0">
            <a:noFill/>
          </a:ln>
        </p:spPr>
      </p:pic>
      <p:pic>
        <p:nvPicPr>
          <p:cNvPr id="243" name="33" descr=""/>
          <p:cNvPicPr/>
          <p:nvPr/>
        </p:nvPicPr>
        <p:blipFill>
          <a:blip r:embed="rId3"/>
          <a:stretch/>
        </p:blipFill>
        <p:spPr>
          <a:xfrm>
            <a:off x="685800" y="4114800"/>
            <a:ext cx="3200400" cy="2438280"/>
          </a:xfrm>
          <a:prstGeom prst="rect">
            <a:avLst/>
          </a:prstGeom>
          <a:ln w="0">
            <a:noFill/>
          </a:ln>
        </p:spPr>
      </p:pic>
      <p:pic>
        <p:nvPicPr>
          <p:cNvPr id="244" name="444" descr=""/>
          <p:cNvPicPr/>
          <p:nvPr/>
        </p:nvPicPr>
        <p:blipFill>
          <a:blip r:embed="rId4"/>
          <a:stretch/>
        </p:blipFill>
        <p:spPr>
          <a:xfrm>
            <a:off x="5715000" y="4038480"/>
            <a:ext cx="3124080" cy="2514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10666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41911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121932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24280" y="4191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981080" y="6858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.Read and act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838080"/>
            <a:ext cx="838440" cy="9144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22096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I.New word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39625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zh-CN" sz="7200" spc="-1" strike="noStrike" u="sng">
                <a:solidFill>
                  <a:srgbClr val="ffffff"/>
                </a:solidFill>
                <a:uFillTx/>
                <a:latin typeface="Times New Roman"/>
              </a:rPr>
              <a:t>ear </a:t>
            </a: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 v. </a:t>
            </a: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穿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62120" y="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i="1" lang="zh-CN" sz="8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zh-CN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zh-CN" sz="7200" spc="-1" strike="noStrike">
                <a:solidFill>
                  <a:srgbClr val="cc3300"/>
                </a:solidFill>
                <a:latin typeface="Times New Roman"/>
              </a:rPr>
              <a:t>wear</a:t>
            </a:r>
            <a:r>
              <a:rPr b="0" i="1" lang="zh-CN" sz="7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7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zh-CN" sz="7200" spc="-1" strike="noStrike">
                <a:solidFill>
                  <a:srgbClr val="cc3300"/>
                </a:solidFill>
                <a:latin typeface="Times New Roman"/>
              </a:rPr>
              <a:t>put 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zj3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362320" cy="3600360"/>
          </a:xfrm>
          <a:prstGeom prst="rect">
            <a:avLst/>
          </a:prstGeom>
          <a:ln w="0">
            <a:noFill/>
          </a:ln>
        </p:spPr>
      </p:pic>
      <p:pic>
        <p:nvPicPr>
          <p:cNvPr id="255" name="zj4" descr=""/>
          <p:cNvPicPr/>
          <p:nvPr/>
        </p:nvPicPr>
        <p:blipFill>
          <a:blip r:embed="rId2"/>
          <a:stretch/>
        </p:blipFill>
        <p:spPr>
          <a:xfrm>
            <a:off x="4952880" y="1219320"/>
            <a:ext cx="2324160" cy="3429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838080" y="5029200"/>
            <a:ext cx="3733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wea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强调状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wearing a coa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00600" y="4876920"/>
            <a:ext cx="3657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put o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强调动作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putting on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oa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04920" y="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III.Question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838080"/>
            <a:ext cx="967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1.What is she wearing? 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5851440"/>
            <a:ext cx="266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Lucy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28800" y="585144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Lily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张晶3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2133720" cy="4191120"/>
          </a:xfrm>
          <a:prstGeom prst="rect">
            <a:avLst/>
          </a:prstGeom>
          <a:ln w="0">
            <a:noFill/>
          </a:ln>
        </p:spPr>
      </p:pic>
      <p:pic>
        <p:nvPicPr>
          <p:cNvPr id="263" name="张晶2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2133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066680" y="45720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Ques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266688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I am coming.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是现在进行时吗？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BD00028_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19047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5335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8000" spc="-1" strike="noStrike">
                <a:solidFill>
                  <a:srgbClr val="ffcc00"/>
                </a:solidFill>
                <a:latin typeface="Times New Roman"/>
              </a:rPr>
              <a:t>.Duty repor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762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75248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1.Who’s on duty today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9718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2.Is everyone here today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4114800"/>
            <a:ext cx="43434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3.What day is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t today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BS00975_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37339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304920"/>
            <a:ext cx="998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cc00"/>
                </a:solidFill>
                <a:latin typeface="Times New Roman"/>
              </a:rPr>
              <a:t>.Spelling and pronuncia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5720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160020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ee  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ousers 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 t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ain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67652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t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16002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tr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28954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nk  hun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ed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8954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d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28954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dr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0384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s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 ca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s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ki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40384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ts/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40384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ts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525780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bir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s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frien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s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525780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ds/d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53341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dz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14400" y="4572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Times New Roman"/>
              </a:rPr>
              <a:t>.Talk about the pictur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09480"/>
            <a:ext cx="838080" cy="7621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E01981_" descr=""/>
          <p:cNvPicPr/>
          <p:nvPr/>
        </p:nvPicPr>
        <p:blipFill>
          <a:blip r:embed="rId1"/>
          <a:stretch/>
        </p:blipFill>
        <p:spPr>
          <a:xfrm>
            <a:off x="0" y="1600200"/>
            <a:ext cx="3505320" cy="5257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124080" y="167652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e woman is </a:t>
            </a:r>
            <a:r>
              <a:rPr b="0" lang="zh-CN" sz="4800" spc="-1" strike="noStrike" u="sng">
                <a:solidFill>
                  <a:srgbClr val="ffffff"/>
                </a:solidFill>
                <a:uFillTx/>
                <a:latin typeface="Times New Roman"/>
              </a:rPr>
              <a:t>ski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00400" y="259092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s the woman ski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35812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Yes,she is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457200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What is the woman       do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BD06518_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504960" cy="5790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68580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They are 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singing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190512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Are they sing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31240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Yes,they ar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4343400"/>
            <a:ext cx="472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What are they do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5028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Arial Black"/>
              </a:rPr>
              <a:t>.Stree and intonat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What is she      do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She’s mending her      bik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What are you       do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I’m cleaning the      wind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Is he singing a      so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Yes,he      is./  No,he      isn’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380880"/>
            <a:ext cx="76176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137160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198108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259092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312408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3809880"/>
            <a:ext cx="685800" cy="228600"/>
          </a:xfrm>
          <a:custGeom>
            <a:avLst/>
            <a:gdLst>
              <a:gd name="textAreaLeft" fmla="*/ 119880 w 685800"/>
              <a:gd name="textAreaRight" fmla="*/ 497160 w 685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5029200"/>
            <a:ext cx="685800" cy="228600"/>
          </a:xfrm>
          <a:custGeom>
            <a:avLst/>
            <a:gdLst>
              <a:gd name="textAreaLeft" fmla="*/ 119880 w 685800"/>
              <a:gd name="textAreaRight" fmla="*/ 497160 w 685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66880" y="434340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434340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556272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53080" y="556272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1143000"/>
            <a:ext cx="0" cy="22860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1828800"/>
            <a:ext cx="0" cy="22860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2362320"/>
            <a:ext cx="0" cy="22860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30481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365760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41911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41911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48769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5410080"/>
            <a:ext cx="0" cy="15264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76920" y="5410080"/>
            <a:ext cx="0" cy="15264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777240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zh-CN" sz="6600" spc="-1" strike="noStrike">
                <a:solidFill>
                  <a:srgbClr val="ffcc00"/>
                </a:solidFill>
                <a:latin typeface="Arial Black"/>
              </a:rPr>
              <a:t>.Grammer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Using the Present Continuous Tense(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使用现在进行时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现在进行时表示现在（说话瞬间）正在进行或发生的动作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谓语结构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be(am,is,are)+do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否定式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be(am,is,are)+not+do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疑问式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Be(Am,Is,Are)+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主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+do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re they  playing      footba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Yes,they      are./  No,they     aren’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304920"/>
            <a:ext cx="68580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动词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-ing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形式的构成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85800" y="914400"/>
          <a:ext cx="7772400" cy="56451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一般在动词原形后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以不发音的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结尾的，去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，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重读闭音节以一个辅音字母结尾的，双写这一字母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t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nn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mm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1932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.Add –ing to the following 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45720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371600"/>
            <a:ext cx="28195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loo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in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av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atc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aw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1273320"/>
            <a:ext cx="2438280" cy="51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in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or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giv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fl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129528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loo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236232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in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350532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av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45720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atch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571500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aw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12952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in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81680" y="23623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or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0" y="350532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giv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0" y="45720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fly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34320" y="563868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6T07:54:41Z</dcterms:created>
  <dc:creator>user5</dc:creator>
  <dc:description/>
  <dc:language>en-US</dc:language>
  <cp:lastModifiedBy>user</cp:lastModifiedBy>
  <dcterms:modified xsi:type="dcterms:W3CDTF">2002-04-09T07:34:48Z</dcterms:modified>
  <cp:revision>47</cp:revision>
  <dc:subject/>
  <dc:title>PowerPoint 演示文稿</dc:title>
</cp:coreProperties>
</file>