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5F8-734F-44B0-BED9-E2C1B483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D7F-4214-47C1-B356-E69CD5F8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F56-4B58-4EB3-B4D8-397716BF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8E0-97F7-4FEA-920E-D2A892AB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5ED-10C2-46EC-9642-2AF0DA2E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47E-589E-4C04-B45F-E16D4994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307-9AFE-4D73-8479-8335FA6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C88-DF8E-4A52-AE4B-8307A02A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461-6E79-492C-BFAE-C6849C08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426-D4B4-4972-B574-4C056933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D13-2532-436A-AE36-B59807F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037-47C2-4498-8A4F-47636DFC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BCE0-A7B7-4AB4-813D-1BCA64B954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10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2209680"/>
            <a:ext cx="1676520" cy="1067040"/>
          </a:xfrm>
          <a:prstGeom prst="cloudCallout">
            <a:avLst>
              <a:gd name="adj1" fmla="val -38634"/>
              <a:gd name="adj2" fmla="val 309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1295280"/>
            <a:ext cx="1295640" cy="213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572000"/>
            <a:ext cx="1600200" cy="533520"/>
          </a:xfrm>
          <a:prstGeom prst="wedgeEllipseCallout">
            <a:avLst>
              <a:gd name="adj1" fmla="val -43750"/>
              <a:gd name="adj2" fmla="val 2586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2658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8024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5200" y="182880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6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5791320"/>
            <a:ext cx="914400" cy="761760"/>
          </a:xfrm>
          <a:prstGeom prst="wedgeRectCallout">
            <a:avLst>
              <a:gd name="adj1" fmla="val -43518"/>
              <a:gd name="adj2" fmla="val 460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648320"/>
            <a:ext cx="914400" cy="609480"/>
          </a:xfrm>
          <a:prstGeom prst="wedgeRectCallout">
            <a:avLst>
              <a:gd name="adj1" fmla="val -43518"/>
              <a:gd name="adj2" fmla="val 700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334120"/>
            <a:ext cx="1219320" cy="609480"/>
          </a:xfrm>
          <a:prstGeom prst="cloudCallout">
            <a:avLst>
              <a:gd name="adj1" fmla="val -4531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486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6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533520"/>
            <a:ext cx="2286000" cy="609480"/>
          </a:xfrm>
          <a:prstGeom prst="wedgeRoundRectCallout">
            <a:avLst>
              <a:gd name="adj1" fmla="val -47500"/>
              <a:gd name="adj2" fmla="val 7005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609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.0/s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710032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838080"/>
            <a:ext cx="1143000" cy="1295640"/>
          </a:xfrm>
          <a:prstGeom prst="wedgeRoundRectCallout">
            <a:avLst>
              <a:gd name="adj1" fmla="val -45000"/>
              <a:gd name="adj2" fmla="val 3002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990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b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710052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10058400" cy="670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380880"/>
            <a:ext cx="2971800" cy="914400"/>
          </a:xfrm>
          <a:prstGeom prst="wedgeEllipseCallout">
            <a:avLst>
              <a:gd name="adj1" fmla="val -48078"/>
              <a:gd name="adj2" fmla="val 30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75480" y="4777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733920"/>
            <a:ext cx="3733920" cy="2361960"/>
          </a:xfrm>
          <a:prstGeom prst="cloudCallout">
            <a:avLst>
              <a:gd name="adj1" fmla="val -48467"/>
              <a:gd name="adj2" fmla="val -19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800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5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10078" descr=""/>
          <p:cNvPicPr/>
          <p:nvPr/>
        </p:nvPicPr>
        <p:blipFill>
          <a:blip r:embed="rId1"/>
          <a:stretch/>
        </p:blipFill>
        <p:spPr>
          <a:xfrm>
            <a:off x="0" y="-228600"/>
            <a:ext cx="853452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3962520"/>
            <a:ext cx="3504960" cy="609480"/>
          </a:xfrm>
          <a:prstGeom prst="cloudCallout">
            <a:avLst>
              <a:gd name="adj1" fmla="val -4837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1560" y="39830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0/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0:24:26Z</dcterms:created>
  <dc:creator>Star</dc:creator>
  <dc:description/>
  <dc:language>en-US</dc:language>
  <cp:lastModifiedBy>Star</cp:lastModifiedBy>
  <dcterms:modified xsi:type="dcterms:W3CDTF">2002-05-13T10:43:05Z</dcterms:modified>
  <cp:revision>4</cp:revision>
  <dc:subject/>
  <dc:title>PowerPoint 演示文稿</dc:title>
</cp:coreProperties>
</file>