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504-065D-4FFE-9D52-CC62692C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EE4-CDA6-4ADA-895B-98D66CEF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AAB-9F71-4173-BE3B-D8963976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858-2C06-4589-9A2F-F9224704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8884-6D97-4570-B53A-2907DAD4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815E-AB5C-400B-8B1D-BDC0D31B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D58E-CC4B-4934-99B5-0495FE58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4B23-6501-46D3-8C2B-A83A63DA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45DF-BD1E-4F72-833B-01BD9C4A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51B0-1BC5-4CC6-89BA-6AAF00A8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3571-72DA-4623-9DDA-DB2FB6AC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185-FE6D-481D-8B87-758E5DC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754D-6B6A-4F42-9FF4-D8DD7EB6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5141-B82F-478A-BCC6-396848A0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B4FD-31EE-40B1-8192-12FDA266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7CD2-3C00-4841-A440-A63CE512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1DE7-9C68-4456-B492-9DC21F19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C60-986B-49B4-8B03-7E4761DC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6D8-063F-4CFD-9154-722E9516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129-F8E8-4FE6-8486-B450F78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8B3-DF70-4C00-856E-45165794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713-495A-4E3D-99A6-E6881C4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22B-2E22-46AF-929C-19B3C2D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69B-FEE4-42B2-932F-E9A8710B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A394-051C-4B39-94F7-2522F0DEF24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733E-97E1-4241-8F99-C6C572199E6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2Z</dcterms:modified>
  <cp:revision>109</cp:revision>
  <dc:subject/>
  <dc:title>Unit 19 A freedom fighter (continued)</dc:title>
</cp:coreProperties>
</file>