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FC5-6623-4A62-9F58-8F685156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EB2-24AE-4EE8-B1DF-55402360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1BC-AA0C-4A2D-8EBC-8E611D82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C68-C2C9-4FCE-971F-66588A13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5D78-6913-4948-9745-AAED859B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21E9-9EA1-4614-BF9C-5F21E41A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288A-F653-4703-9D7B-B90820FD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7F7C-4F8E-42A4-BF4F-F9473C2D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D871-2EE4-40B0-9DCB-3219D8C5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C4EC-10D1-4CC2-8293-4B5D5D75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8349-688E-4490-A1CF-36A7FB53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254-F474-4106-ACDE-7516F481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8995-A865-4CEB-B8F6-1569541C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436D-2390-42EB-8783-373F7E17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9779-8B91-4393-84AF-4C031AFC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47E0-ED07-4123-8DD2-F03AFF8C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4055-6016-4F95-89D8-469B4DBA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3BD-27EE-4CAF-9479-3C10BADB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F4A-DB93-4AB3-BABB-265F1223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0F5D-39D8-454F-A9B2-0091F2C6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606-0EBE-4599-9948-14A9C7A1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02E-A0DF-469A-B7F9-2E67BBB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FAB-750A-4D7E-A407-7597F674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718-9E88-4434-83ED-1A339CE6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F831-DC0F-4A7B-9D3F-4F48BAE1E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A5F0-09FF-4DE1-94BC-A5331E175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762120"/>
            <a:ext cx="8534160" cy="2669400"/>
            <a:chOff x="304920" y="762120"/>
            <a:chExt cx="8534160" cy="2669400"/>
          </a:xfrm>
        </p:grpSpPr>
        <p:sp>
          <p:nvSpPr>
            <p:cNvPr id="84" name=""/>
            <p:cNvSpPr/>
            <p:nvPr/>
          </p:nvSpPr>
          <p:spPr>
            <a:xfrm>
              <a:off x="304920" y="251460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3399"/>
                  </a:solidFill>
                  <a:latin typeface="Times New Roman"/>
                </a:rPr>
                <a:t>          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－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Directed by Qiu Ho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8640" y="762120"/>
              <a:ext cx="65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3399"/>
                  </a:solidFill>
                  <a:latin typeface="Times New Roman"/>
                </a:rPr>
                <a:t>The Attributive Claus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59320" y="1752480"/>
              <a:ext cx="347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00"/>
                  </a:solidFill>
                  <a:latin typeface="Times New Roman"/>
                </a:rPr>
                <a:t>定语从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6160"/>
            <a:ext cx="746748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 Black"/>
              </a:rPr>
              <a:t>Which boy do you like better?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z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关系代词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 wh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I talked with is 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eals things is called a th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 whom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可省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如介词提前则不能省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73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whom/wh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nodded to is Mr.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49831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o w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is Professor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59400" y="1600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214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680" y="31240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24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y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451008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95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51000">
            <a:off x="1295280" y="36568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51000">
            <a:off x="1295280" y="43426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51000">
            <a:off x="1295280" y="50284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51000">
            <a:off x="1295280" y="57142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93816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248520" y="1066680"/>
          <a:ext cx="16207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066680"/>
                    <a:ext cx="162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637200"/>
            <a:ext cx="7315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Mrs. Clark is angry with the goat.   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The goat is eating her flower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736640" y="207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Clark is angry with the go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ating her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6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81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talked about it last n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ed about las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1055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bout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talked last n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295280"/>
            <a:ext cx="380880" cy="312840"/>
          </a:xfrm>
          <a:custGeom>
            <a:avLst/>
            <a:gdLst>
              <a:gd name="textAreaLeft" fmla="*/ 127080 w 380880"/>
              <a:gd name="textAreaRight" fmla="*/ 299520 w 38088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657600"/>
            <a:ext cx="381240" cy="312840"/>
          </a:xfrm>
          <a:custGeom>
            <a:avLst/>
            <a:gdLst>
              <a:gd name="textAreaLeft" fmla="*/ 127080 w 381240"/>
              <a:gd name="textAreaRight" fmla="*/ 299520 w 38124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2952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wrote with it just n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14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just n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335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whic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物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介词提前则不能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are the tree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re pl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corder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us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in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86200"/>
            <a:ext cx="74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 books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545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400" y="510552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rom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50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9640" y="1143000"/>
            <a:ext cx="57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. It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040" y="268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145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. I told you abou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983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133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注意：介词提前时只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whi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而不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4960" y="79056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5840" y="144792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30040" y="4191120"/>
            <a:ext cx="7610400" cy="990360"/>
            <a:chOff x="230040" y="4191120"/>
            <a:chExt cx="7610400" cy="990360"/>
          </a:xfrm>
        </p:grpSpPr>
        <p:grpSp>
          <p:nvGrpSpPr>
            <p:cNvPr id="191" name=""/>
            <p:cNvGrpSpPr/>
            <p:nvPr/>
          </p:nvGrpSpPr>
          <p:grpSpPr>
            <a:xfrm>
              <a:off x="3048120" y="4724280"/>
              <a:ext cx="1143000" cy="457200"/>
              <a:chOff x="3048120" y="4724280"/>
              <a:chExt cx="11430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3048120" y="4724280"/>
                <a:ext cx="114300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048120" y="4724280"/>
                <a:ext cx="1143000" cy="406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30040" y="4191120"/>
              <a:ext cx="761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Is this the library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whic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you borrow book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               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t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04920"/>
            <a:ext cx="79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指物的情况下一般都可以互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般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不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sure she ha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ometh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b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680" y="365760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ve rea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book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not m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81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ha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ve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longs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" y="1371600"/>
            <a:ext cx="70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thing, nothing, some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nything, little, mu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不定代词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2800" y="281952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, no, some, any, little, muc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0840" y="43578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序数词或最高级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73520" y="5486400"/>
            <a:ext cx="72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e only, the very, the same, the las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1480" y="457200"/>
            <a:ext cx="300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nd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ong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ugh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2480" y="10666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9040" y="274320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9200" y="312408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hand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657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ta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191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st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724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cl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722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naugh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51000">
            <a:off x="1675800" y="3581280"/>
            <a:ext cx="2514600" cy="152640"/>
          </a:xfrm>
          <a:custGeom>
            <a:avLst/>
            <a:gdLst>
              <a:gd name="textAreaLeft" fmla="*/ 507240 w 2514600"/>
              <a:gd name="textAreaRight" fmla="*/ 1755720 w 2514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51000">
            <a:off x="1676520" y="41083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51000">
            <a:off x="1676520" y="4641480"/>
            <a:ext cx="1828800" cy="15228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51000">
            <a:off x="1750680" y="5171400"/>
            <a:ext cx="1752480" cy="160200"/>
          </a:xfrm>
          <a:custGeom>
            <a:avLst/>
            <a:gdLst>
              <a:gd name="textAreaLeft" fmla="*/ 353520 w 1752480"/>
              <a:gd name="textAreaRight" fmla="*/ 1223640 w 1752480"/>
              <a:gd name="textAreaTop" fmla="*/ 21240 h 160200"/>
              <a:gd name="textAreaBottom" fmla="*/ 138960 h 16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51000">
            <a:off x="1676520" y="57085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53040"/>
            <a:ext cx="8229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(1) The scientist is very famous in the world.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Times New Roman"/>
              </a:rPr>
              <a:t>We met her yesterday.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704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ientis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we met yesterday is very famou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39006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The dress is new.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e is wear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80060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es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e is wearing is n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990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He is the kind pers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worked with him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41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This is the best film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seen this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the kind person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have ever work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952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have ever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18148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z2" descr=""/>
          <p:cNvPicPr/>
          <p:nvPr/>
        </p:nvPicPr>
        <p:blipFill>
          <a:blip r:embed="rId1"/>
          <a:stretch/>
        </p:blipFill>
        <p:spPr>
          <a:xfrm>
            <a:off x="0" y="468360"/>
            <a:ext cx="891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477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is smi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02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smil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3720" y="31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648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51000">
            <a:off x="990000" y="8377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191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114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oman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971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148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4320" y="119160"/>
            <a:ext cx="72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is kind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one likes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everyone lik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k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saw her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saw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197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met the teacher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486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met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51000">
            <a:off x="789840" y="6091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is in the la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 talk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7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to talk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09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o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 to ta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19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sit behind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75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6847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hind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is the teacher.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can spea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n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speak 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276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came to visit you to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434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you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51000">
            <a:off x="2237760" y="1447920"/>
            <a:ext cx="3476520" cy="30456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dy stepped on his foot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was dancing with the l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05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d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om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was dancing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ped on his f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4290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m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ill visit him tod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495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1:32:25Z</dcterms:created>
  <dc:creator>余青</dc:creator>
  <dc:description/>
  <dc:language>en-US</dc:language>
  <cp:lastModifiedBy>a</cp:lastModifiedBy>
  <dcterms:modified xsi:type="dcterms:W3CDTF">2001-03-06T02:53:07Z</dcterms:modified>
  <cp:revision>67</cp:revision>
  <dc:subject/>
  <dc:title>定语从句关系代词that which who whom whose 1. That 指人/物， 作主语或宾语    A plane is a machine. It can fly.    He is the man. I told you about him. 2. Which 指人/物， 作主语或宾语    There are the trees. They were planted last year.    This recorder is made in Japan. He is using it. 3. Who指人,作主语; whom指人,作宾语    A person is called a thief. He steals things.    The man is Professor Li. I nodded to him. 4. Whose指人/物， 起物主代词作用    I want the book. It’s cover is blue.    This is the girl. Her pronunciation is the best.</dc:title>
</cp:coreProperties>
</file>