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8F3-23FE-499E-A43C-7241CB9F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291-5707-45A1-9523-9D5AEFBE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38D-7861-4F41-8B09-BD922C9A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F5E-90C3-4C12-BEFA-E8624473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9C1B-8C93-4649-BC34-A221A59B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5544-E7D4-4207-A2A7-FB145B0C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6318-38DD-4692-BDCF-E9B994A6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A70A-7CE6-4BDE-BD16-CFD14CB0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D5A4-2EEA-4EB3-9636-22841647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3769-A012-47A7-813C-6DD7B1D0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25AE-E0D9-42C0-B9AA-756238F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9B4-3FDD-4623-83BB-C1D00B85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5DD8-9884-4D62-8EDD-A3808A3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2FEF-2D96-4AFC-99AB-045471C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013E-A203-45E1-B147-7DDFDCB6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219D-E81C-4F1D-B36E-E05367DB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B0E7-76CF-4131-BDC5-BA6DDCBF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C8D-089F-4055-AB26-1696E141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625-611B-43AD-8FB5-EB8796FB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C57-DD38-4FB6-8A4C-A3B06441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D98-78D7-4116-A828-7DB22729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5C5-200E-4CE5-A50C-45490D0B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3AC-AB21-4875-BCED-098A15DB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A9D-0BC3-497D-8F1F-28CAE5AE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DF2D-EA4B-453A-B489-E7DE904784B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82FB-F7B0-4249-974A-32E49DEB834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5Z</dcterms:modified>
  <cp:revision>102</cp:revision>
  <dc:subject/>
  <dc:title>Unit 19 A freedom fighter (continued)</dc:title>
</cp:coreProperties>
</file>