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0.png" ContentType="image/png"/>
  <Override PartName="/ppt/media/image5.wmf" ContentType="image/x-wmf"/>
  <Override PartName="/ppt/media/image21.wmf" ContentType="image/x-wmf"/>
  <Override PartName="/ppt/media/image4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E67-3CD5-481B-876A-9E450354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473-27B1-4655-AB26-12BADD8E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C6E-7074-4C48-BBA6-34A7EF21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2A2-8273-49EA-80E4-DD675813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FAE1-4F5D-452F-A0C2-42D6409D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F0AE-3261-49CB-B1A0-EE660E70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BCE5-8E9B-4A08-B537-C0A37266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399A-94B9-4E30-92E1-9682C2F8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1A15-9551-4B63-935F-DE823E7C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78F4-E82B-4829-A559-0E965C33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8373-45D6-4E99-BF92-6C63C192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8DD-F5FD-43B8-AD87-86CB4511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646D-79A3-4E59-8386-194C7E5D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CB19-F2D5-4EB4-A099-76BE7D8C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1754-FA27-417B-B5BD-6FDE6EF0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1E2D-AD75-4A57-84B3-240EC72B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74A7-37C4-431B-B931-8F7E7E44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CA6-C98D-4A77-840E-8C60228F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CBC-113D-45F0-B1FD-D00CF1E8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27A-00D2-419C-9F55-97849597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494-B90F-40E1-90FE-3B737BB3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F5D-ACB6-4E79-8DC2-30824A27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9F9-34C0-4667-83EC-D66013BF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485-C6DA-4F1A-8AB4-9F37510A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034B-DA5B-465D-A43E-459C807D01C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A224-E830-47E5-B212-0F5E8873649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219320"/>
            <a:ext cx="10667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Unit 21.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What are you doing?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419112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Lesson 84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60958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焦作市第二十中学    张福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1600" y="3049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Corret the sentenc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8088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0666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.I cleaning the house now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5909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.He is listen to m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41148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.He is write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56272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.They are run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7524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am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cleaning the house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276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 listen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4876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rit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62164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run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E03166_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819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</a:rPr>
              <a:t>.Ask and answe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30492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914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What’s he/she doing?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5'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3" name="6'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234" name="7'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5" name="8'" descr=""/>
          <p:cNvPicPr/>
          <p:nvPr/>
        </p:nvPicPr>
        <p:blipFill>
          <a:blip r:embed="rId4"/>
          <a:stretch/>
        </p:blipFill>
        <p:spPr>
          <a:xfrm>
            <a:off x="5791320" y="426708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19051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2670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19051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1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222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3" name="33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244" name="444" descr=""/>
          <p:cNvPicPr/>
          <p:nvPr/>
        </p:nvPicPr>
        <p:blipFill>
          <a:blip r:embed="rId4"/>
          <a:stretch/>
        </p:blipFill>
        <p:spPr>
          <a:xfrm>
            <a:off x="5715000" y="403848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0666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1911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12193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981080" y="6858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.Read and act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838080"/>
            <a:ext cx="83844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22096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.New wor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9625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zh-CN" sz="7200" spc="-1" strike="noStrike" u="sng">
                <a:solidFill>
                  <a:srgbClr val="ffffff"/>
                </a:solidFill>
                <a:uFillTx/>
                <a:latin typeface="Times New Roman"/>
              </a:rPr>
              <a:t>ear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 v.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穿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i="1" lang="zh-CN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zh-CN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i="1" lang="zh-CN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7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zj3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362320" cy="3600360"/>
          </a:xfrm>
          <a:prstGeom prst="rect">
            <a:avLst/>
          </a:prstGeom>
          <a:ln w="0">
            <a:noFill/>
          </a:ln>
        </p:spPr>
      </p:pic>
      <p:pic>
        <p:nvPicPr>
          <p:cNvPr id="255" name="zj4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2324160" cy="3429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38080" y="5029200"/>
            <a:ext cx="3733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wearing a coa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4876920"/>
            <a:ext cx="3657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动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putting on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4920" y="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II.Quest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838080"/>
            <a:ext cx="967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1.What is she wearing? 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585144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uc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585144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il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张晶3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2133720" cy="4191120"/>
          </a:xfrm>
          <a:prstGeom prst="rect">
            <a:avLst/>
          </a:prstGeom>
          <a:ln w="0">
            <a:noFill/>
          </a:ln>
        </p:spPr>
      </p:pic>
      <p:pic>
        <p:nvPicPr>
          <p:cNvPr id="263" name="张晶2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133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66680" y="4572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26668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I am coming.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是现在进行时吗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BD00028_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1904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5335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ffcc00"/>
                </a:solidFill>
                <a:latin typeface="Times New Roman"/>
              </a:rPr>
              <a:t>.Duty repor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762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75248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1.Who’s on duty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971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2.Is everyone here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114800"/>
            <a:ext cx="4343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3.What day i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t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S00975_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3733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04920"/>
            <a:ext cx="99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Spelling and pronunci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16002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e 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ousers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 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in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67652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600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895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nk  hu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d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895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8954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0384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ca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k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038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s/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4038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s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52578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bir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frie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2578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s/d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53341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z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4572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Times New Roman"/>
              </a:rPr>
              <a:t>.Talk about the pictur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094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E01981_" descr=""/>
          <p:cNvPicPr/>
          <p:nvPr/>
        </p:nvPicPr>
        <p:blipFill>
          <a:blip r:embed="rId1"/>
          <a:stretch/>
        </p:blipFill>
        <p:spPr>
          <a:xfrm>
            <a:off x="0" y="16002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124080" y="16765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e woman is </a:t>
            </a:r>
            <a:r>
              <a:rPr b="0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ski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2590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s the woman ski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35812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she i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457200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is the woman      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BD06518_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504960" cy="5790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68580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sing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9051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re they sing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31240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they ar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43434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502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.Stree and intona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is she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She’s mending her      bi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are you 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’m cleaning the      wind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s he singing a      so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Yes,he      is./  No,he      isn’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380880"/>
            <a:ext cx="76176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137160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1981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259092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124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380988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502920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11430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18288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36232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3048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365760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48769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777240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.Grammer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Using the Present Continuous Tense(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使用现在进行时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现在进行时表示现在（说话瞬间）正在进行或发生的动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谓语结构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否定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not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疑问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re they  playing      footb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Yes,they      are./  No,they     aren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30492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动词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-ing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形式的构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5800" y="914400"/>
          <a:ext cx="7772400" cy="5645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一般在动词原形后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以不发音的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结尾的，去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，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重读闭音节以一个辅音字母结尾的，双写这一字母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n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m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.Add –ing to the following 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572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371600"/>
            <a:ext cx="28195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1273320"/>
            <a:ext cx="243828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12952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3623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350532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5720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57150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12952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81680" y="23623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35053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56386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7:54:41Z</dcterms:created>
  <dc:creator>user5</dc:creator>
  <dc:description/>
  <dc:language>en-US</dc:language>
  <cp:lastModifiedBy>user</cp:lastModifiedBy>
  <dcterms:modified xsi:type="dcterms:W3CDTF">2002-04-09T07:34:48Z</dcterms:modified>
  <cp:revision>47</cp:revision>
  <dc:subject/>
  <dc:title>PowerPoint 演示文稿</dc:title>
</cp:coreProperties>
</file>