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0.gif" ContentType="image/gif"/>
  <Override PartName="/ppt/media/image22.wmf" ContentType="image/x-wmf"/>
  <Override PartName="/ppt/media/image2.gif" ContentType="image/gif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5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03F-8955-4BE2-89DC-D6960652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15D-7C86-48BB-86FE-E29203B6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BDA9-94D5-472A-91BF-DB4E83E4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BAC-DDFD-4D69-8985-A528EF78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2916-433B-46C5-B69B-6E83146C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023-7D31-451E-B988-5C9C623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F842-68B5-4F06-A348-7AE3261E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EC70-0529-4C92-BB6E-8AD0D3B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E1C5-B6DA-4E64-919F-2358918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EAD5-3BC3-4F26-A9CF-5DC5D7F9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06E8-E330-476E-AA2E-D0D58CA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48E-DBA3-4C59-8285-FAE44681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8D8-9C76-4E8B-9D09-52FFB40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F7EB-EF5C-430F-823E-A6A8FB7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90FE-B496-484A-9B8D-9A6DAD2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31F1-DAA9-4324-9F1E-64BBF3C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9F48-E407-4317-8DDB-A97D0018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C4C-61F2-4AC2-84ED-52F686B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FCB-2BA9-407D-8A0B-E3C9777D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F6B-5116-49FF-80C9-1D7E7E0F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FA2-0D2A-4A6D-8FD8-CCC0D09A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8F0-179A-4BBC-BF18-6CD3F06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41A-3C48-4238-B8C1-0F07727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99E-83BF-4EB8-92D7-75A32C2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21CC-CF32-422D-8B61-F36E31C6F0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023-6CB7-4CD8-94BB-E2F1CF513F3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04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467840" cy="439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14600" y="685800"/>
            <a:ext cx="4915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16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windy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rai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039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5" name="039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6" name="NA01468_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458964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: What’s  the weather like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B:It’s…                                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iny        snow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nny         wind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BD19563_" descr=""/>
          <p:cNvPicPr/>
          <p:nvPr/>
        </p:nvPicPr>
        <p:blipFill>
          <a:blip r:embed="rId1"/>
          <a:stretch/>
        </p:blipFill>
        <p:spPr>
          <a:xfrm flipH="1" rot="10800000">
            <a:off x="1143000" y="251460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l152" descr=""/>
          <p:cNvPicPr/>
          <p:nvPr/>
        </p:nvPicPr>
        <p:blipFill>
          <a:blip r:embed="rId1"/>
          <a:stretch/>
        </p:blipFill>
        <p:spPr>
          <a:xfrm>
            <a:off x="1339920" y="1143000"/>
            <a:ext cx="7651800" cy="5129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629400" y="259092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4114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W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648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ngh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9920" y="761760"/>
            <a:ext cx="7804080" cy="5514840"/>
          </a:xfrm>
          <a:prstGeom prst="rect">
            <a:avLst/>
          </a:prstGeom>
          <a:ln w="0">
            <a:noFill/>
          </a:ln>
        </p:spPr>
      </p:pic>
      <p:pic>
        <p:nvPicPr>
          <p:cNvPr id="145" name="l151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7696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(1) ——— the weather like today ?</a:t>
            </a:r>
            <a:br>
              <a:rPr sz="4400"/>
            </a:b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It’s __________ 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400" y="32004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indy                  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039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6520" y="2286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indy1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33526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2)What’s ____ weather like today?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6880" y="3657600"/>
            <a:ext cx="18288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n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039" descr=""/>
          <p:cNvPicPr/>
          <p:nvPr/>
        </p:nvPicPr>
        <p:blipFill>
          <a:blip r:embed="rId1"/>
          <a:stretch/>
        </p:blipFill>
        <p:spPr>
          <a:xfrm>
            <a:off x="6095880" y="464832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2438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A01682_" descr=""/>
          <p:cNvPicPr/>
          <p:nvPr/>
        </p:nvPicPr>
        <p:blipFill>
          <a:blip r:embed="rId2"/>
          <a:stretch/>
        </p:blipFill>
        <p:spPr>
          <a:xfrm>
            <a:off x="2895480" y="0"/>
            <a:ext cx="335304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14240"/>
            <a:ext cx="7620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3)What’s  the ________like  today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_ .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320040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now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039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2342880" cy="1096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2438280"/>
            <a:ext cx="22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D00297_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124080" cy="13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4)What’s the weather                     ____  today 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 .             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3276720"/>
            <a:ext cx="3047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039" descr=""/>
          <p:cNvPicPr/>
          <p:nvPr/>
        </p:nvPicPr>
        <p:blipFill>
          <a:blip r:embed="rId1"/>
          <a:stretch/>
        </p:blipFill>
        <p:spPr>
          <a:xfrm>
            <a:off x="5715000" y="541008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66680" y="289548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E00542_" descr=""/>
          <p:cNvPicPr/>
          <p:nvPr/>
        </p:nvPicPr>
        <p:blipFill>
          <a:blip r:embed="rId2"/>
          <a:stretch/>
        </p:blipFill>
        <p:spPr>
          <a:xfrm>
            <a:off x="2819520" y="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5)What’s the weather like ______?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’s _________.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320" y="35053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039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2343240" cy="1096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66680" y="30481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NA01680_" descr=""/>
          <p:cNvPicPr/>
          <p:nvPr/>
        </p:nvPicPr>
        <p:blipFill>
          <a:blip r:embed="rId2"/>
          <a:stretch/>
        </p:blipFill>
        <p:spPr>
          <a:xfrm>
            <a:off x="3048120" y="609480"/>
            <a:ext cx="32763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99576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175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177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029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sion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 现在是几点钟？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点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现在是差五分六点钟， 该吃晚饭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。今天是星期几？星期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time is it now? It’s four o’c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657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five to six. It’s time for su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00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ay is it today? It’s Thur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39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08" name="SO00820_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1819080" cy="1346400"/>
          </a:xfrm>
          <a:prstGeom prst="rect">
            <a:avLst/>
          </a:prstGeom>
          <a:ln w="0">
            <a:noFill/>
          </a:ln>
        </p:spPr>
      </p:pic>
      <p:pic>
        <p:nvPicPr>
          <p:cNvPr id="109" name="NA00042_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465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Lesson</a:t>
            </a:r>
            <a:r>
              <a:rPr b="0" lang="zh-CN" sz="4400" spc="-1" strike="noStrike">
                <a:solidFill>
                  <a:srgbClr val="ffcf01"/>
                </a:solidFill>
                <a:latin typeface="Tahoma"/>
              </a:rPr>
              <a:t>15 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What’s the weather                      like toda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3526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BL00526_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sun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0040" y="2091960"/>
            <a:ext cx="51120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today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t’s  sunny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NA01064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0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3333cc"/>
                </a:solidFill>
                <a:latin typeface="Tahoma"/>
              </a:rPr>
              <a:t>rain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rain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NA01682_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宋体"/>
              </a:rPr>
              <a:t>        </a:t>
            </a:r>
            <a:r>
              <a:rPr b="1" i="1" lang="en-US" sz="6600" spc="-1" strike="noStrike">
                <a:solidFill>
                  <a:srgbClr val="ffffff"/>
                </a:solidFill>
                <a:latin typeface="宋体"/>
              </a:rPr>
              <a:t>snowy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t’s  snowy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SO00257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oud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t’s cloud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NA01680_" descr=""/>
          <p:cNvPicPr/>
          <p:nvPr/>
        </p:nvPicPr>
        <p:blipFill>
          <a:blip r:embed="rId1"/>
          <a:stretch/>
        </p:blipFill>
        <p:spPr>
          <a:xfrm>
            <a:off x="-228600" y="279072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-481320"/>
            <a:ext cx="816300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i="1" lang="en-US" sz="6600" spc="-1" strike="noStrike">
                <a:solidFill>
                  <a:srgbClr val="ff99ff"/>
                </a:solidFill>
                <a:latin typeface="Tahoma"/>
              </a:rPr>
              <a:t>windy  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05080" y="2091960"/>
            <a:ext cx="4746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the  weather like 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’s  windy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956880"/>
            <a:ext cx="779292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w word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fteen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039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131" name="NA00433_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827440" cy="349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4:21:15Z</dcterms:created>
  <dc:creator>jxh</dc:creator>
  <dc:description/>
  <dc:language>en-US</dc:language>
  <cp:lastModifiedBy>jxh</cp:lastModifiedBy>
  <dcterms:modified xsi:type="dcterms:W3CDTF">2002-05-12T13:01:51Z</dcterms:modified>
  <cp:revision>56</cp:revision>
  <dc:subject/>
  <dc:title>Teaching design of Lesson 15 (Book I)</dc:title>
</cp:coreProperties>
</file>